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31.wmf" ContentType="image/x-wmf"/>
  <Override PartName="/ppt/media/image16.wmf" ContentType="image/x-wmf"/>
  <Override PartName="/ppt/media/image28.wmf" ContentType="image/x-wmf"/>
  <Override PartName="/ppt/media/image65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64.wmf" ContentType="image/x-wmf"/>
  <Override PartName="/ppt/media/image27.wmf" ContentType="image/x-wmf"/>
  <Override PartName="/ppt/media/image24.wmf" ContentType="image/x-wmf"/>
  <Override PartName="/ppt/media/image61.wmf" ContentType="image/x-wmf"/>
  <Override PartName="/ppt/media/image59.wmf" ContentType="image/x-wmf"/>
  <Override PartName="/ppt/media/image22.wmf" ContentType="image/x-wmf"/>
  <Override PartName="/ppt/media/image57.wmf" ContentType="image/x-wmf"/>
  <Override PartName="/ppt/media/image20.wmf" ContentType="image/x-wmf"/>
  <Override PartName="/ppt/media/image60.wmf" ContentType="image/x-wmf"/>
  <Override PartName="/ppt/media/image23.wmf" ContentType="image/x-wmf"/>
  <Override PartName="/ppt/media/image58.wmf" ContentType="image/x-wmf"/>
  <Override PartName="/ppt/media/image21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34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512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08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62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08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962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8739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512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ae00"/>
              </a:buClr>
              <a:buFont typeface="Zapf Dingba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8920" y="88920"/>
            <a:ext cx="8966160" cy="6680160"/>
          </a:xfrm>
          <a:prstGeom prst="rect">
            <a:avLst/>
          </a:prstGeom>
          <a:noFill/>
          <a:ln w="255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8530560" y="152280"/>
            <a:ext cx="611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AB1C-1B07-43B6-B079-E365E239C08A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9.wmf"/><Relationship Id="rId2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image" Target="../media/image25.wmf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wmf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4.wm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11360" y="228564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E 530 Molecular Simul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4223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ecture 23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ymmetric MD Integrator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avid A. Kofke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partment of Chemical Engineering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UNY Buffalo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ofke@eng.buffalo.edu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Oval 14"/>
          <p:cNvSpPr/>
          <p:nvPr/>
        </p:nvSpPr>
        <p:spPr>
          <a:xfrm>
            <a:off x="7848720" y="4724280"/>
            <a:ext cx="609480" cy="6098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1109520" y="4968720"/>
            <a:ext cx="3919680" cy="746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An Irreversible Integrator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marL="229680" indent="-2296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rward Euler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497520" indent="-1911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well known to be quite bad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975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975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xamine time reversibilit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497520" indent="-1911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ssume we have progressed forward in time an increment 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; positions and momenta are now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97520" indent="-1911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everse time, and step back to original condi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975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975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97520" indent="-1911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sert from above for                                  ; Simplif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975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975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97520" indent="-1911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qual only in limit of zero time step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765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Inequality indicates lack of time reversibility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765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Verlet integrators </a:t>
            </a: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are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time reversible 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</p:txBody>
      </p:sp>
      <p:graphicFrame>
        <p:nvGraphicFramePr>
          <p:cNvPr id="148" name="Object 4"/>
          <p:cNvGraphicFramePr/>
          <p:nvPr/>
        </p:nvGraphicFramePr>
        <p:xfrm>
          <a:off x="4495680" y="3075120"/>
          <a:ext cx="1181160" cy="35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075120"/>
                    <a:ext cx="118116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5"/>
          <p:cNvGraphicFramePr/>
          <p:nvPr/>
        </p:nvGraphicFramePr>
        <p:xfrm>
          <a:off x="3340080" y="4648320"/>
          <a:ext cx="2222640" cy="35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0080" y="4648320"/>
                    <a:ext cx="222264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6"/>
          <p:cNvGraphicFramePr/>
          <p:nvPr/>
        </p:nvGraphicFramePr>
        <p:xfrm>
          <a:off x="1981080" y="1600200"/>
          <a:ext cx="3200400" cy="72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1600200"/>
                    <a:ext cx="320040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7"/>
          <p:cNvSpPr/>
          <p:nvPr/>
        </p:nvSpPr>
        <p:spPr>
          <a:xfrm>
            <a:off x="5334120" y="1600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unit 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Object 8"/>
          <p:cNvGraphicFramePr/>
          <p:nvPr/>
        </p:nvGraphicFramePr>
        <p:xfrm>
          <a:off x="1143000" y="3798720"/>
          <a:ext cx="6186600" cy="77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3798720"/>
                    <a:ext cx="618660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10"/>
          <p:cNvGraphicFramePr/>
          <p:nvPr/>
        </p:nvGraphicFramePr>
        <p:xfrm>
          <a:off x="1206360" y="4952880"/>
          <a:ext cx="3746520" cy="800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8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06360" y="4952880"/>
                    <a:ext cx="374652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Oval 12"/>
          <p:cNvSpPr/>
          <p:nvPr/>
        </p:nvSpPr>
        <p:spPr>
          <a:xfrm>
            <a:off x="6248520" y="5867280"/>
            <a:ext cx="609480" cy="6098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reeform 13"/>
          <p:cNvSpPr/>
          <p:nvPr/>
        </p:nvSpPr>
        <p:spPr>
          <a:xfrm>
            <a:off x="6553080" y="5105520"/>
            <a:ext cx="1295640" cy="1066680"/>
          </a:xfrm>
          <a:custGeom>
            <a:avLst/>
            <a:gdLst/>
            <a:ahLst/>
            <a:rect l="l" t="t" r="r" b="b"/>
            <a:pathLst>
              <a:path w="816" h="672">
                <a:moveTo>
                  <a:pt x="0" y="672"/>
                </a:moveTo>
                <a:cubicBezTo>
                  <a:pt x="56" y="572"/>
                  <a:pt x="112" y="472"/>
                  <a:pt x="192" y="384"/>
                </a:cubicBezTo>
                <a:cubicBezTo>
                  <a:pt x="272" y="296"/>
                  <a:pt x="376" y="208"/>
                  <a:pt x="480" y="144"/>
                </a:cubicBezTo>
                <a:cubicBezTo>
                  <a:pt x="584" y="80"/>
                  <a:pt x="700" y="40"/>
                  <a:pt x="81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5"/>
          <p:cNvSpPr/>
          <p:nvPr/>
        </p:nvSpPr>
        <p:spPr>
          <a:xfrm flipH="1">
            <a:off x="7924320" y="5029200"/>
            <a:ext cx="228600" cy="30492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6"/>
          <p:cNvSpPr/>
          <p:nvPr/>
        </p:nvSpPr>
        <p:spPr>
          <a:xfrm>
            <a:off x="6553080" y="6172200"/>
            <a:ext cx="304920" cy="2286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17"/>
          <p:cNvSpPr/>
          <p:nvPr/>
        </p:nvSpPr>
        <p:spPr>
          <a:xfrm>
            <a:off x="8153280" y="4038480"/>
            <a:ext cx="609840" cy="60984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18"/>
          <p:cNvSpPr/>
          <p:nvPr/>
        </p:nvSpPr>
        <p:spPr>
          <a:xfrm>
            <a:off x="5486400" y="5486400"/>
            <a:ext cx="609480" cy="6094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Object 19"/>
          <p:cNvGraphicFramePr/>
          <p:nvPr/>
        </p:nvGraphicFramePr>
        <p:xfrm>
          <a:off x="6934320" y="5257800"/>
          <a:ext cx="252360" cy="228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6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934320" y="5257800"/>
                    <a:ext cx="25236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20"/>
          <p:cNvGraphicFramePr/>
          <p:nvPr/>
        </p:nvGraphicFramePr>
        <p:xfrm>
          <a:off x="6858000" y="6248520"/>
          <a:ext cx="419040" cy="264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8" name="Object 2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58000" y="6248520"/>
                    <a:ext cx="41904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21"/>
          <p:cNvGraphicFramePr/>
          <p:nvPr/>
        </p:nvGraphicFramePr>
        <p:xfrm>
          <a:off x="7486560" y="5410080"/>
          <a:ext cx="838440" cy="265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0" name="Object 2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486560" y="5410080"/>
                    <a:ext cx="83844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3"/>
          <p:cNvSpPr/>
          <p:nvPr/>
        </p:nvSpPr>
        <p:spPr>
          <a:xfrm>
            <a:off x="5410080" y="2743200"/>
            <a:ext cx="1752840" cy="6094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3809880" y="2743200"/>
            <a:ext cx="1524240" cy="609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ymplectic Symmetry 1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43360" indent="-243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nsider motion of a single particle in 1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27400" indent="-2026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escribed using a 2D phase space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x,p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Hamiltonia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quations of mo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hase spac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orthcoming result are easily generalized to higher dimensional phase space, but hard to visualiz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Object 4"/>
          <p:cNvGraphicFramePr/>
          <p:nvPr/>
        </p:nvGraphicFramePr>
        <p:xfrm>
          <a:off x="3200400" y="2209680"/>
          <a:ext cx="204480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209680"/>
                    <a:ext cx="204480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Text Box 5"/>
          <p:cNvSpPr/>
          <p:nvPr/>
        </p:nvSpPr>
        <p:spPr>
          <a:xfrm>
            <a:off x="6629400" y="2133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unit 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6"/>
          <p:cNvGraphicFramePr/>
          <p:nvPr/>
        </p:nvGraphicFramePr>
        <p:xfrm>
          <a:off x="3886200" y="2743200"/>
          <a:ext cx="32637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2743200"/>
                    <a:ext cx="32637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0" name="Group 15"/>
          <p:cNvGrpSpPr/>
          <p:nvPr/>
        </p:nvGrpSpPr>
        <p:grpSpPr>
          <a:xfrm>
            <a:off x="2590920" y="3962520"/>
            <a:ext cx="2462040" cy="1981080"/>
            <a:chOff x="2590920" y="3962520"/>
            <a:chExt cx="2462040" cy="1981080"/>
          </a:xfrm>
        </p:grpSpPr>
        <p:sp>
          <p:nvSpPr>
            <p:cNvPr id="181" name="Line 7"/>
            <p:cNvSpPr/>
            <p:nvPr/>
          </p:nvSpPr>
          <p:spPr>
            <a:xfrm>
              <a:off x="3733920" y="411480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8"/>
            <p:cNvSpPr/>
            <p:nvPr/>
          </p:nvSpPr>
          <p:spPr>
            <a:xfrm>
              <a:off x="2590920" y="502920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3" name="Object 9"/>
            <p:cNvGraphicFramePr/>
            <p:nvPr/>
          </p:nvGraphicFramePr>
          <p:xfrm>
            <a:off x="3772080" y="3962520"/>
            <a:ext cx="190440" cy="214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4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772080" y="3962520"/>
                      <a:ext cx="190440" cy="21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Object 10"/>
            <p:cNvGraphicFramePr/>
            <p:nvPr/>
          </p:nvGraphicFramePr>
          <p:xfrm>
            <a:off x="4889520" y="5048280"/>
            <a:ext cx="163440" cy="176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6" name="Object 1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89520" y="5048280"/>
                      <a:ext cx="163440" cy="17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Freeform 11"/>
          <p:cNvSpPr/>
          <p:nvPr/>
        </p:nvSpPr>
        <p:spPr>
          <a:xfrm>
            <a:off x="3009960" y="4267080"/>
            <a:ext cx="1359000" cy="1613160"/>
          </a:xfrm>
          <a:custGeom>
            <a:avLst/>
            <a:gdLst/>
            <a:ahLst/>
            <a:rect l="l" t="t" r="r" b="b"/>
            <a:pathLst>
              <a:path w="856" h="1016">
                <a:moveTo>
                  <a:pt x="120" y="200"/>
                </a:moveTo>
                <a:cubicBezTo>
                  <a:pt x="180" y="144"/>
                  <a:pt x="240" y="88"/>
                  <a:pt x="312" y="56"/>
                </a:cubicBezTo>
                <a:cubicBezTo>
                  <a:pt x="384" y="24"/>
                  <a:pt x="472" y="0"/>
                  <a:pt x="552" y="8"/>
                </a:cubicBezTo>
                <a:cubicBezTo>
                  <a:pt x="632" y="16"/>
                  <a:pt x="752" y="40"/>
                  <a:pt x="792" y="104"/>
                </a:cubicBezTo>
                <a:cubicBezTo>
                  <a:pt x="832" y="168"/>
                  <a:pt x="808" y="304"/>
                  <a:pt x="792" y="392"/>
                </a:cubicBezTo>
                <a:cubicBezTo>
                  <a:pt x="776" y="480"/>
                  <a:pt x="688" y="552"/>
                  <a:pt x="696" y="632"/>
                </a:cubicBezTo>
                <a:cubicBezTo>
                  <a:pt x="704" y="712"/>
                  <a:pt x="856" y="808"/>
                  <a:pt x="840" y="872"/>
                </a:cubicBezTo>
                <a:cubicBezTo>
                  <a:pt x="824" y="936"/>
                  <a:pt x="728" y="1016"/>
                  <a:pt x="600" y="1016"/>
                </a:cubicBezTo>
                <a:cubicBezTo>
                  <a:pt x="472" y="1016"/>
                  <a:pt x="144" y="944"/>
                  <a:pt x="72" y="872"/>
                </a:cubicBezTo>
                <a:cubicBezTo>
                  <a:pt x="0" y="800"/>
                  <a:pt x="84" y="692"/>
                  <a:pt x="168" y="58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4"/>
          <p:cNvSpPr/>
          <p:nvPr/>
        </p:nvSpPr>
        <p:spPr>
          <a:xfrm>
            <a:off x="4419720" y="4419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{p(t),x(t)} traj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ymplectic Symmetry 2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5560" y="762120"/>
            <a:ext cx="8875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nsider motion of a differential element through phase spac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34960" indent="-205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hape of element is distorted by mo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rea of the element is preserved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6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6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6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6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6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6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6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6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6960" indent="-246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is is a manifestation of the symplectic symmetry of the equations of mo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pSp>
        <p:nvGrpSpPr>
          <p:cNvPr id="191" name="Group 4"/>
          <p:cNvGrpSpPr/>
          <p:nvPr/>
        </p:nvGrpSpPr>
        <p:grpSpPr>
          <a:xfrm>
            <a:off x="914400" y="1905120"/>
            <a:ext cx="2462040" cy="1981080"/>
            <a:chOff x="914400" y="1905120"/>
            <a:chExt cx="2462040" cy="1981080"/>
          </a:xfrm>
        </p:grpSpPr>
        <p:sp>
          <p:nvSpPr>
            <p:cNvPr id="192" name="Line 5"/>
            <p:cNvSpPr/>
            <p:nvPr/>
          </p:nvSpPr>
          <p:spPr>
            <a:xfrm>
              <a:off x="2057400" y="205740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6"/>
            <p:cNvSpPr/>
            <p:nvPr/>
          </p:nvSpPr>
          <p:spPr>
            <a:xfrm>
              <a:off x="914400" y="297180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4" name="Object 7"/>
            <p:cNvGraphicFramePr/>
            <p:nvPr/>
          </p:nvGraphicFramePr>
          <p:xfrm>
            <a:off x="2095560" y="1905120"/>
            <a:ext cx="190440" cy="214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5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95560" y="1905120"/>
                      <a:ext cx="190440" cy="21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6" name="Object 8"/>
            <p:cNvGraphicFramePr/>
            <p:nvPr/>
          </p:nvGraphicFramePr>
          <p:xfrm>
            <a:off x="3213000" y="2990880"/>
            <a:ext cx="163440" cy="176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7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13000" y="2990880"/>
                      <a:ext cx="163440" cy="17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8" name="Rectangle 9"/>
          <p:cNvSpPr/>
          <p:nvPr/>
        </p:nvSpPr>
        <p:spPr>
          <a:xfrm>
            <a:off x="1828800" y="2743200"/>
            <a:ext cx="457200" cy="457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Group 15"/>
          <p:cNvGrpSpPr/>
          <p:nvPr/>
        </p:nvGrpSpPr>
        <p:grpSpPr>
          <a:xfrm>
            <a:off x="3557520" y="1905120"/>
            <a:ext cx="2462040" cy="1981080"/>
            <a:chOff x="3557520" y="1905120"/>
            <a:chExt cx="2462040" cy="1981080"/>
          </a:xfrm>
        </p:grpSpPr>
        <p:sp>
          <p:nvSpPr>
            <p:cNvPr id="200" name="Line 16"/>
            <p:cNvSpPr/>
            <p:nvPr/>
          </p:nvSpPr>
          <p:spPr>
            <a:xfrm>
              <a:off x="4700520" y="205740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17"/>
            <p:cNvSpPr/>
            <p:nvPr/>
          </p:nvSpPr>
          <p:spPr>
            <a:xfrm>
              <a:off x="3557520" y="297180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2" name="Object 18"/>
            <p:cNvGraphicFramePr/>
            <p:nvPr/>
          </p:nvGraphicFramePr>
          <p:xfrm>
            <a:off x="4738680" y="1905120"/>
            <a:ext cx="190440" cy="214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3" name="Object 1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738680" y="1905120"/>
                      <a:ext cx="190440" cy="21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4" name="Object 19"/>
            <p:cNvGraphicFramePr/>
            <p:nvPr/>
          </p:nvGraphicFramePr>
          <p:xfrm>
            <a:off x="5856120" y="2990880"/>
            <a:ext cx="163440" cy="176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5" name="Object 1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856120" y="2990880"/>
                      <a:ext cx="163440" cy="17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6" name="Group 20"/>
          <p:cNvGrpSpPr/>
          <p:nvPr/>
        </p:nvGrpSpPr>
        <p:grpSpPr>
          <a:xfrm>
            <a:off x="6200640" y="1905120"/>
            <a:ext cx="2462040" cy="1981080"/>
            <a:chOff x="6200640" y="1905120"/>
            <a:chExt cx="2462040" cy="1981080"/>
          </a:xfrm>
        </p:grpSpPr>
        <p:sp>
          <p:nvSpPr>
            <p:cNvPr id="207" name="Line 21"/>
            <p:cNvSpPr/>
            <p:nvPr/>
          </p:nvSpPr>
          <p:spPr>
            <a:xfrm>
              <a:off x="7343640" y="205740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22"/>
            <p:cNvSpPr/>
            <p:nvPr/>
          </p:nvSpPr>
          <p:spPr>
            <a:xfrm>
              <a:off x="6200640" y="297180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9" name="Object 23"/>
            <p:cNvGraphicFramePr/>
            <p:nvPr/>
          </p:nvGraphicFramePr>
          <p:xfrm>
            <a:off x="7381800" y="1905120"/>
            <a:ext cx="190440" cy="214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10" name="Object 23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381800" y="1905120"/>
                      <a:ext cx="190440" cy="21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1" name="Object 24"/>
            <p:cNvGraphicFramePr/>
            <p:nvPr/>
          </p:nvGraphicFramePr>
          <p:xfrm>
            <a:off x="8499240" y="2990880"/>
            <a:ext cx="163440" cy="176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12" name="Object 24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8499240" y="2990880"/>
                      <a:ext cx="163440" cy="17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3" name="Group 25"/>
          <p:cNvGrpSpPr/>
          <p:nvPr/>
        </p:nvGrpSpPr>
        <p:grpSpPr>
          <a:xfrm>
            <a:off x="914400" y="3962520"/>
            <a:ext cx="2462040" cy="1981080"/>
            <a:chOff x="914400" y="3962520"/>
            <a:chExt cx="2462040" cy="1981080"/>
          </a:xfrm>
        </p:grpSpPr>
        <p:sp>
          <p:nvSpPr>
            <p:cNvPr id="214" name="Line 26"/>
            <p:cNvSpPr/>
            <p:nvPr/>
          </p:nvSpPr>
          <p:spPr>
            <a:xfrm>
              <a:off x="2057400" y="411480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27"/>
            <p:cNvSpPr/>
            <p:nvPr/>
          </p:nvSpPr>
          <p:spPr>
            <a:xfrm>
              <a:off x="914400" y="502920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6" name="Object 28"/>
            <p:cNvGraphicFramePr/>
            <p:nvPr/>
          </p:nvGraphicFramePr>
          <p:xfrm>
            <a:off x="2095560" y="3962520"/>
            <a:ext cx="190440" cy="2142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17" name="Object 2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095560" y="3962520"/>
                      <a:ext cx="190440" cy="21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8" name="Object 29"/>
            <p:cNvGraphicFramePr/>
            <p:nvPr/>
          </p:nvGraphicFramePr>
          <p:xfrm>
            <a:off x="3213000" y="5048280"/>
            <a:ext cx="163440" cy="1760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19" name="Object 2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213000" y="5048280"/>
                      <a:ext cx="163440" cy="17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0" name="Group 30"/>
          <p:cNvGrpSpPr/>
          <p:nvPr/>
        </p:nvGrpSpPr>
        <p:grpSpPr>
          <a:xfrm>
            <a:off x="3557520" y="3962520"/>
            <a:ext cx="2462040" cy="1981080"/>
            <a:chOff x="3557520" y="3962520"/>
            <a:chExt cx="2462040" cy="1981080"/>
          </a:xfrm>
        </p:grpSpPr>
        <p:sp>
          <p:nvSpPr>
            <p:cNvPr id="221" name="Line 31"/>
            <p:cNvSpPr/>
            <p:nvPr/>
          </p:nvSpPr>
          <p:spPr>
            <a:xfrm>
              <a:off x="4700520" y="411480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32"/>
            <p:cNvSpPr/>
            <p:nvPr/>
          </p:nvSpPr>
          <p:spPr>
            <a:xfrm>
              <a:off x="3557520" y="502920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3" name="Object 33"/>
            <p:cNvGraphicFramePr/>
            <p:nvPr/>
          </p:nvGraphicFramePr>
          <p:xfrm>
            <a:off x="4738680" y="3962520"/>
            <a:ext cx="190440" cy="2142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24" name="Object 33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738680" y="3962520"/>
                      <a:ext cx="190440" cy="21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5" name="Object 34"/>
            <p:cNvGraphicFramePr/>
            <p:nvPr/>
          </p:nvGraphicFramePr>
          <p:xfrm>
            <a:off x="5856120" y="5048280"/>
            <a:ext cx="163440" cy="176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26" name="Object 34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856120" y="5048280"/>
                      <a:ext cx="163440" cy="17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7" name="Group 35"/>
          <p:cNvGrpSpPr/>
          <p:nvPr/>
        </p:nvGrpSpPr>
        <p:grpSpPr>
          <a:xfrm>
            <a:off x="6200640" y="3962520"/>
            <a:ext cx="2462040" cy="1981080"/>
            <a:chOff x="6200640" y="3962520"/>
            <a:chExt cx="2462040" cy="1981080"/>
          </a:xfrm>
        </p:grpSpPr>
        <p:sp>
          <p:nvSpPr>
            <p:cNvPr id="228" name="Line 36"/>
            <p:cNvSpPr/>
            <p:nvPr/>
          </p:nvSpPr>
          <p:spPr>
            <a:xfrm>
              <a:off x="7343640" y="411480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37"/>
            <p:cNvSpPr/>
            <p:nvPr/>
          </p:nvSpPr>
          <p:spPr>
            <a:xfrm>
              <a:off x="6200640" y="502920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0" name="Object 38"/>
            <p:cNvGraphicFramePr/>
            <p:nvPr/>
          </p:nvGraphicFramePr>
          <p:xfrm>
            <a:off x="7381800" y="3962520"/>
            <a:ext cx="190440" cy="2142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31" name="Object 38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381800" y="3962520"/>
                      <a:ext cx="190440" cy="21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2" name="Object 39"/>
            <p:cNvGraphicFramePr/>
            <p:nvPr/>
          </p:nvGraphicFramePr>
          <p:xfrm>
            <a:off x="8499240" y="5048280"/>
            <a:ext cx="163440" cy="176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33" name="Object 39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499240" y="5048280"/>
                      <a:ext cx="163440" cy="17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4" name="AutoShape 40"/>
          <p:cNvSpPr/>
          <p:nvPr/>
        </p:nvSpPr>
        <p:spPr>
          <a:xfrm rot="1275600">
            <a:off x="4876560" y="2209680"/>
            <a:ext cx="761760" cy="457200"/>
          </a:xfrm>
          <a:prstGeom prst="parallelogram">
            <a:avLst>
              <a:gd name="adj" fmla="val 64648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41"/>
          <p:cNvSpPr/>
          <p:nvPr/>
        </p:nvSpPr>
        <p:spPr>
          <a:xfrm rot="1884600">
            <a:off x="7391520" y="2666880"/>
            <a:ext cx="990360" cy="609840"/>
          </a:xfrm>
          <a:prstGeom prst="parallelogram">
            <a:avLst>
              <a:gd name="adj" fmla="val 122038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42"/>
          <p:cNvSpPr/>
          <p:nvPr/>
        </p:nvSpPr>
        <p:spPr>
          <a:xfrm rot="3270000">
            <a:off x="7068960" y="4816440"/>
            <a:ext cx="990720" cy="380880"/>
          </a:xfrm>
          <a:prstGeom prst="parallelogram">
            <a:avLst>
              <a:gd name="adj" fmla="val 132694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45"/>
          <p:cNvSpPr/>
          <p:nvPr/>
        </p:nvSpPr>
        <p:spPr>
          <a:xfrm rot="1275600">
            <a:off x="4188960" y="5108040"/>
            <a:ext cx="609840" cy="481320"/>
          </a:xfrm>
          <a:custGeom>
            <a:avLst/>
            <a:gdLst>
              <a:gd name="textAreaLeft" fmla="*/ 127080 w 609840"/>
              <a:gd name="textAreaRight" fmla="*/ 482760 w 609840"/>
              <a:gd name="textAreaTop" fmla="*/ 100080 h 481320"/>
              <a:gd name="textAreaBottom" fmla="*/ 381240 h 48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46"/>
          <p:cNvSpPr/>
          <p:nvPr/>
        </p:nvSpPr>
        <p:spPr>
          <a:xfrm rot="3550200">
            <a:off x="1446840" y="4496400"/>
            <a:ext cx="609480" cy="480960"/>
          </a:xfrm>
          <a:custGeom>
            <a:avLst/>
            <a:gdLst>
              <a:gd name="textAreaLeft" fmla="*/ 96120 w 609480"/>
              <a:gd name="textAreaRight" fmla="*/ 513360 w 609480"/>
              <a:gd name="textAreaTop" fmla="*/ 75960 h 480960"/>
              <a:gd name="textAreaBottom" fmla="*/ 405000 h 48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233" y="21600"/>
                </a:lnTo>
                <a:lnTo>
                  <a:pt x="1836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6524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lassical Harmonic Oscillator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xactly solvable examp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241" name="Object 4"/>
          <p:cNvGraphicFramePr/>
          <p:nvPr/>
        </p:nvGraphicFramePr>
        <p:xfrm>
          <a:off x="4572000" y="1371600"/>
          <a:ext cx="1955880" cy="39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195588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Object 5"/>
          <p:cNvGraphicFramePr/>
          <p:nvPr/>
        </p:nvGraphicFramePr>
        <p:xfrm>
          <a:off x="1828800" y="1905120"/>
          <a:ext cx="811080" cy="118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1905120"/>
                    <a:ext cx="81108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Object 6"/>
          <p:cNvGraphicFramePr/>
          <p:nvPr/>
        </p:nvGraphicFramePr>
        <p:xfrm>
          <a:off x="3200400" y="2133720"/>
          <a:ext cx="927000" cy="64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2133720"/>
                    <a:ext cx="9270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7"/>
          <p:cNvGraphicFramePr/>
          <p:nvPr/>
        </p:nvGraphicFramePr>
        <p:xfrm>
          <a:off x="2514600" y="3962520"/>
          <a:ext cx="2044800" cy="64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8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14600" y="3962520"/>
                    <a:ext cx="20448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8"/>
          <p:cNvGraphicFramePr/>
          <p:nvPr/>
        </p:nvGraphicFramePr>
        <p:xfrm>
          <a:off x="1295280" y="4876920"/>
          <a:ext cx="2705400" cy="392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0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95280" y="4876920"/>
                    <a:ext cx="270540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Line 11"/>
          <p:cNvSpPr/>
          <p:nvPr/>
        </p:nvSpPr>
        <p:spPr>
          <a:xfrm>
            <a:off x="7848720" y="3733920"/>
            <a:ext cx="2286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Picture 12" descr=""/>
          <p:cNvPicPr/>
          <p:nvPr/>
        </p:nvPicPr>
        <p:blipFill>
          <a:blip r:embed="rId11"/>
          <a:stretch/>
        </p:blipFill>
        <p:spPr>
          <a:xfrm>
            <a:off x="5029200" y="2819520"/>
            <a:ext cx="3859200" cy="3657600"/>
          </a:xfrm>
          <a:prstGeom prst="rect">
            <a:avLst/>
          </a:prstGeom>
          <a:ln w="0">
            <a:noFill/>
          </a:ln>
        </p:spPr>
      </p:pic>
      <p:sp>
        <p:nvSpPr>
          <p:cNvPr id="253" name="Line 13"/>
          <p:cNvSpPr/>
          <p:nvPr/>
        </p:nvSpPr>
        <p:spPr>
          <a:xfrm flipH="1">
            <a:off x="7391160" y="472428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Liouville Formulation 1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37304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Operator-based view of mechanic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Very useful for deriving symplectic, time-reversible integration schem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nsider an arbitrary function of phase-space coordinat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20720" indent="-2772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nd thereby a function of tim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ime derivative i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efine the Liouville operator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o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256" name="Object 4"/>
          <p:cNvGraphicFramePr/>
          <p:nvPr/>
        </p:nvGraphicFramePr>
        <p:xfrm>
          <a:off x="1955880" y="3506760"/>
          <a:ext cx="1218960" cy="3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5880" y="3506760"/>
                    <a:ext cx="121896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5"/>
          <p:cNvGraphicFramePr/>
          <p:nvPr/>
        </p:nvGraphicFramePr>
        <p:xfrm>
          <a:off x="3467160" y="3798720"/>
          <a:ext cx="143496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67160" y="3798720"/>
                    <a:ext cx="143496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6"/>
          <p:cNvGraphicFramePr/>
          <p:nvPr/>
        </p:nvGraphicFramePr>
        <p:xfrm>
          <a:off x="1816200" y="4630680"/>
          <a:ext cx="1536480" cy="63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1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16200" y="4630680"/>
                    <a:ext cx="153648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7"/>
          <p:cNvGraphicFramePr/>
          <p:nvPr/>
        </p:nvGraphicFramePr>
        <p:xfrm>
          <a:off x="1828800" y="5487840"/>
          <a:ext cx="736560" cy="303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3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28800" y="5487840"/>
                    <a:ext cx="736560" cy="3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Liouville Formulation 2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Operator form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is has the solu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 principle this gives f at any time 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 practice it is not directly useful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618ffd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 be the phase-space vector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en the solution gives the trajectory through phase spac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Harmonic oscillator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Object 7"/>
          <p:cNvGraphicFramePr/>
          <p:nvPr/>
        </p:nvGraphicFramePr>
        <p:xfrm>
          <a:off x="1784520" y="1549440"/>
          <a:ext cx="82548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4520" y="1549440"/>
                    <a:ext cx="8254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8"/>
          <p:cNvGraphicFramePr/>
          <p:nvPr/>
        </p:nvGraphicFramePr>
        <p:xfrm>
          <a:off x="1828800" y="2514600"/>
          <a:ext cx="140976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2514600"/>
                    <a:ext cx="140976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9"/>
          <p:cNvGraphicFramePr/>
          <p:nvPr/>
        </p:nvGraphicFramePr>
        <p:xfrm>
          <a:off x="5162400" y="3733920"/>
          <a:ext cx="215928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1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62400" y="3733920"/>
                    <a:ext cx="21592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10"/>
          <p:cNvGraphicFramePr/>
          <p:nvPr/>
        </p:nvGraphicFramePr>
        <p:xfrm>
          <a:off x="2311560" y="5943600"/>
          <a:ext cx="1955520" cy="64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3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11560" y="5943600"/>
                    <a:ext cx="19555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Object 11"/>
          <p:cNvGraphicFramePr/>
          <p:nvPr/>
        </p:nvGraphicFramePr>
        <p:xfrm>
          <a:off x="2057400" y="5105520"/>
          <a:ext cx="2489040" cy="671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5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7400" y="5105520"/>
                    <a:ext cx="24890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AutoShape 12"/>
          <p:cNvSpPr/>
          <p:nvPr/>
        </p:nvSpPr>
        <p:spPr>
          <a:xfrm>
            <a:off x="1752480" y="60958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eparation of Liouville Operator 1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osition and momentum part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ropagator of either part can be solved analytically by itself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279" name="Object 4"/>
          <p:cNvGraphicFramePr/>
          <p:nvPr/>
        </p:nvGraphicFramePr>
        <p:xfrm>
          <a:off x="1886040" y="2558880"/>
          <a:ext cx="153648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86040" y="2558880"/>
                    <a:ext cx="15364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5"/>
          <p:cNvGraphicFramePr/>
          <p:nvPr/>
        </p:nvGraphicFramePr>
        <p:xfrm>
          <a:off x="6477120" y="4419720"/>
          <a:ext cx="128268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4419720"/>
                    <a:ext cx="12826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Object 6"/>
          <p:cNvGraphicFramePr/>
          <p:nvPr/>
        </p:nvGraphicFramePr>
        <p:xfrm>
          <a:off x="1022400" y="4324320"/>
          <a:ext cx="2539800" cy="154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22400" y="4324320"/>
                    <a:ext cx="253980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7"/>
          <p:cNvGraphicFramePr/>
          <p:nvPr/>
        </p:nvGraphicFramePr>
        <p:xfrm>
          <a:off x="3645000" y="4313160"/>
          <a:ext cx="2324160" cy="862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6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45000" y="4313160"/>
                    <a:ext cx="232416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Object 8"/>
          <p:cNvGraphicFramePr/>
          <p:nvPr/>
        </p:nvGraphicFramePr>
        <p:xfrm>
          <a:off x="3632040" y="5087880"/>
          <a:ext cx="2349720" cy="860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8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32040" y="5087880"/>
                    <a:ext cx="234972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eparation of Liouville Operator 2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iouville components do not commut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esult differs depending on order in which they are applied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Otherwise we could writ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e could then apply each propagator in sequence to move the system ahead in tim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291" name="Object 4"/>
          <p:cNvGraphicFramePr/>
          <p:nvPr/>
        </p:nvGraphicFramePr>
        <p:xfrm>
          <a:off x="1752480" y="2351160"/>
          <a:ext cx="2210040" cy="39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351160"/>
                    <a:ext cx="221004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9"/>
          <p:cNvGraphicFramePr/>
          <p:nvPr/>
        </p:nvGraphicFramePr>
        <p:xfrm>
          <a:off x="1828800" y="3403440"/>
          <a:ext cx="2387520" cy="33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3403440"/>
                    <a:ext cx="238752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10"/>
          <p:cNvGraphicFramePr/>
          <p:nvPr/>
        </p:nvGraphicFramePr>
        <p:xfrm>
          <a:off x="4495680" y="4572000"/>
          <a:ext cx="1866960" cy="49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6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4572000"/>
                    <a:ext cx="186696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AutoShape 12"/>
          <p:cNvSpPr/>
          <p:nvPr/>
        </p:nvSpPr>
        <p:spPr>
          <a:xfrm rot="16200000">
            <a:off x="5797440" y="4843080"/>
            <a:ext cx="304920" cy="685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3"/>
          <p:cNvSpPr/>
          <p:nvPr/>
        </p:nvSpPr>
        <p:spPr>
          <a:xfrm>
            <a:off x="5530680" y="5338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dvance moment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15"/>
          <p:cNvSpPr/>
          <p:nvPr/>
        </p:nvSpPr>
        <p:spPr>
          <a:xfrm rot="16200000">
            <a:off x="5644800" y="5447880"/>
            <a:ext cx="304920" cy="1295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6"/>
          <p:cNvSpPr/>
          <p:nvPr/>
        </p:nvSpPr>
        <p:spPr>
          <a:xfrm>
            <a:off x="5105520" y="61866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dvance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7"/>
          <p:cNvSpPr/>
          <p:nvPr/>
        </p:nvSpPr>
        <p:spPr>
          <a:xfrm>
            <a:off x="4648320" y="3352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This is incorr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Trotter Expans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 following relation does hol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056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or example, if P = 2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e cannot work with infinite P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05600" indent="-271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but for large P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4" name="Object 4"/>
          <p:cNvGraphicFramePr/>
          <p:nvPr/>
        </p:nvGraphicFramePr>
        <p:xfrm>
          <a:off x="1981080" y="2046240"/>
          <a:ext cx="3009960" cy="5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046240"/>
                    <a:ext cx="300996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Object 5"/>
          <p:cNvGraphicFramePr/>
          <p:nvPr/>
        </p:nvGraphicFramePr>
        <p:xfrm>
          <a:off x="1981080" y="3276720"/>
          <a:ext cx="3594240" cy="143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276720"/>
                    <a:ext cx="3594240" cy="14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Text Box 6"/>
          <p:cNvSpPr/>
          <p:nvPr/>
        </p:nvSpPr>
        <p:spPr>
          <a:xfrm>
            <a:off x="5867280" y="3276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plus a cor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9" name="Object 7"/>
          <p:cNvGraphicFramePr/>
          <p:nvPr/>
        </p:nvGraphicFramePr>
        <p:xfrm>
          <a:off x="2006640" y="5861160"/>
          <a:ext cx="3251160" cy="55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06640" y="5861160"/>
                    <a:ext cx="325116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8856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Formulating an Integrator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Using the large-P approxim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o advance the system over the time interval 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79240" indent="-222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break Liouville operator into displacement parts iL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+ iL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pply the Trotter expansion, and interpret T/P as a discretized time 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pplication of                                P times advances the system (approximately) through 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n integrator formulated this way will be both time-reversible and symplectic 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313" name="Object 4"/>
          <p:cNvGraphicFramePr/>
          <p:nvPr/>
        </p:nvGraphicFramePr>
        <p:xfrm>
          <a:off x="1981080" y="1676520"/>
          <a:ext cx="255276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676520"/>
                    <a:ext cx="25527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Object 5"/>
          <p:cNvGraphicFramePr/>
          <p:nvPr/>
        </p:nvGraphicFramePr>
        <p:xfrm>
          <a:off x="2133720" y="3200400"/>
          <a:ext cx="1536480" cy="33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200400"/>
                    <a:ext cx="153648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Object 6"/>
          <p:cNvGraphicFramePr/>
          <p:nvPr/>
        </p:nvGraphicFramePr>
        <p:xfrm>
          <a:off x="2286000" y="4343400"/>
          <a:ext cx="2806560" cy="55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4343400"/>
                    <a:ext cx="280656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Object 7"/>
          <p:cNvGraphicFramePr/>
          <p:nvPr/>
        </p:nvGraphicFramePr>
        <p:xfrm>
          <a:off x="3124080" y="5079960"/>
          <a:ext cx="1879560" cy="330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0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5079960"/>
                    <a:ext cx="18795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523880" y="1739880"/>
            <a:ext cx="1447920" cy="13716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Molecular Dynamics Integr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2063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quations of motion in cartesian coordinat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7040" indent="-2570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reviously, we examined basic MD integrator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57280" indent="-2142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Verlet famil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Verlet; Leap-frog; Velocity Verlet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1" marL="557280" indent="-2142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opular because of their simplicity and effectivenes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oday we will consider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57280" indent="-2142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ymmetry features that make the Verlet methods work so well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ultiple-timestep extensions of the Verlet algorithm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Object 5"/>
          <p:cNvGraphicFramePr/>
          <p:nvPr/>
        </p:nvGraphicFramePr>
        <p:xfrm>
          <a:off x="1784520" y="1790640"/>
          <a:ext cx="876240" cy="12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4520" y="1790640"/>
                    <a:ext cx="876240" cy="12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6"/>
          <p:cNvGraphicFramePr/>
          <p:nvPr/>
        </p:nvGraphicFramePr>
        <p:xfrm>
          <a:off x="3657600" y="1892160"/>
          <a:ext cx="1155600" cy="166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892160"/>
                    <a:ext cx="1155600" cy="16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7"/>
          <p:cNvSpPr/>
          <p:nvPr/>
        </p:nvSpPr>
        <p:spPr>
          <a:xfrm>
            <a:off x="4248720" y="2806560"/>
            <a:ext cx="34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pairwise additive fo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498200" y="1982880"/>
            <a:ext cx="47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2-dimensional space (for exam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4800600" y="1816200"/>
            <a:ext cx="304920" cy="761760"/>
          </a:xfrm>
          <a:custGeom>
            <a:avLst/>
            <a:gdLst>
              <a:gd name="textAreaLeft" fmla="*/ 0 w 304920"/>
              <a:gd name="textAreaRight" fmla="*/ 110160 w 3049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12"/>
          <p:cNvSpPr/>
          <p:nvPr/>
        </p:nvSpPr>
        <p:spPr>
          <a:xfrm>
            <a:off x="6858000" y="349236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13"/>
          <p:cNvSpPr/>
          <p:nvPr/>
        </p:nvSpPr>
        <p:spPr>
          <a:xfrm>
            <a:off x="7162920" y="3492360"/>
            <a:ext cx="30456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14"/>
          <p:cNvSpPr/>
          <p:nvPr/>
        </p:nvSpPr>
        <p:spPr>
          <a:xfrm>
            <a:off x="7391520" y="3035160"/>
            <a:ext cx="30456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15"/>
          <p:cNvSpPr/>
          <p:nvPr/>
        </p:nvSpPr>
        <p:spPr>
          <a:xfrm>
            <a:off x="7391520" y="3797280"/>
            <a:ext cx="30456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6"/>
          <p:cNvSpPr/>
          <p:nvPr/>
        </p:nvSpPr>
        <p:spPr>
          <a:xfrm>
            <a:off x="7315200" y="3645000"/>
            <a:ext cx="176040" cy="241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7"/>
          <p:cNvSpPr/>
          <p:nvPr/>
        </p:nvSpPr>
        <p:spPr>
          <a:xfrm>
            <a:off x="7315200" y="3645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8"/>
          <p:cNvSpPr/>
          <p:nvPr/>
        </p:nvSpPr>
        <p:spPr>
          <a:xfrm flipV="1">
            <a:off x="7315200" y="349236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9"/>
          <p:cNvSpPr/>
          <p:nvPr/>
        </p:nvSpPr>
        <p:spPr>
          <a:xfrm>
            <a:off x="7315200" y="3645000"/>
            <a:ext cx="533520" cy="228600"/>
          </a:xfrm>
          <a:prstGeom prst="line">
            <a:avLst/>
          </a:prstGeom>
          <a:ln w="1908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0"/>
          <p:cNvSpPr/>
          <p:nvPr/>
        </p:nvSpPr>
        <p:spPr>
          <a:xfrm>
            <a:off x="7772400" y="364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8856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Examination of Integrator 1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nsider effect of one time step on positions and momenta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irst apply exp(iL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p</a:t>
            </a:r>
            <a:r>
              <a:rPr b="0" lang="el-GR" sz="2400" spc="-1" strike="noStrike">
                <a:solidFill>
                  <a:srgbClr val="618ffd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/2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n apply exp(iL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x</a:t>
            </a:r>
            <a:r>
              <a:rPr b="0" lang="el-GR" sz="2400" spc="-1" strike="noStrike">
                <a:solidFill>
                  <a:srgbClr val="618ffd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inally apply exp(iL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p</a:t>
            </a:r>
            <a:r>
              <a:rPr b="0" lang="el-GR" sz="2400" spc="-1" strike="noStrike">
                <a:solidFill>
                  <a:srgbClr val="618ffd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/2) agai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609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323" name="Object 7"/>
          <p:cNvGraphicFramePr/>
          <p:nvPr/>
        </p:nvGraphicFramePr>
        <p:xfrm>
          <a:off x="1676520" y="1638360"/>
          <a:ext cx="228600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638360"/>
                    <a:ext cx="22860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Object 8"/>
          <p:cNvGraphicFramePr/>
          <p:nvPr/>
        </p:nvGraphicFramePr>
        <p:xfrm>
          <a:off x="1193760" y="2895480"/>
          <a:ext cx="3568680" cy="90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3760" y="2895480"/>
                    <a:ext cx="356868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Object 9"/>
          <p:cNvGraphicFramePr/>
          <p:nvPr/>
        </p:nvGraphicFramePr>
        <p:xfrm>
          <a:off x="1238400" y="4210200"/>
          <a:ext cx="4305240" cy="1015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8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38400" y="4210200"/>
                    <a:ext cx="430524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Object 10"/>
          <p:cNvGraphicFramePr/>
          <p:nvPr/>
        </p:nvGraphicFramePr>
        <p:xfrm>
          <a:off x="1339920" y="5543640"/>
          <a:ext cx="5384880" cy="1041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0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39920" y="5543640"/>
                    <a:ext cx="53848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8856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Examination of Integrator 2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One time step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6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6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6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6960" indent="-246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xamine effect on coordinate and momentum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6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6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6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6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6960" indent="-246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618ffd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 the Velocity Verlet integrator!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6960" indent="-246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Higher-order algorithms can be derived systematically by including higher orders in the Trotter factoriz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34960" indent="-205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ot appealing because introduces derivatives of forc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Object 4"/>
          <p:cNvGraphicFramePr/>
          <p:nvPr/>
        </p:nvGraphicFramePr>
        <p:xfrm>
          <a:off x="1282680" y="1682640"/>
          <a:ext cx="530856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682640"/>
                    <a:ext cx="53085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Object 8"/>
          <p:cNvGraphicFramePr/>
          <p:nvPr/>
        </p:nvGraphicFramePr>
        <p:xfrm>
          <a:off x="2006640" y="3403440"/>
          <a:ext cx="3200400" cy="140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06640" y="3403440"/>
                    <a:ext cx="320040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A Deep Truth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Verlet integrator replaces the true Liouville propagator by an approximate on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e can make these equal by saying the approximate propagator is obtained as the propagator of an approximate Liouville operator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is corresponds to some unknown Hamiltonia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79240" indent="-222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nd this Hamiltonian is conserved by the Verlet propagator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e Verlet algorithm will not likely give rise to drift in the true Hamiltonian, since this </a:t>
            </a:r>
            <a:r>
              <a:rPr b="0" i="1" lang="ja-JP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hadow</a:t>
            </a:r>
            <a:r>
              <a:rPr b="0" i="1" lang="ja-JP" sz="21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Hamiltonian is conserved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9" name="Object 4"/>
          <p:cNvGraphicFramePr/>
          <p:nvPr/>
        </p:nvGraphicFramePr>
        <p:xfrm>
          <a:off x="2133720" y="1905120"/>
          <a:ext cx="2539800" cy="3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905120"/>
                    <a:ext cx="25398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Object 6"/>
          <p:cNvGraphicFramePr/>
          <p:nvPr/>
        </p:nvGraphicFramePr>
        <p:xfrm>
          <a:off x="1981080" y="3886200"/>
          <a:ext cx="3683160" cy="33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886200"/>
                    <a:ext cx="36831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Object 7"/>
          <p:cNvGraphicFramePr/>
          <p:nvPr/>
        </p:nvGraphicFramePr>
        <p:xfrm>
          <a:off x="1905120" y="4495680"/>
          <a:ext cx="1815840" cy="33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4495680"/>
                    <a:ext cx="181584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-6336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Other Decomposition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Other choices for the decomposition of the Liouville operator can be worthwhi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ome choices: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64480" indent="-2170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eparation of short- and long-ranged forc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eparation of fast and slow time-scale motion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pproach involves defining a reference system that is solved more precisely (more frequently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ifference between real and reference is updated over a longer time sca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RESPA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64480" indent="-2170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(Reversible) REference System Propagator Algorith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Uses numerical solution of referenc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NAPA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64480" indent="-2170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umerical Analytical Propagator Algorith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Uses a reference that can be solved analyticall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6858000" y="64771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Martyna, Tuckerman, Ber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RESPA: Force Decomposition 1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ecompose force into short (F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) and long (F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) range contributio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(x) is a switching function that turns off the force at some distanc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iouville operator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350" name="Object 4"/>
          <p:cNvGraphicFramePr/>
          <p:nvPr/>
        </p:nvGraphicFramePr>
        <p:xfrm>
          <a:off x="1752480" y="2844720"/>
          <a:ext cx="346716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844720"/>
                    <a:ext cx="346716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Object 5"/>
          <p:cNvGraphicFramePr/>
          <p:nvPr/>
        </p:nvGraphicFramePr>
        <p:xfrm>
          <a:off x="1492200" y="4870440"/>
          <a:ext cx="3200400" cy="140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92200" y="4870440"/>
                    <a:ext cx="320040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RESPA: Force Decomposition 2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iouville operator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rotter factorization of propagator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ecompose term treating short-range forc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ong-range forces are computed </a:t>
            </a:r>
            <a:r>
              <a:rPr b="0" i="1" lang="en-US" sz="2400" spc="-1" strike="noStrike">
                <a:solidFill>
                  <a:srgbClr val="618ff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times less frequently than short-range on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86800" indent="-2257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Long-range forces vary more slowl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ey are more expensive to calculate, because more pair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3906720" y="2921040"/>
            <a:ext cx="650880" cy="533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" name="Object 6"/>
          <p:cNvGraphicFramePr/>
          <p:nvPr/>
        </p:nvGraphicFramePr>
        <p:xfrm>
          <a:off x="2197080" y="2921040"/>
          <a:ext cx="331488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7080" y="2921040"/>
                    <a:ext cx="33148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Object 9"/>
          <p:cNvGraphicFramePr/>
          <p:nvPr/>
        </p:nvGraphicFramePr>
        <p:xfrm>
          <a:off x="3505320" y="1625760"/>
          <a:ext cx="190476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625760"/>
                    <a:ext cx="19047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Object 12"/>
          <p:cNvGraphicFramePr/>
          <p:nvPr/>
        </p:nvGraphicFramePr>
        <p:xfrm>
          <a:off x="1981080" y="4140360"/>
          <a:ext cx="3479760" cy="73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2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4140360"/>
                    <a:ext cx="347976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Object 13"/>
          <p:cNvGraphicFramePr/>
          <p:nvPr/>
        </p:nvGraphicFramePr>
        <p:xfrm>
          <a:off x="6705720" y="4140360"/>
          <a:ext cx="799920" cy="60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4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05720" y="4140360"/>
                    <a:ext cx="7999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RESPA: Force Decomposition 3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ull RESPA propagator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rocedur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epeat for n step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update short-range force, evaluate new momenta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evaluate new positions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valuate long-range forces, update momenta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Object 5"/>
          <p:cNvGraphicFramePr/>
          <p:nvPr/>
        </p:nvGraphicFramePr>
        <p:xfrm>
          <a:off x="1574640" y="2021040"/>
          <a:ext cx="569124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2021040"/>
                    <a:ext cx="569124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8"/>
          <p:cNvGraphicFramePr/>
          <p:nvPr/>
        </p:nvGraphicFramePr>
        <p:xfrm>
          <a:off x="7924680" y="2057400"/>
          <a:ext cx="80028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4680" y="2057400"/>
                    <a:ext cx="8002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RESPA:  Time-Scale Decomposi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any systems display disparate time scales of mo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assive particles interacting with light on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helium in argon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tiff and loose potential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intramolecular and intermolecular forces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pproach works as befor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tegrate fast motions (degrees of freedom) using short time step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tegrate slow motions using long time step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Integration Algorithm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2063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eatures of a good integrator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46200" indent="-2484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inimal need to compute forces (a very expensive calculation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good stability for large time step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good accuracy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onserves energy and momentu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noise less important than drift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 true (continuum) equations of motions display certain symmetri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46200" indent="-2484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ime-reversibl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rea-preserving (symplectic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Good integrators can be constructed by paying attention to these features 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ymmetry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n object displays symmetry if some transformation leaves it (or something about it) unaltere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3886200" y="2590920"/>
            <a:ext cx="1752480" cy="8380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2286000" y="2514600"/>
            <a:ext cx="914400" cy="9144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380880" y="2590920"/>
            <a:ext cx="160020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 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0º r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izontal ref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2286000" y="3962520"/>
            <a:ext cx="914400" cy="9144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2286000" y="5486400"/>
            <a:ext cx="914400" cy="9144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0"/>
          <p:cNvSpPr/>
          <p:nvPr/>
        </p:nvSpPr>
        <p:spPr>
          <a:xfrm rot="5400000">
            <a:off x="3885840" y="4038480"/>
            <a:ext cx="1752840" cy="8380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809880" y="5486400"/>
            <a:ext cx="1752840" cy="8380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12"/>
          <p:cNvSpPr/>
          <p:nvPr/>
        </p:nvSpPr>
        <p:spPr>
          <a:xfrm>
            <a:off x="6248520" y="2666880"/>
            <a:ext cx="838080" cy="685800"/>
          </a:xfrm>
          <a:prstGeom prst="rightArrow">
            <a:avLst>
              <a:gd name="adj1" fmla="val 50000"/>
              <a:gd name="adj2" fmla="val 30551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13"/>
          <p:cNvSpPr/>
          <p:nvPr/>
        </p:nvSpPr>
        <p:spPr>
          <a:xfrm rot="5400000">
            <a:off x="6247800" y="3962160"/>
            <a:ext cx="838080" cy="685800"/>
          </a:xfrm>
          <a:prstGeom prst="rightArrow">
            <a:avLst>
              <a:gd name="adj1" fmla="val 50000"/>
              <a:gd name="adj2" fmla="val 30551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14"/>
          <p:cNvSpPr/>
          <p:nvPr/>
        </p:nvSpPr>
        <p:spPr>
          <a:xfrm flipH="1">
            <a:off x="6248520" y="5410080"/>
            <a:ext cx="838080" cy="685800"/>
          </a:xfrm>
          <a:prstGeom prst="rightArrow">
            <a:avLst>
              <a:gd name="adj1" fmla="val 50000"/>
              <a:gd name="adj2" fmla="val 30551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3"/>
          <p:cNvSpPr/>
          <p:nvPr/>
        </p:nvSpPr>
        <p:spPr>
          <a:xfrm>
            <a:off x="4267080" y="1295280"/>
            <a:ext cx="4648320" cy="51055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22"/>
          <p:cNvSpPr/>
          <p:nvPr/>
        </p:nvSpPr>
        <p:spPr>
          <a:xfrm>
            <a:off x="4419720" y="4876920"/>
            <a:ext cx="4343400" cy="1371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21"/>
          <p:cNvSpPr/>
          <p:nvPr/>
        </p:nvSpPr>
        <p:spPr>
          <a:xfrm>
            <a:off x="4419720" y="2514600"/>
            <a:ext cx="4343400" cy="12193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Time Symmetry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320" y="11430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ath traced by a mechanical system is unchanged upon reversal of momenta or tim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72040" indent="-2199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.g., motion in a constant gravitational field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nother view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72040" indent="-2199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ubstitution</a:t>
            </a:r>
            <a:br>
              <a:rPr sz="2100"/>
            </a:br>
            <a:br>
              <a:rPr sz="2100"/>
            </a:b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leaves equations </a:t>
            </a: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of motion unchanged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6"/>
          <p:cNvGraphicFramePr/>
          <p:nvPr/>
        </p:nvGraphicFramePr>
        <p:xfrm>
          <a:off x="1219320" y="3048120"/>
          <a:ext cx="1968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048120"/>
                    <a:ext cx="1968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Rectangle 7"/>
          <p:cNvSpPr/>
          <p:nvPr/>
        </p:nvSpPr>
        <p:spPr>
          <a:xfrm>
            <a:off x="4572000" y="2286000"/>
            <a:ext cx="3962520" cy="152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8"/>
          <p:cNvSpPr/>
          <p:nvPr/>
        </p:nvSpPr>
        <p:spPr>
          <a:xfrm flipV="1">
            <a:off x="4876920" y="1905120"/>
            <a:ext cx="457200" cy="380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reeform 9"/>
          <p:cNvSpPr/>
          <p:nvPr/>
        </p:nvSpPr>
        <p:spPr>
          <a:xfrm>
            <a:off x="4876920" y="2658960"/>
            <a:ext cx="2876400" cy="770040"/>
          </a:xfrm>
          <a:custGeom>
            <a:avLst/>
            <a:gdLst/>
            <a:ahLst/>
            <a:rect l="l" t="t" r="r" b="b"/>
            <a:pathLst>
              <a:path w="1812" h="485">
                <a:moveTo>
                  <a:pt x="0" y="485"/>
                </a:moveTo>
                <a:cubicBezTo>
                  <a:pt x="108" y="401"/>
                  <a:pt x="216" y="317"/>
                  <a:pt x="336" y="245"/>
                </a:cubicBezTo>
                <a:cubicBezTo>
                  <a:pt x="456" y="173"/>
                  <a:pt x="592" y="93"/>
                  <a:pt x="720" y="53"/>
                </a:cubicBezTo>
                <a:cubicBezTo>
                  <a:pt x="848" y="13"/>
                  <a:pt x="971" y="0"/>
                  <a:pt x="1104" y="5"/>
                </a:cubicBezTo>
                <a:cubicBezTo>
                  <a:pt x="1237" y="10"/>
                  <a:pt x="1403" y="42"/>
                  <a:pt x="1521" y="81"/>
                </a:cubicBezTo>
                <a:cubicBezTo>
                  <a:pt x="1639" y="120"/>
                  <a:pt x="1751" y="206"/>
                  <a:pt x="1812" y="239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4572000" y="3429000"/>
            <a:ext cx="3962520" cy="152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1"/>
          <p:cNvSpPr/>
          <p:nvPr/>
        </p:nvSpPr>
        <p:spPr>
          <a:xfrm>
            <a:off x="7675560" y="2992320"/>
            <a:ext cx="304920" cy="2286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4572000" y="4648320"/>
            <a:ext cx="3962520" cy="152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5"/>
          <p:cNvSpPr/>
          <p:nvPr/>
        </p:nvSpPr>
        <p:spPr>
          <a:xfrm>
            <a:off x="7391520" y="3962520"/>
            <a:ext cx="304560" cy="22860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4572000" y="5867280"/>
            <a:ext cx="3962520" cy="152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reeform 18"/>
          <p:cNvSpPr/>
          <p:nvPr/>
        </p:nvSpPr>
        <p:spPr>
          <a:xfrm>
            <a:off x="4876920" y="5105520"/>
            <a:ext cx="2876400" cy="769680"/>
          </a:xfrm>
          <a:custGeom>
            <a:avLst/>
            <a:gdLst/>
            <a:ahLst/>
            <a:rect l="l" t="t" r="r" b="b"/>
            <a:pathLst>
              <a:path w="1812" h="485">
                <a:moveTo>
                  <a:pt x="0" y="485"/>
                </a:moveTo>
                <a:cubicBezTo>
                  <a:pt x="108" y="401"/>
                  <a:pt x="216" y="317"/>
                  <a:pt x="336" y="245"/>
                </a:cubicBezTo>
                <a:cubicBezTo>
                  <a:pt x="456" y="173"/>
                  <a:pt x="592" y="93"/>
                  <a:pt x="720" y="53"/>
                </a:cubicBezTo>
                <a:cubicBezTo>
                  <a:pt x="848" y="13"/>
                  <a:pt x="971" y="0"/>
                  <a:pt x="1104" y="5"/>
                </a:cubicBezTo>
                <a:cubicBezTo>
                  <a:pt x="1237" y="10"/>
                  <a:pt x="1403" y="42"/>
                  <a:pt x="1521" y="81"/>
                </a:cubicBezTo>
                <a:cubicBezTo>
                  <a:pt x="1639" y="120"/>
                  <a:pt x="1751" y="206"/>
                  <a:pt x="1812" y="239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20"/>
          <p:cNvSpPr/>
          <p:nvPr/>
        </p:nvSpPr>
        <p:spPr>
          <a:xfrm flipV="1">
            <a:off x="4419720" y="5866920"/>
            <a:ext cx="457200" cy="38124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24"/>
          <p:cNvSpPr/>
          <p:nvPr/>
        </p:nvSpPr>
        <p:spPr>
          <a:xfrm>
            <a:off x="2666880" y="4191120"/>
            <a:ext cx="1447920" cy="13716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25"/>
          <p:cNvGraphicFramePr/>
          <p:nvPr/>
        </p:nvGraphicFramePr>
        <p:xfrm>
          <a:off x="2927520" y="4241880"/>
          <a:ext cx="876240" cy="1231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" name="Object 2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27520" y="4241880"/>
                    <a:ext cx="876240" cy="12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26"/>
          <p:cNvGraphicFramePr/>
          <p:nvPr/>
        </p:nvGraphicFramePr>
        <p:xfrm>
          <a:off x="1104840" y="5041800"/>
          <a:ext cx="800280" cy="520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6" name="Object 2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04840" y="5041800"/>
                    <a:ext cx="800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An Irreversible Integrator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rward Euler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well known to be quite bad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xamine time reversibilit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ssume we have progressed forward in time an increment 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; positions and momenta are now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Object 8"/>
          <p:cNvGraphicFramePr/>
          <p:nvPr/>
        </p:nvGraphicFramePr>
        <p:xfrm>
          <a:off x="4495680" y="3075120"/>
          <a:ext cx="1181160" cy="35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075120"/>
                    <a:ext cx="118116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9"/>
          <p:cNvGraphicFramePr/>
          <p:nvPr/>
        </p:nvGraphicFramePr>
        <p:xfrm>
          <a:off x="1981080" y="1600200"/>
          <a:ext cx="3200400" cy="72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1600200"/>
                    <a:ext cx="320040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10"/>
          <p:cNvSpPr/>
          <p:nvPr/>
        </p:nvSpPr>
        <p:spPr>
          <a:xfrm>
            <a:off x="5334120" y="1600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unit 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An Irreversible Integrator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rward Euler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well known to be quite bad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xamine time reversibilit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ssume we have progressed forward in time an increment 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; positions and momenta are now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everse time, and step back to original condi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Object 6"/>
          <p:cNvGraphicFramePr/>
          <p:nvPr/>
        </p:nvGraphicFramePr>
        <p:xfrm>
          <a:off x="4495680" y="3075120"/>
          <a:ext cx="1181160" cy="35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075120"/>
                    <a:ext cx="118116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8"/>
          <p:cNvGraphicFramePr/>
          <p:nvPr/>
        </p:nvGraphicFramePr>
        <p:xfrm>
          <a:off x="1981080" y="1600200"/>
          <a:ext cx="3200400" cy="72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1600200"/>
                    <a:ext cx="320040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Text Box 9"/>
          <p:cNvSpPr/>
          <p:nvPr/>
        </p:nvSpPr>
        <p:spPr>
          <a:xfrm>
            <a:off x="5334120" y="1600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unit 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11"/>
          <p:cNvGraphicFramePr/>
          <p:nvPr/>
        </p:nvGraphicFramePr>
        <p:xfrm>
          <a:off x="1143000" y="3798720"/>
          <a:ext cx="6186600" cy="77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3798720"/>
                    <a:ext cx="618660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An Irreversible Integrator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rward Euler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76080" indent="-2599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well known to be quite bad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xamine time reversibilit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76080" indent="-2599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ssume we have progressed forward in time an increment 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; positions and momenta are now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everse time, and step back to original condi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sert from above for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Object 6"/>
          <p:cNvGraphicFramePr/>
          <p:nvPr/>
        </p:nvGraphicFramePr>
        <p:xfrm>
          <a:off x="4495680" y="3075120"/>
          <a:ext cx="1181160" cy="35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075120"/>
                    <a:ext cx="118116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7"/>
          <p:cNvGraphicFramePr/>
          <p:nvPr/>
        </p:nvGraphicFramePr>
        <p:xfrm>
          <a:off x="3340080" y="4648320"/>
          <a:ext cx="2222640" cy="35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0080" y="4648320"/>
                    <a:ext cx="222264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9"/>
          <p:cNvGraphicFramePr/>
          <p:nvPr/>
        </p:nvGraphicFramePr>
        <p:xfrm>
          <a:off x="1981080" y="1600200"/>
          <a:ext cx="3200400" cy="72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1600200"/>
                    <a:ext cx="320040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 Box 10"/>
          <p:cNvSpPr/>
          <p:nvPr/>
        </p:nvSpPr>
        <p:spPr>
          <a:xfrm>
            <a:off x="5334120" y="1600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unit 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Object 11"/>
          <p:cNvGraphicFramePr/>
          <p:nvPr/>
        </p:nvGraphicFramePr>
        <p:xfrm>
          <a:off x="1143000" y="3798720"/>
          <a:ext cx="6186600" cy="77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3798720"/>
                    <a:ext cx="618660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12"/>
          <p:cNvGraphicFramePr/>
          <p:nvPr/>
        </p:nvGraphicFramePr>
        <p:xfrm>
          <a:off x="1219320" y="4952880"/>
          <a:ext cx="7659720" cy="876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19320" y="4952880"/>
                    <a:ext cx="765972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An Irreversible Integrator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rward Euler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76080" indent="-2599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well known to be quite bad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xamine time reversibilit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76080" indent="-2599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ssume we have progressed forward in time an increment 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; positions and momenta are now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everse time, and step back to original condi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sert from above for                                  ; Cancel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4495680" y="3075120"/>
          <a:ext cx="1181160" cy="35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075120"/>
                    <a:ext cx="118116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5"/>
          <p:cNvGraphicFramePr/>
          <p:nvPr/>
        </p:nvGraphicFramePr>
        <p:xfrm>
          <a:off x="3340080" y="4648320"/>
          <a:ext cx="2222640" cy="35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0080" y="4648320"/>
                    <a:ext cx="222264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6"/>
          <p:cNvGraphicFramePr/>
          <p:nvPr/>
        </p:nvGraphicFramePr>
        <p:xfrm>
          <a:off x="1981080" y="1600200"/>
          <a:ext cx="3200400" cy="72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1600200"/>
                    <a:ext cx="320040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Text Box 7"/>
          <p:cNvSpPr/>
          <p:nvPr/>
        </p:nvSpPr>
        <p:spPr>
          <a:xfrm>
            <a:off x="5334120" y="1600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unit 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Object 8"/>
          <p:cNvGraphicFramePr/>
          <p:nvPr/>
        </p:nvGraphicFramePr>
        <p:xfrm>
          <a:off x="1143000" y="3798720"/>
          <a:ext cx="6186600" cy="77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6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3798720"/>
                    <a:ext cx="618660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9"/>
          <p:cNvGraphicFramePr/>
          <p:nvPr/>
        </p:nvGraphicFramePr>
        <p:xfrm>
          <a:off x="1219320" y="4952880"/>
          <a:ext cx="7659720" cy="876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8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19320" y="4952880"/>
                    <a:ext cx="765972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Line 10"/>
          <p:cNvSpPr/>
          <p:nvPr/>
        </p:nvSpPr>
        <p:spPr>
          <a:xfrm flipH="1">
            <a:off x="2895480" y="5029200"/>
            <a:ext cx="457200" cy="30492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1"/>
          <p:cNvSpPr/>
          <p:nvPr/>
        </p:nvSpPr>
        <p:spPr>
          <a:xfrm flipH="1">
            <a:off x="5029200" y="5029200"/>
            <a:ext cx="457200" cy="30492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2"/>
          <p:cNvSpPr/>
          <p:nvPr/>
        </p:nvSpPr>
        <p:spPr>
          <a:xfrm flipH="1">
            <a:off x="3733560" y="4952880"/>
            <a:ext cx="152280" cy="38124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Object 13"/>
          <p:cNvGraphicFramePr/>
          <p:nvPr/>
        </p:nvGraphicFramePr>
        <p:xfrm>
          <a:off x="5638680" y="4952880"/>
          <a:ext cx="150840" cy="36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3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38680" y="4952880"/>
                    <a:ext cx="1508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21:18:59Z</dcterms:created>
  <dc:creator>David Kofke</dc:creator>
  <dc:description/>
  <dc:language>en-US</dc:language>
  <cp:lastModifiedBy>David Kofke</cp:lastModifiedBy>
  <cp:lastPrinted>1999-09-22T22:06:24Z</cp:lastPrinted>
  <dcterms:modified xsi:type="dcterms:W3CDTF">2014-05-08T15:04:36Z</dcterms:modified>
  <cp:revision>67</cp:revision>
  <dc:subject/>
  <dc:title>CE 530 Molecular Simulation</dc:title>
</cp:coreProperties>
</file>