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440" y="413064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85120" y="413064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90840" y="19810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6240" y="19810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440" y="413064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90840" y="413064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96240" y="413064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8739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85120" y="413064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ae00"/>
              </a:buClr>
              <a:buFont typeface="Zapf Dingba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8920" y="88920"/>
            <a:ext cx="8966160" cy="6680160"/>
          </a:xfrm>
          <a:prstGeom prst="rect">
            <a:avLst/>
          </a:prstGeom>
          <a:noFill/>
          <a:ln w="2556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8530560" y="152280"/>
            <a:ext cx="611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ECA14-05BD-4E00-90CC-DB4492862715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.wmf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wm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0.wmf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4.wmf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1.wmf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7.wmf"/><Relationship Id="rId1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7.wmf"/><Relationship Id="rId1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.wmf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11360" y="2285640"/>
            <a:ext cx="7721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CE 530 Molecular Simulation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4223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Lecture 21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Histogram Reweighting Method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avid A. Kofke</a:t>
            </a:r>
            <a:endParaRPr b="0" lang="en-US" sz="1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epartment of Chemical Engineering</a:t>
            </a:r>
            <a:endParaRPr b="0" lang="en-US" sz="1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UNY Buffalo</a:t>
            </a:r>
            <a:endParaRPr b="0" lang="en-US" sz="1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kofke@eng.buffalo.edu</a:t>
            </a:r>
            <a:endParaRPr b="0" lang="en-US" sz="1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0"/>
          <p:cNvSpPr/>
          <p:nvPr/>
        </p:nvSpPr>
        <p:spPr>
          <a:xfrm>
            <a:off x="5486400" y="1219320"/>
            <a:ext cx="3200400" cy="11430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In-class Problem 2A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onsider simulation data from a system having three energy level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 = 100 samples taken at </a:t>
            </a:r>
            <a:r>
              <a:rPr b="0" i="1" lang="el-GR" sz="2100" spc="-1" strike="noStrike">
                <a:solidFill>
                  <a:srgbClr val="000000"/>
                </a:solidFill>
                <a:latin typeface="Symbol"/>
                <a:ea typeface="Symbol"/>
              </a:rPr>
              <a:t>β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= 0.5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times observed in level i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What is </a:t>
            </a:r>
            <a:r>
              <a:rPr b="0" lang="en-US" sz="2400" spc="-1" strike="noStrike">
                <a:solidFill>
                  <a:srgbClr val="618ffd"/>
                </a:solidFill>
                <a:latin typeface="Symbol"/>
                <a:ea typeface="Symbol"/>
              </a:rPr>
              <a:t>Ω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(E)?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Object 4"/>
          <p:cNvGraphicFramePr/>
          <p:nvPr/>
        </p:nvGraphicFramePr>
        <p:xfrm>
          <a:off x="5715000" y="1295280"/>
          <a:ext cx="2730600" cy="97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1295280"/>
                    <a:ext cx="2730600" cy="9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Object 8"/>
          <p:cNvGraphicFramePr/>
          <p:nvPr/>
        </p:nvGraphicFramePr>
        <p:xfrm>
          <a:off x="1549440" y="2743200"/>
          <a:ext cx="4165560" cy="134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9440" y="2743200"/>
                    <a:ext cx="4165560" cy="13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Object 9"/>
          <p:cNvGraphicFramePr/>
          <p:nvPr/>
        </p:nvGraphicFramePr>
        <p:xfrm>
          <a:off x="6248520" y="2895480"/>
          <a:ext cx="1562040" cy="290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9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48520" y="2895480"/>
                    <a:ext cx="156204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2"/>
          <p:cNvSpPr/>
          <p:nvPr/>
        </p:nvSpPr>
        <p:spPr>
          <a:xfrm>
            <a:off x="5486400" y="1219320"/>
            <a:ext cx="3200400" cy="11430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In-class Problem 3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onsider simulation data from a system having three energy level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20720" indent="-2772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 = 100 samples taken at </a:t>
            </a:r>
            <a:r>
              <a:rPr b="0" i="1" lang="el-GR" sz="2100" spc="-1" strike="noStrike">
                <a:solidFill>
                  <a:srgbClr val="000000"/>
                </a:solidFill>
                <a:latin typeface="Symbol"/>
                <a:ea typeface="Symbol"/>
              </a:rPr>
              <a:t>β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= 0.5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times observed in level i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What is </a:t>
            </a:r>
            <a:r>
              <a:rPr b="0" lang="en-US" sz="2400" spc="-1" strike="noStrike">
                <a:solidFill>
                  <a:srgbClr val="618ffd"/>
                </a:solidFill>
                <a:latin typeface="Symbol"/>
                <a:ea typeface="Symbol"/>
              </a:rPr>
              <a:t>Ω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(E)?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Here</a:t>
            </a:r>
            <a:r>
              <a:rPr b="0" lang="en-US" sz="2400" spc="-1" strike="noStrike">
                <a:solidFill>
                  <a:srgbClr val="618ffd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 some more data, taken at </a:t>
            </a:r>
            <a:r>
              <a:rPr b="0" lang="el-GR" sz="2400" spc="-1" strike="noStrike">
                <a:solidFill>
                  <a:srgbClr val="618ffd"/>
                </a:solidFill>
                <a:latin typeface="Symbol"/>
                <a:ea typeface="Symbol"/>
              </a:rPr>
              <a:t>β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= 1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20720" indent="-2772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Ω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E)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207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Object 4"/>
          <p:cNvGraphicFramePr/>
          <p:nvPr/>
        </p:nvGraphicFramePr>
        <p:xfrm>
          <a:off x="5715000" y="1295280"/>
          <a:ext cx="2730600" cy="97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1295280"/>
                    <a:ext cx="2730600" cy="9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Object 6"/>
          <p:cNvGraphicFramePr/>
          <p:nvPr/>
        </p:nvGraphicFramePr>
        <p:xfrm>
          <a:off x="6248520" y="2895480"/>
          <a:ext cx="1562040" cy="29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8520" y="2895480"/>
                    <a:ext cx="156204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8"/>
          <p:cNvGraphicFramePr/>
          <p:nvPr/>
        </p:nvGraphicFramePr>
        <p:xfrm>
          <a:off x="5943600" y="4191120"/>
          <a:ext cx="2502000" cy="290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8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43600" y="4191120"/>
                    <a:ext cx="250200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10"/>
          <p:cNvGraphicFramePr/>
          <p:nvPr/>
        </p:nvGraphicFramePr>
        <p:xfrm>
          <a:off x="1492200" y="2743200"/>
          <a:ext cx="4280040" cy="1346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0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92200" y="2743200"/>
                    <a:ext cx="4280040" cy="13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1"/>
          <p:cNvSpPr/>
          <p:nvPr/>
        </p:nvSpPr>
        <p:spPr>
          <a:xfrm>
            <a:off x="5486400" y="1219320"/>
            <a:ext cx="3200400" cy="11430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In-class Problem 3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onsider simulation data from a system having three energy level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20720" indent="-2772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 = 100 samples taken at </a:t>
            </a:r>
            <a:r>
              <a:rPr b="0" i="1" lang="el-GR" sz="2100" spc="-1" strike="noStrike">
                <a:solidFill>
                  <a:srgbClr val="000000"/>
                </a:solidFill>
                <a:latin typeface="Symbol"/>
                <a:ea typeface="Symbol"/>
              </a:rPr>
              <a:t>β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= 0.5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times observed in level i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What is </a:t>
            </a:r>
            <a:r>
              <a:rPr b="0" lang="en-US" sz="2400" spc="-1" strike="noStrike">
                <a:solidFill>
                  <a:srgbClr val="618ffd"/>
                </a:solidFill>
                <a:latin typeface="Symbol"/>
                <a:ea typeface="Symbol"/>
              </a:rPr>
              <a:t>Ω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(E)?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Here</a:t>
            </a:r>
            <a:r>
              <a:rPr b="0" lang="ja-JP" sz="2400" spc="-1" strike="noStrike">
                <a:solidFill>
                  <a:srgbClr val="618ffd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 some more data, taken at </a:t>
            </a:r>
            <a:r>
              <a:rPr b="0" lang="el-GR" sz="2400" spc="-1" strike="noStrike">
                <a:solidFill>
                  <a:srgbClr val="618ffd"/>
                </a:solidFill>
                <a:latin typeface="Symbol"/>
                <a:ea typeface="Symbol"/>
              </a:rPr>
              <a:t>β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= 1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20720" indent="-2772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0" i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Ω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E)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207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Object 4"/>
          <p:cNvGraphicFramePr/>
          <p:nvPr/>
        </p:nvGraphicFramePr>
        <p:xfrm>
          <a:off x="5715000" y="1295280"/>
          <a:ext cx="2730600" cy="97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1295280"/>
                    <a:ext cx="2730600" cy="9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Object 5"/>
          <p:cNvGraphicFramePr/>
          <p:nvPr/>
        </p:nvGraphicFramePr>
        <p:xfrm>
          <a:off x="1492200" y="2743200"/>
          <a:ext cx="4280040" cy="134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92200" y="2743200"/>
                    <a:ext cx="4280040" cy="13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Object 6"/>
          <p:cNvGraphicFramePr/>
          <p:nvPr/>
        </p:nvGraphicFramePr>
        <p:xfrm>
          <a:off x="6248520" y="2895480"/>
          <a:ext cx="1562040" cy="290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9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48520" y="2895480"/>
                    <a:ext cx="156204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Object 7"/>
          <p:cNvGraphicFramePr/>
          <p:nvPr/>
        </p:nvGraphicFramePr>
        <p:xfrm>
          <a:off x="5943600" y="4191120"/>
          <a:ext cx="2502000" cy="290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1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43600" y="4191120"/>
                    <a:ext cx="250200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9"/>
          <p:cNvGraphicFramePr/>
          <p:nvPr/>
        </p:nvGraphicFramePr>
        <p:xfrm>
          <a:off x="1523880" y="5029200"/>
          <a:ext cx="2832120" cy="990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3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23880" y="5029200"/>
                    <a:ext cx="28321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Object 10"/>
          <p:cNvGraphicFramePr/>
          <p:nvPr/>
        </p:nvGraphicFramePr>
        <p:xfrm>
          <a:off x="6216480" y="4952880"/>
          <a:ext cx="1549440" cy="290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5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216480" y="4952880"/>
                    <a:ext cx="154944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6"/>
          <p:cNvSpPr/>
          <p:nvPr/>
        </p:nvSpPr>
        <p:spPr>
          <a:xfrm>
            <a:off x="1752480" y="2514600"/>
            <a:ext cx="3581640" cy="1143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Reconciling the Data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We have two data set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Questions of interest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05600" indent="-2714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what is the ratio Q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? (which then gives us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what is the best value of </a:t>
            </a:r>
            <a:r>
              <a:rPr b="0" i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Ω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Ω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Ω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Ω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what is the average energy at </a:t>
            </a:r>
            <a:r>
              <a:rPr b="0" i="1" lang="el-GR" sz="2100" spc="-1" strike="noStrike">
                <a:solidFill>
                  <a:srgbClr val="000000"/>
                </a:solidFill>
                <a:latin typeface="Symbol"/>
                <a:ea typeface="Symbol"/>
              </a:rPr>
              <a:t>β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= 2?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In-class Problem 4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05600" indent="-2714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ake an attempt to answer these question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Object 4"/>
          <p:cNvGraphicFramePr/>
          <p:nvPr/>
        </p:nvGraphicFramePr>
        <p:xfrm>
          <a:off x="1828800" y="2590920"/>
          <a:ext cx="1104840" cy="99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590920"/>
                    <a:ext cx="110484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Object 5"/>
          <p:cNvGraphicFramePr/>
          <p:nvPr/>
        </p:nvGraphicFramePr>
        <p:xfrm>
          <a:off x="4038480" y="2590920"/>
          <a:ext cx="1181160" cy="99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2590920"/>
                    <a:ext cx="118116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9"/>
          <p:cNvSpPr/>
          <p:nvPr/>
        </p:nvSpPr>
        <p:spPr>
          <a:xfrm>
            <a:off x="2819520" y="5257800"/>
            <a:ext cx="1676160" cy="11430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4572000" y="5257800"/>
            <a:ext cx="1905120" cy="11430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1676520" y="1066680"/>
            <a:ext cx="3581280" cy="1143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In-class Problem 4A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533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3000"/>
          </a:bodyPr>
          <a:p>
            <a:pPr marL="216000" indent="-2160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We have two data set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16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16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16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16000" indent="-2160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What is the ratio Q</a:t>
            </a:r>
            <a:r>
              <a:rPr b="0" lang="en-US" sz="2400" spc="-1" strike="noStrike" baseline="-25000">
                <a:solidFill>
                  <a:srgbClr val="618ffd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618ffd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618ffd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? (which then gives us </a:t>
            </a:r>
            <a:r>
              <a:rPr b="0" lang="en-US" sz="2400" spc="-1" strike="noStrike">
                <a:solidFill>
                  <a:srgbClr val="618ffd"/>
                </a:solidFill>
                <a:latin typeface="Symbol"/>
                <a:ea typeface="Symbol"/>
              </a:rPr>
              <a:t>Δ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)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468000" indent="-1800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Consider values from each energy level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16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16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16000" indent="-2160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What is the best value of </a:t>
            </a:r>
            <a:r>
              <a:rPr b="0" lang="en-US" sz="2400" spc="-1" strike="noStrike">
                <a:solidFill>
                  <a:srgbClr val="618ffd"/>
                </a:solidFill>
                <a:latin typeface="Symbol"/>
                <a:ea typeface="Symbol"/>
              </a:rPr>
              <a:t>Ω</a:t>
            </a:r>
            <a:r>
              <a:rPr b="0" lang="en-US" sz="2400" spc="-1" strike="noStrike" baseline="-25000">
                <a:solidFill>
                  <a:srgbClr val="618ffd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618ffd"/>
                </a:solidFill>
                <a:latin typeface="Symbol"/>
                <a:ea typeface="Symbol"/>
              </a:rPr>
              <a:t>Ω</a:t>
            </a:r>
            <a:r>
              <a:rPr b="0" lang="en-US" sz="2400" spc="-1" strike="noStrike" baseline="-25000">
                <a:solidFill>
                  <a:srgbClr val="618ffd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618ffd"/>
                </a:solidFill>
                <a:latin typeface="Symbol"/>
                <a:ea typeface="Symbol"/>
              </a:rPr>
              <a:t>Ω</a:t>
            </a:r>
            <a:r>
              <a:rPr b="0" lang="en-US" sz="2400" spc="-1" strike="noStrike" baseline="-25000">
                <a:solidFill>
                  <a:srgbClr val="618ffd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618ffd"/>
                </a:solidFill>
                <a:latin typeface="Symbol"/>
                <a:ea typeface="Symbol"/>
              </a:rPr>
              <a:t>Ω</a:t>
            </a:r>
            <a:r>
              <a:rPr b="0" lang="en-US" sz="2400" spc="-1" strike="noStrike" baseline="-25000">
                <a:solidFill>
                  <a:srgbClr val="618ffd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468000" indent="-1800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Consider values from each temperatur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What to do?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168" name="Object 4"/>
          <p:cNvGraphicFramePr/>
          <p:nvPr/>
        </p:nvGraphicFramePr>
        <p:xfrm>
          <a:off x="1828800" y="1143000"/>
          <a:ext cx="1104840" cy="9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143000"/>
                    <a:ext cx="110484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5"/>
          <p:cNvGraphicFramePr/>
          <p:nvPr/>
        </p:nvGraphicFramePr>
        <p:xfrm>
          <a:off x="4038480" y="1143000"/>
          <a:ext cx="1181160" cy="99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1143000"/>
                    <a:ext cx="118116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Object 6"/>
          <p:cNvGraphicFramePr/>
          <p:nvPr/>
        </p:nvGraphicFramePr>
        <p:xfrm>
          <a:off x="1981080" y="3213000"/>
          <a:ext cx="4343400" cy="978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3213000"/>
                    <a:ext cx="4343400" cy="9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Object 7"/>
          <p:cNvGraphicFramePr/>
          <p:nvPr/>
        </p:nvGraphicFramePr>
        <p:xfrm>
          <a:off x="1981080" y="5295960"/>
          <a:ext cx="4445280" cy="102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81080" y="5295960"/>
                    <a:ext cx="444528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Accounting for Data Quality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Remember the number of samples that went into each valu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We expect the A-state data to be good for levels 1 and 2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while the B-state data are good for levels 0 and 1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Write each </a:t>
            </a:r>
            <a:r>
              <a:rPr b="0" lang="en-US" sz="2400" spc="-1" strike="noStrike">
                <a:solidFill>
                  <a:srgbClr val="618ffd"/>
                </a:solidFill>
                <a:latin typeface="Symbol"/>
                <a:ea typeface="Symbol"/>
              </a:rPr>
              <a:t>Ω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as an average of all values, weighted by quality of result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178" name="Object 4"/>
          <p:cNvGraphicFramePr/>
          <p:nvPr/>
        </p:nvGraphicFramePr>
        <p:xfrm>
          <a:off x="1352520" y="2514600"/>
          <a:ext cx="2057400" cy="9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2520" y="2514600"/>
                    <a:ext cx="20574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5"/>
          <p:cNvGraphicFramePr/>
          <p:nvPr/>
        </p:nvGraphicFramePr>
        <p:xfrm>
          <a:off x="4476600" y="2514600"/>
          <a:ext cx="2133720" cy="99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76600" y="2514600"/>
                    <a:ext cx="21337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Object 6"/>
          <p:cNvGraphicFramePr/>
          <p:nvPr/>
        </p:nvGraphicFramePr>
        <p:xfrm>
          <a:off x="1994040" y="5397480"/>
          <a:ext cx="4292640" cy="9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94040" y="5397480"/>
                    <a:ext cx="429264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Object 7"/>
          <p:cNvGraphicFramePr/>
          <p:nvPr/>
        </p:nvGraphicFramePr>
        <p:xfrm>
          <a:off x="7080120" y="5181480"/>
          <a:ext cx="1791000" cy="660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80120" y="5181480"/>
                    <a:ext cx="179100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160" y="317160"/>
            <a:ext cx="817884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Histogram Variance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Estimate confidence in each simulation result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ssume each histogram follows a Poisson distribu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68520" indent="-2570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probability P to observe any given instance of distributio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he variance for each bin i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Object 4"/>
          <p:cNvGraphicFramePr/>
          <p:nvPr/>
        </p:nvGraphicFramePr>
        <p:xfrm>
          <a:off x="1352520" y="1981080"/>
          <a:ext cx="2057400" cy="9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2520" y="1981080"/>
                    <a:ext cx="20574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Object 5"/>
          <p:cNvGraphicFramePr/>
          <p:nvPr/>
        </p:nvGraphicFramePr>
        <p:xfrm>
          <a:off x="4476600" y="1981080"/>
          <a:ext cx="2133720" cy="99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76600" y="1981080"/>
                    <a:ext cx="21337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Object 6"/>
          <p:cNvGraphicFramePr/>
          <p:nvPr/>
        </p:nvGraphicFramePr>
        <p:xfrm>
          <a:off x="1689120" y="4038480"/>
          <a:ext cx="3098880" cy="1435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89120" y="4038480"/>
                    <a:ext cx="3098880" cy="14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Object 7"/>
          <p:cNvGraphicFramePr/>
          <p:nvPr/>
        </p:nvGraphicFramePr>
        <p:xfrm>
          <a:off x="5237280" y="3602160"/>
          <a:ext cx="3754440" cy="3103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37280" y="3602160"/>
                    <a:ext cx="3754440" cy="31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Object 8"/>
          <p:cNvGraphicFramePr/>
          <p:nvPr/>
        </p:nvGraphicFramePr>
        <p:xfrm>
          <a:off x="1822320" y="6102360"/>
          <a:ext cx="1498680" cy="404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7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22320" y="6102360"/>
                    <a:ext cx="149868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Variance in Estimate of </a:t>
            </a:r>
            <a:r>
              <a:rPr b="0" lang="en-US" sz="3600" spc="-1" strike="noStrike">
                <a:solidFill>
                  <a:srgbClr val="fc0128"/>
                </a:solidFill>
                <a:latin typeface="Symbol"/>
                <a:ea typeface="Symbol"/>
              </a:rPr>
              <a:t>Ω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ormula for estimate of </a:t>
            </a:r>
            <a:r>
              <a:rPr b="0" lang="en-US" sz="2400" spc="-1" strike="noStrike">
                <a:solidFill>
                  <a:srgbClr val="618ffd"/>
                </a:solidFill>
                <a:latin typeface="Symbol"/>
                <a:ea typeface="Symbol"/>
              </a:rPr>
              <a:t>Ω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Varianc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200" name="Object 4"/>
          <p:cNvGraphicFramePr/>
          <p:nvPr/>
        </p:nvGraphicFramePr>
        <p:xfrm>
          <a:off x="1682640" y="1981080"/>
          <a:ext cx="3848040" cy="48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2640" y="1981080"/>
                    <a:ext cx="384804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Object 5"/>
          <p:cNvGraphicFramePr/>
          <p:nvPr/>
        </p:nvGraphicFramePr>
        <p:xfrm>
          <a:off x="1649520" y="3200400"/>
          <a:ext cx="6021360" cy="2171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49520" y="3200400"/>
                    <a:ext cx="6021360" cy="21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6"/>
          <p:cNvGraphicFramePr/>
          <p:nvPr/>
        </p:nvGraphicFramePr>
        <p:xfrm>
          <a:off x="7004160" y="5867280"/>
          <a:ext cx="1790640" cy="660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04160" y="5867280"/>
                    <a:ext cx="179064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87392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Optimizing Weight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Varianc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Minimize with respect to weight, subject to normaliza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n-class Problem 5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Do it! 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</p:txBody>
      </p:sp>
      <p:graphicFrame>
        <p:nvGraphicFramePr>
          <p:cNvPr id="208" name="Object 5"/>
          <p:cNvGraphicFramePr/>
          <p:nvPr/>
        </p:nvGraphicFramePr>
        <p:xfrm>
          <a:off x="1689120" y="1447920"/>
          <a:ext cx="431784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9120" y="1447920"/>
                    <a:ext cx="43178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87392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Optimizing Weight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Varianc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Minimize with respect to weight, subject to normaliza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13160" indent="-2743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Lagrange multiplier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Equation for each weight i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Rearrang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Normaliz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212" name="Object 5"/>
          <p:cNvGraphicFramePr/>
          <p:nvPr/>
        </p:nvGraphicFramePr>
        <p:xfrm>
          <a:off x="1676520" y="2755800"/>
          <a:ext cx="2489040" cy="5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755800"/>
                    <a:ext cx="248904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Object 6"/>
          <p:cNvGraphicFramePr/>
          <p:nvPr/>
        </p:nvGraphicFramePr>
        <p:xfrm>
          <a:off x="4730760" y="3492360"/>
          <a:ext cx="1866960" cy="47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0760" y="3492360"/>
                    <a:ext cx="186696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Object 8"/>
          <p:cNvGraphicFramePr/>
          <p:nvPr/>
        </p:nvGraphicFramePr>
        <p:xfrm>
          <a:off x="6705720" y="2743200"/>
          <a:ext cx="2273040" cy="660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05720" y="2743200"/>
                    <a:ext cx="227304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Object 9"/>
          <p:cNvGraphicFramePr/>
          <p:nvPr/>
        </p:nvGraphicFramePr>
        <p:xfrm>
          <a:off x="2521080" y="4114800"/>
          <a:ext cx="1866600" cy="520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21080" y="4114800"/>
                    <a:ext cx="186660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Object 10"/>
          <p:cNvGraphicFramePr/>
          <p:nvPr/>
        </p:nvGraphicFramePr>
        <p:xfrm>
          <a:off x="2546280" y="5257800"/>
          <a:ext cx="2247840" cy="736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1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46280" y="5257800"/>
                    <a:ext cx="224784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Object 11"/>
          <p:cNvGraphicFramePr/>
          <p:nvPr/>
        </p:nvGraphicFramePr>
        <p:xfrm>
          <a:off x="1689120" y="1447920"/>
          <a:ext cx="4317840" cy="457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3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89120" y="1447920"/>
                    <a:ext cx="43178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Histogram Reweighting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761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260640" indent="-2606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Method to combine results taken at different state condition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60640" indent="-2606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Microcanonical ensembl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60640" indent="-2606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anonical ensembl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60640" indent="-2606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he big idea: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64480" indent="-2170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Combine simulation data at different temperatures to improve quality of all data via their mutual relation to </a:t>
            </a:r>
            <a:r>
              <a:rPr b="0" i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Ω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(E)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Object 4"/>
          <p:cNvGraphicFramePr/>
          <p:nvPr/>
        </p:nvGraphicFramePr>
        <p:xfrm>
          <a:off x="1828800" y="1828800"/>
          <a:ext cx="1778040" cy="72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828800"/>
                    <a:ext cx="177804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1835280" y="3124080"/>
          <a:ext cx="189216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3124080"/>
                    <a:ext cx="18921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Text Box 6"/>
          <p:cNvSpPr/>
          <p:nvPr/>
        </p:nvSpPr>
        <p:spPr>
          <a:xfrm>
            <a:off x="4267080" y="318456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ability of a micro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Object 7"/>
          <p:cNvGraphicFramePr/>
          <p:nvPr/>
        </p:nvGraphicFramePr>
        <p:xfrm>
          <a:off x="1701720" y="3809880"/>
          <a:ext cx="2032200" cy="660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01720" y="3809880"/>
                    <a:ext cx="203220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Text Box 8"/>
          <p:cNvSpPr/>
          <p:nvPr/>
        </p:nvSpPr>
        <p:spPr>
          <a:xfrm>
            <a:off x="4267080" y="38862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ability of an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1600200" y="472428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Number of microstates having this ener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3886200" y="47242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Probability of each micro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1"/>
          <p:cNvSpPr/>
          <p:nvPr/>
        </p:nvSpPr>
        <p:spPr>
          <a:xfrm flipV="1">
            <a:off x="2362320" y="4267080"/>
            <a:ext cx="380880" cy="457200"/>
          </a:xfrm>
          <a:prstGeom prst="line">
            <a:avLst/>
          </a:prstGeom>
          <a:ln w="1260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2"/>
          <p:cNvSpPr/>
          <p:nvPr/>
        </p:nvSpPr>
        <p:spPr>
          <a:xfrm flipH="1" flipV="1">
            <a:off x="3733920" y="4267080"/>
            <a:ext cx="304560" cy="457200"/>
          </a:xfrm>
          <a:prstGeom prst="line">
            <a:avLst/>
          </a:prstGeom>
          <a:ln w="1260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87392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Optimal Estimate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ollect result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ombin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226" name="Object 4"/>
          <p:cNvGraphicFramePr/>
          <p:nvPr/>
        </p:nvGraphicFramePr>
        <p:xfrm>
          <a:off x="1784520" y="2590920"/>
          <a:ext cx="224784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4520" y="2590920"/>
                    <a:ext cx="224784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Object 5"/>
          <p:cNvGraphicFramePr/>
          <p:nvPr/>
        </p:nvGraphicFramePr>
        <p:xfrm>
          <a:off x="1682640" y="2057400"/>
          <a:ext cx="3848040" cy="480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82640" y="2057400"/>
                    <a:ext cx="384804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Object 6"/>
          <p:cNvGraphicFramePr/>
          <p:nvPr/>
        </p:nvGraphicFramePr>
        <p:xfrm>
          <a:off x="863640" y="4267080"/>
          <a:ext cx="8002440" cy="138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1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63640" y="4267080"/>
                    <a:ext cx="8002440" cy="13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Calculating </a:t>
            </a:r>
            <a:r>
              <a:rPr b="0" lang="en-US" sz="3600" spc="-1" strike="noStrike">
                <a:solidFill>
                  <a:srgbClr val="fc0128"/>
                </a:solidFill>
                <a:latin typeface="Symbol"/>
                <a:ea typeface="Symbol"/>
              </a:rPr>
              <a:t>Ω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ormula for </a:t>
            </a:r>
            <a:r>
              <a:rPr b="0" lang="en-US" sz="2400" spc="-1" strike="noStrike">
                <a:solidFill>
                  <a:srgbClr val="618ffd"/>
                </a:solidFill>
                <a:latin typeface="Symbol"/>
                <a:ea typeface="Symbol"/>
              </a:rPr>
              <a:t>Ω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In-class Problem 6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xplain why this formula cannot yet be used 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234" name="Object 5"/>
          <p:cNvGraphicFramePr/>
          <p:nvPr/>
        </p:nvGraphicFramePr>
        <p:xfrm>
          <a:off x="3251160" y="1676520"/>
          <a:ext cx="4280040" cy="66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1160" y="1676520"/>
                    <a:ext cx="428004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Calculating </a:t>
            </a:r>
            <a:r>
              <a:rPr b="0" lang="en-US" sz="3600" spc="-1" strike="noStrike">
                <a:solidFill>
                  <a:srgbClr val="fc0128"/>
                </a:solidFill>
                <a:latin typeface="Symbol"/>
                <a:ea typeface="Symbol"/>
              </a:rPr>
              <a:t>Ω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ormula for </a:t>
            </a:r>
            <a:r>
              <a:rPr b="0" lang="en-US" sz="2400" spc="-1" strike="noStrike">
                <a:solidFill>
                  <a:srgbClr val="618ffd"/>
                </a:solidFill>
                <a:latin typeface="Symbol"/>
                <a:ea typeface="Symbol"/>
              </a:rPr>
              <a:t>Ω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We do not know the Q partition function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One equation for each </a:t>
            </a:r>
            <a:r>
              <a:rPr b="0" lang="en-US" sz="2400" spc="-1" strike="noStrike">
                <a:solidFill>
                  <a:srgbClr val="618ffd"/>
                </a:solidFill>
                <a:latin typeface="Symbol"/>
                <a:ea typeface="Symbol"/>
              </a:rPr>
              <a:t>Ω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Each equation depends on all </a:t>
            </a:r>
            <a:r>
              <a:rPr b="0" lang="en-US" sz="2400" spc="-1" strike="noStrike">
                <a:solidFill>
                  <a:srgbClr val="618ffd"/>
                </a:solidFill>
                <a:latin typeface="Symbol"/>
                <a:ea typeface="Symbol"/>
              </a:rPr>
              <a:t>Ω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Requires iterative solu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238" name="Object 4"/>
          <p:cNvGraphicFramePr/>
          <p:nvPr/>
        </p:nvGraphicFramePr>
        <p:xfrm>
          <a:off x="3251160" y="1676520"/>
          <a:ext cx="4280040" cy="66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1160" y="1676520"/>
                    <a:ext cx="428004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Object 6"/>
          <p:cNvGraphicFramePr/>
          <p:nvPr/>
        </p:nvGraphicFramePr>
        <p:xfrm>
          <a:off x="1295280" y="2971800"/>
          <a:ext cx="3568680" cy="35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2971800"/>
                    <a:ext cx="3568680" cy="3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Object 7"/>
          <p:cNvGraphicFramePr/>
          <p:nvPr/>
        </p:nvGraphicFramePr>
        <p:xfrm>
          <a:off x="1327320" y="3429000"/>
          <a:ext cx="7583400" cy="660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3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27320" y="3429000"/>
                    <a:ext cx="758340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87392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In-class Problem 7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Write the equations for each </a:t>
            </a:r>
            <a:r>
              <a:rPr b="0" lang="en-US" sz="2400" spc="-1" strike="noStrike">
                <a:solidFill>
                  <a:srgbClr val="618ffd"/>
                </a:solidFill>
                <a:latin typeface="Symbol"/>
                <a:ea typeface="Symbol"/>
              </a:rPr>
              <a:t>Ω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using the example valu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246" name="Object 6"/>
          <p:cNvGraphicFramePr/>
          <p:nvPr/>
        </p:nvGraphicFramePr>
        <p:xfrm>
          <a:off x="1098720" y="1600200"/>
          <a:ext cx="7583400" cy="66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8720" y="1600200"/>
                    <a:ext cx="758340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Object 7"/>
          <p:cNvGraphicFramePr/>
          <p:nvPr/>
        </p:nvGraphicFramePr>
        <p:xfrm>
          <a:off x="1447920" y="2406600"/>
          <a:ext cx="761760" cy="135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2406600"/>
                    <a:ext cx="761760" cy="13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Object 10"/>
          <p:cNvGraphicFramePr/>
          <p:nvPr/>
        </p:nvGraphicFramePr>
        <p:xfrm>
          <a:off x="3962520" y="2743200"/>
          <a:ext cx="1790640" cy="9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1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62520" y="2743200"/>
                    <a:ext cx="179064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Object 11"/>
          <p:cNvGraphicFramePr/>
          <p:nvPr/>
        </p:nvGraphicFramePr>
        <p:xfrm>
          <a:off x="2666880" y="2406600"/>
          <a:ext cx="762120" cy="1359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3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66880" y="2406600"/>
                    <a:ext cx="762120" cy="13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Object 12"/>
          <p:cNvGraphicFramePr/>
          <p:nvPr/>
        </p:nvGraphicFramePr>
        <p:xfrm>
          <a:off x="6400800" y="2666880"/>
          <a:ext cx="1536840" cy="290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5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00800" y="2666880"/>
                    <a:ext cx="153684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87392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In-class Problem 7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Write the equations for each </a:t>
            </a:r>
            <a:r>
              <a:rPr b="0" lang="en-US" sz="2400" spc="-1" strike="noStrike">
                <a:solidFill>
                  <a:srgbClr val="618ffd"/>
                </a:solidFill>
                <a:latin typeface="Symbol"/>
                <a:ea typeface="Symbol"/>
              </a:rPr>
              <a:t>Ω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using the example valu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olu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258" name="Object 5"/>
          <p:cNvGraphicFramePr/>
          <p:nvPr/>
        </p:nvGraphicFramePr>
        <p:xfrm>
          <a:off x="1447920" y="2406600"/>
          <a:ext cx="761760" cy="13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406600"/>
                    <a:ext cx="761760" cy="13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Object 6"/>
          <p:cNvGraphicFramePr/>
          <p:nvPr/>
        </p:nvGraphicFramePr>
        <p:xfrm>
          <a:off x="3962520" y="2743200"/>
          <a:ext cx="1790640" cy="99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2520" y="2743200"/>
                    <a:ext cx="179064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Object 7"/>
          <p:cNvGraphicFramePr/>
          <p:nvPr/>
        </p:nvGraphicFramePr>
        <p:xfrm>
          <a:off x="2666880" y="2406600"/>
          <a:ext cx="762120" cy="1359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3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2406600"/>
                    <a:ext cx="762120" cy="13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Object 8"/>
          <p:cNvGraphicFramePr/>
          <p:nvPr/>
        </p:nvGraphicFramePr>
        <p:xfrm>
          <a:off x="6400800" y="2666880"/>
          <a:ext cx="1536840" cy="290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5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00800" y="2666880"/>
                    <a:ext cx="153684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Object 9"/>
          <p:cNvGraphicFramePr/>
          <p:nvPr/>
        </p:nvGraphicFramePr>
        <p:xfrm>
          <a:off x="1752480" y="4317840"/>
          <a:ext cx="5321520" cy="559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7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52480" y="4317840"/>
                    <a:ext cx="532152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Object 10"/>
          <p:cNvGraphicFramePr/>
          <p:nvPr/>
        </p:nvGraphicFramePr>
        <p:xfrm>
          <a:off x="1739880" y="3784680"/>
          <a:ext cx="5194440" cy="558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9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739880" y="3784680"/>
                    <a:ext cx="519444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Object 11"/>
          <p:cNvGraphicFramePr/>
          <p:nvPr/>
        </p:nvGraphicFramePr>
        <p:xfrm>
          <a:off x="1752480" y="4851360"/>
          <a:ext cx="5194440" cy="558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1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752480" y="4851360"/>
                    <a:ext cx="519444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Object 12"/>
          <p:cNvGraphicFramePr/>
          <p:nvPr/>
        </p:nvGraphicFramePr>
        <p:xfrm>
          <a:off x="1752480" y="5867280"/>
          <a:ext cx="2248200" cy="6098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73" name="Object 1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752480" y="5867280"/>
                    <a:ext cx="224820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Object 13"/>
          <p:cNvGraphicFramePr/>
          <p:nvPr/>
        </p:nvGraphicFramePr>
        <p:xfrm>
          <a:off x="1098720" y="1600200"/>
          <a:ext cx="7583400" cy="6602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75" name="Object 1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098720" y="1600200"/>
                    <a:ext cx="758340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9"/>
          <p:cNvSpPr/>
          <p:nvPr/>
        </p:nvSpPr>
        <p:spPr>
          <a:xfrm>
            <a:off x="6553080" y="1676520"/>
            <a:ext cx="2210040" cy="15238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87392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In-class Problem 7A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olu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ompar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18ffd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Exact</a:t>
            </a:r>
            <a:r>
              <a:rPr b="0" lang="ja-JP" sz="2400" spc="-1" strike="noStrike">
                <a:solidFill>
                  <a:srgbClr val="618ffd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solu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ree energy differenc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279" name="Object 12"/>
          <p:cNvGraphicFramePr/>
          <p:nvPr/>
        </p:nvGraphicFramePr>
        <p:xfrm>
          <a:off x="1600200" y="1600200"/>
          <a:ext cx="224784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600200"/>
                    <a:ext cx="22478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Object 13"/>
          <p:cNvGraphicFramePr/>
          <p:nvPr/>
        </p:nvGraphicFramePr>
        <p:xfrm>
          <a:off x="1523880" y="2895480"/>
          <a:ext cx="4445280" cy="102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2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2895480"/>
                    <a:ext cx="444528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Object 14"/>
          <p:cNvGraphicFramePr/>
          <p:nvPr/>
        </p:nvGraphicFramePr>
        <p:xfrm>
          <a:off x="6705720" y="1828800"/>
          <a:ext cx="761760" cy="1359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4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05720" y="1828800"/>
                    <a:ext cx="761760" cy="13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Object 15"/>
          <p:cNvGraphicFramePr/>
          <p:nvPr/>
        </p:nvGraphicFramePr>
        <p:xfrm>
          <a:off x="7924680" y="1828800"/>
          <a:ext cx="762120" cy="1359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6" name="Object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924680" y="1828800"/>
                    <a:ext cx="762120" cy="13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" name="Object 16"/>
          <p:cNvGraphicFramePr/>
          <p:nvPr/>
        </p:nvGraphicFramePr>
        <p:xfrm>
          <a:off x="1638360" y="4648320"/>
          <a:ext cx="2095560" cy="609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8" name="Object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38360" y="4648320"/>
                    <a:ext cx="20955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" name="Object 17"/>
          <p:cNvGraphicFramePr/>
          <p:nvPr/>
        </p:nvGraphicFramePr>
        <p:xfrm>
          <a:off x="1523880" y="5867280"/>
          <a:ext cx="3568680" cy="609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0" name="Object 1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523880" y="5867280"/>
                    <a:ext cx="356868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Text Box 18"/>
          <p:cNvSpPr/>
          <p:nvPr/>
        </p:nvSpPr>
        <p:spPr>
          <a:xfrm>
            <a:off x="6019920" y="57913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ae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Design value</a:t>
            </a:r>
            <a:r>
              <a:rPr b="0" lang="ja-JP" sz="1800" spc="-1" strike="noStrike">
                <a:solidFill>
                  <a:srgbClr val="00ae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 =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20"/>
          <p:cNvSpPr/>
          <p:nvPr/>
        </p:nvSpPr>
        <p:spPr>
          <a:xfrm>
            <a:off x="2133720" y="1905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(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Extensions of Technique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Method is usually used in multidimensional form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Useful to apply to grand-canonical ensembl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an then be used to relate simulation data at different temperature and chemical potentia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Many other variations are possibl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295" name="Object 4"/>
          <p:cNvGraphicFramePr/>
          <p:nvPr/>
        </p:nvGraphicFramePr>
        <p:xfrm>
          <a:off x="1739880" y="3048120"/>
          <a:ext cx="3086280" cy="115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9880" y="3048120"/>
                    <a:ext cx="3086280" cy="11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In-class Problem 1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onsider three energy level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What are Q, distribution of states and &lt;E&gt; at </a:t>
            </a:r>
            <a:r>
              <a:rPr b="0" lang="el-GR" sz="2400" spc="-1" strike="noStrike">
                <a:solidFill>
                  <a:srgbClr val="618ffd"/>
                </a:solidFill>
                <a:latin typeface="Symbol"/>
                <a:ea typeface="Symbol"/>
              </a:rPr>
              <a:t>β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= 1?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Object 7"/>
          <p:cNvGraphicFramePr/>
          <p:nvPr/>
        </p:nvGraphicFramePr>
        <p:xfrm>
          <a:off x="4788000" y="1066680"/>
          <a:ext cx="2844720" cy="97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1066680"/>
                    <a:ext cx="2844720" cy="9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In-class Problem 1A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onsider three energy level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What are Q, distribution of states and &lt;E&gt; at </a:t>
            </a:r>
            <a:r>
              <a:rPr b="0" lang="el-GR" sz="2400" spc="-1" strike="noStrike">
                <a:solidFill>
                  <a:srgbClr val="618ffd"/>
                </a:solidFill>
                <a:latin typeface="Symbol"/>
                <a:ea typeface="Symbol"/>
              </a:rPr>
              <a:t>β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= 1?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Object 5"/>
          <p:cNvGraphicFramePr/>
          <p:nvPr/>
        </p:nvGraphicFramePr>
        <p:xfrm>
          <a:off x="495360" y="2806560"/>
          <a:ext cx="3429000" cy="138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2806560"/>
                    <a:ext cx="3429000" cy="13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Object 6"/>
          <p:cNvGraphicFramePr/>
          <p:nvPr/>
        </p:nvGraphicFramePr>
        <p:xfrm>
          <a:off x="4286160" y="2514600"/>
          <a:ext cx="2565360" cy="210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6160" y="2514600"/>
                    <a:ext cx="2565360" cy="21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Object 7"/>
          <p:cNvGraphicFramePr/>
          <p:nvPr/>
        </p:nvGraphicFramePr>
        <p:xfrm>
          <a:off x="4788000" y="1066680"/>
          <a:ext cx="2844720" cy="978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88000" y="1066680"/>
                    <a:ext cx="2844720" cy="9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Object 10"/>
          <p:cNvGraphicFramePr/>
          <p:nvPr/>
        </p:nvGraphicFramePr>
        <p:xfrm>
          <a:off x="7270920" y="2590920"/>
          <a:ext cx="1574640" cy="1676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9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270920" y="2590920"/>
                    <a:ext cx="157464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152280" y="4724280"/>
            <a:ext cx="8839440" cy="19814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In-class Problem 1A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onsider three energy level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What are Q, distribution of states and &lt;E&gt; at </a:t>
            </a:r>
            <a:r>
              <a:rPr b="0" lang="el-GR" sz="2400" spc="-1" strike="noStrike">
                <a:solidFill>
                  <a:srgbClr val="618ffd"/>
                </a:solidFill>
                <a:latin typeface="Symbol"/>
                <a:ea typeface="Symbol"/>
              </a:rPr>
              <a:t>β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= 1?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nd at </a:t>
            </a:r>
            <a:r>
              <a:rPr b="0" lang="el-GR" sz="2400" spc="-1" strike="noStrike">
                <a:solidFill>
                  <a:srgbClr val="618ffd"/>
                </a:solidFill>
                <a:latin typeface="Symbol"/>
                <a:ea typeface="Symbol"/>
              </a:rPr>
              <a:t>β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= 3?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832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Object 5"/>
          <p:cNvGraphicFramePr/>
          <p:nvPr/>
        </p:nvGraphicFramePr>
        <p:xfrm>
          <a:off x="495360" y="2806560"/>
          <a:ext cx="3429000" cy="138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2806560"/>
                    <a:ext cx="3429000" cy="13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Object 6"/>
          <p:cNvGraphicFramePr/>
          <p:nvPr/>
        </p:nvGraphicFramePr>
        <p:xfrm>
          <a:off x="4286160" y="2514600"/>
          <a:ext cx="2565360" cy="210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6160" y="2514600"/>
                    <a:ext cx="2565360" cy="21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Object 7"/>
          <p:cNvGraphicFramePr/>
          <p:nvPr/>
        </p:nvGraphicFramePr>
        <p:xfrm>
          <a:off x="4788000" y="1066680"/>
          <a:ext cx="2844720" cy="978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8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88000" y="1066680"/>
                    <a:ext cx="2844720" cy="9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Object 8"/>
          <p:cNvGraphicFramePr/>
          <p:nvPr/>
        </p:nvGraphicFramePr>
        <p:xfrm>
          <a:off x="457200" y="5226120"/>
          <a:ext cx="3645000" cy="1054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0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5226120"/>
                    <a:ext cx="3645000" cy="10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9"/>
          <p:cNvGraphicFramePr/>
          <p:nvPr/>
        </p:nvGraphicFramePr>
        <p:xfrm>
          <a:off x="4971960" y="4876920"/>
          <a:ext cx="1460520" cy="1790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2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971960" y="4876920"/>
                    <a:ext cx="1460520" cy="17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Object 10"/>
          <p:cNvGraphicFramePr/>
          <p:nvPr/>
        </p:nvGraphicFramePr>
        <p:xfrm>
          <a:off x="7270920" y="2590920"/>
          <a:ext cx="1574640" cy="1676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4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270920" y="2590920"/>
                    <a:ext cx="157464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Object 11"/>
          <p:cNvGraphicFramePr/>
          <p:nvPr/>
        </p:nvGraphicFramePr>
        <p:xfrm>
          <a:off x="7321680" y="5016600"/>
          <a:ext cx="1473120" cy="1307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6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321680" y="5016600"/>
                    <a:ext cx="1473120" cy="13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Histogram Reweighting Approach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762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Knowledge of </a:t>
            </a:r>
            <a:r>
              <a:rPr b="0" lang="en-US" sz="2400" spc="-1" strike="noStrike">
                <a:solidFill>
                  <a:srgbClr val="618ffd"/>
                </a:solidFill>
                <a:latin typeface="Symbol"/>
                <a:ea typeface="Symbol"/>
              </a:rPr>
              <a:t>Ω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(E) can be used to obtain averages at any temperatur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imulations at different temperatures probe different parts of </a:t>
            </a:r>
            <a:r>
              <a:rPr b="0" lang="en-US" sz="2400" spc="-1" strike="noStrike">
                <a:solidFill>
                  <a:srgbClr val="618ffd"/>
                </a:solidFill>
                <a:latin typeface="Symbol"/>
                <a:ea typeface="Symbol"/>
              </a:rPr>
              <a:t>Ω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(E)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But simulations at each temperature provides information over a range of values of </a:t>
            </a:r>
            <a:r>
              <a:rPr b="0" lang="en-US" sz="2400" spc="-1" strike="noStrike">
                <a:solidFill>
                  <a:srgbClr val="618ffd"/>
                </a:solidFill>
                <a:latin typeface="Symbol"/>
                <a:ea typeface="Symbol"/>
              </a:rPr>
              <a:t>Ω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(E)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ombine simulation data taken at different temperatures to obtain better information for each temperatur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89" name="Freeform 6"/>
          <p:cNvSpPr/>
          <p:nvPr/>
        </p:nvSpPr>
        <p:spPr>
          <a:xfrm>
            <a:off x="1828800" y="4322880"/>
            <a:ext cx="4765680" cy="20520"/>
          </a:xfrm>
          <a:custGeom>
            <a:avLst/>
            <a:gdLst/>
            <a:ahLst/>
            <a:rect l="l" t="t" r="r" b="b"/>
            <a:pathLst>
              <a:path w="3002" h="13">
                <a:moveTo>
                  <a:pt x="0" y="13"/>
                </a:moveTo>
                <a:lnTo>
                  <a:pt x="3002" y="0"/>
                </a:lnTo>
              </a:path>
            </a:pathLst>
          </a:custGeom>
          <a:solidFill>
            <a:srgbClr val="00ae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58672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reeform 20"/>
          <p:cNvSpPr/>
          <p:nvPr/>
        </p:nvSpPr>
        <p:spPr>
          <a:xfrm>
            <a:off x="1893960" y="2633760"/>
            <a:ext cx="4763880" cy="1709640"/>
          </a:xfrm>
          <a:custGeom>
            <a:avLst/>
            <a:gdLst/>
            <a:ahLst/>
            <a:rect l="l" t="t" r="r" b="b"/>
            <a:pathLst>
              <a:path w="3001" h="1077">
                <a:moveTo>
                  <a:pt x="0" y="1077"/>
                </a:moveTo>
                <a:cubicBezTo>
                  <a:pt x="102" y="1067"/>
                  <a:pt x="415" y="1048"/>
                  <a:pt x="613" y="1025"/>
                </a:cubicBezTo>
                <a:cubicBezTo>
                  <a:pt x="811" y="1002"/>
                  <a:pt x="966" y="985"/>
                  <a:pt x="1187" y="939"/>
                </a:cubicBezTo>
                <a:cubicBezTo>
                  <a:pt x="1408" y="893"/>
                  <a:pt x="1704" y="832"/>
                  <a:pt x="1939" y="748"/>
                </a:cubicBezTo>
                <a:cubicBezTo>
                  <a:pt x="2174" y="664"/>
                  <a:pt x="2432" y="542"/>
                  <a:pt x="2599" y="436"/>
                </a:cubicBezTo>
                <a:cubicBezTo>
                  <a:pt x="2766" y="330"/>
                  <a:pt x="2877" y="155"/>
                  <a:pt x="2939" y="109"/>
                </a:cubicBezTo>
                <a:cubicBezTo>
                  <a:pt x="3001" y="63"/>
                  <a:pt x="2969" y="0"/>
                  <a:pt x="2974" y="161"/>
                </a:cubicBezTo>
                <a:lnTo>
                  <a:pt x="2967" y="1073"/>
                </a:lnTo>
              </a:path>
            </a:pathLst>
          </a:custGeom>
          <a:solidFill>
            <a:srgbClr val="cecece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21"/>
          <p:cNvSpPr/>
          <p:nvPr/>
        </p:nvSpPr>
        <p:spPr>
          <a:xfrm>
            <a:off x="5903640" y="320040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Symbol"/>
                <a:ea typeface="Symbol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22"/>
          <p:cNvSpPr/>
          <p:nvPr/>
        </p:nvSpPr>
        <p:spPr>
          <a:xfrm>
            <a:off x="2209680" y="2666880"/>
            <a:ext cx="1828800" cy="1677960"/>
          </a:xfrm>
          <a:custGeom>
            <a:avLst/>
            <a:gdLst/>
            <a:ahLst/>
            <a:rect l="l" t="t" r="r" b="b"/>
            <a:pathLst>
              <a:path w="1152" h="1057">
                <a:moveTo>
                  <a:pt x="0" y="1057"/>
                </a:moveTo>
                <a:cubicBezTo>
                  <a:pt x="64" y="1057"/>
                  <a:pt x="128" y="1057"/>
                  <a:pt x="192" y="1009"/>
                </a:cubicBezTo>
                <a:cubicBezTo>
                  <a:pt x="256" y="961"/>
                  <a:pt x="336" y="865"/>
                  <a:pt x="384" y="769"/>
                </a:cubicBezTo>
                <a:cubicBezTo>
                  <a:pt x="432" y="673"/>
                  <a:pt x="454" y="546"/>
                  <a:pt x="480" y="433"/>
                </a:cubicBezTo>
                <a:cubicBezTo>
                  <a:pt x="506" y="320"/>
                  <a:pt x="524" y="164"/>
                  <a:pt x="540" y="92"/>
                </a:cubicBezTo>
                <a:cubicBezTo>
                  <a:pt x="556" y="20"/>
                  <a:pt x="562" y="0"/>
                  <a:pt x="576" y="1"/>
                </a:cubicBezTo>
                <a:cubicBezTo>
                  <a:pt x="590" y="2"/>
                  <a:pt x="608" y="25"/>
                  <a:pt x="624" y="97"/>
                </a:cubicBezTo>
                <a:cubicBezTo>
                  <a:pt x="640" y="169"/>
                  <a:pt x="656" y="345"/>
                  <a:pt x="672" y="433"/>
                </a:cubicBezTo>
                <a:cubicBezTo>
                  <a:pt x="688" y="521"/>
                  <a:pt x="696" y="553"/>
                  <a:pt x="720" y="625"/>
                </a:cubicBezTo>
                <a:cubicBezTo>
                  <a:pt x="744" y="697"/>
                  <a:pt x="776" y="801"/>
                  <a:pt x="816" y="865"/>
                </a:cubicBezTo>
                <a:cubicBezTo>
                  <a:pt x="856" y="929"/>
                  <a:pt x="904" y="977"/>
                  <a:pt x="960" y="1009"/>
                </a:cubicBezTo>
                <a:cubicBezTo>
                  <a:pt x="1016" y="1041"/>
                  <a:pt x="1084" y="1049"/>
                  <a:pt x="1152" y="1057"/>
                </a:cubicBezTo>
              </a:path>
            </a:pathLst>
          </a:custGeom>
          <a:solidFill>
            <a:srgbClr val="00ae00">
              <a:alpha val="5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23"/>
          <p:cNvSpPr/>
          <p:nvPr/>
        </p:nvSpPr>
        <p:spPr>
          <a:xfrm>
            <a:off x="3041280" y="3505320"/>
            <a:ext cx="43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Symbol"/>
                <a:ea typeface="Symbo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Freeform 24"/>
          <p:cNvSpPr/>
          <p:nvPr/>
        </p:nvSpPr>
        <p:spPr>
          <a:xfrm>
            <a:off x="3505320" y="2666880"/>
            <a:ext cx="1828800" cy="1677960"/>
          </a:xfrm>
          <a:custGeom>
            <a:avLst/>
            <a:gdLst/>
            <a:ahLst/>
            <a:rect l="l" t="t" r="r" b="b"/>
            <a:pathLst>
              <a:path w="1152" h="1057">
                <a:moveTo>
                  <a:pt x="0" y="1057"/>
                </a:moveTo>
                <a:cubicBezTo>
                  <a:pt x="64" y="1057"/>
                  <a:pt x="128" y="1057"/>
                  <a:pt x="192" y="1009"/>
                </a:cubicBezTo>
                <a:cubicBezTo>
                  <a:pt x="256" y="961"/>
                  <a:pt x="336" y="865"/>
                  <a:pt x="384" y="769"/>
                </a:cubicBezTo>
                <a:cubicBezTo>
                  <a:pt x="432" y="673"/>
                  <a:pt x="454" y="546"/>
                  <a:pt x="480" y="433"/>
                </a:cubicBezTo>
                <a:cubicBezTo>
                  <a:pt x="506" y="320"/>
                  <a:pt x="524" y="164"/>
                  <a:pt x="540" y="92"/>
                </a:cubicBezTo>
                <a:cubicBezTo>
                  <a:pt x="556" y="20"/>
                  <a:pt x="562" y="0"/>
                  <a:pt x="576" y="1"/>
                </a:cubicBezTo>
                <a:cubicBezTo>
                  <a:pt x="590" y="2"/>
                  <a:pt x="608" y="25"/>
                  <a:pt x="624" y="97"/>
                </a:cubicBezTo>
                <a:cubicBezTo>
                  <a:pt x="640" y="169"/>
                  <a:pt x="656" y="345"/>
                  <a:pt x="672" y="433"/>
                </a:cubicBezTo>
                <a:cubicBezTo>
                  <a:pt x="688" y="521"/>
                  <a:pt x="696" y="553"/>
                  <a:pt x="720" y="625"/>
                </a:cubicBezTo>
                <a:cubicBezTo>
                  <a:pt x="744" y="697"/>
                  <a:pt x="776" y="801"/>
                  <a:pt x="816" y="865"/>
                </a:cubicBezTo>
                <a:cubicBezTo>
                  <a:pt x="856" y="929"/>
                  <a:pt x="904" y="977"/>
                  <a:pt x="960" y="1009"/>
                </a:cubicBezTo>
                <a:cubicBezTo>
                  <a:pt x="1016" y="1041"/>
                  <a:pt x="1084" y="1049"/>
                  <a:pt x="1152" y="1057"/>
                </a:cubicBezTo>
              </a:path>
            </a:pathLst>
          </a:custGeom>
          <a:solidFill>
            <a:srgbClr val="00ae00">
              <a:alpha val="5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Freeform 25"/>
          <p:cNvSpPr/>
          <p:nvPr/>
        </p:nvSpPr>
        <p:spPr>
          <a:xfrm>
            <a:off x="4724280" y="2666880"/>
            <a:ext cx="1828800" cy="1677960"/>
          </a:xfrm>
          <a:custGeom>
            <a:avLst/>
            <a:gdLst/>
            <a:ahLst/>
            <a:rect l="l" t="t" r="r" b="b"/>
            <a:pathLst>
              <a:path w="1152" h="1057">
                <a:moveTo>
                  <a:pt x="0" y="1057"/>
                </a:moveTo>
                <a:cubicBezTo>
                  <a:pt x="64" y="1057"/>
                  <a:pt x="128" y="1057"/>
                  <a:pt x="192" y="1009"/>
                </a:cubicBezTo>
                <a:cubicBezTo>
                  <a:pt x="256" y="961"/>
                  <a:pt x="336" y="865"/>
                  <a:pt x="384" y="769"/>
                </a:cubicBezTo>
                <a:cubicBezTo>
                  <a:pt x="432" y="673"/>
                  <a:pt x="454" y="546"/>
                  <a:pt x="480" y="433"/>
                </a:cubicBezTo>
                <a:cubicBezTo>
                  <a:pt x="506" y="320"/>
                  <a:pt x="524" y="164"/>
                  <a:pt x="540" y="92"/>
                </a:cubicBezTo>
                <a:cubicBezTo>
                  <a:pt x="556" y="20"/>
                  <a:pt x="562" y="0"/>
                  <a:pt x="576" y="1"/>
                </a:cubicBezTo>
                <a:cubicBezTo>
                  <a:pt x="590" y="2"/>
                  <a:pt x="608" y="25"/>
                  <a:pt x="624" y="97"/>
                </a:cubicBezTo>
                <a:cubicBezTo>
                  <a:pt x="640" y="169"/>
                  <a:pt x="656" y="345"/>
                  <a:pt x="672" y="433"/>
                </a:cubicBezTo>
                <a:cubicBezTo>
                  <a:pt x="688" y="521"/>
                  <a:pt x="696" y="553"/>
                  <a:pt x="720" y="625"/>
                </a:cubicBezTo>
                <a:cubicBezTo>
                  <a:pt x="744" y="697"/>
                  <a:pt x="776" y="801"/>
                  <a:pt x="816" y="865"/>
                </a:cubicBezTo>
                <a:cubicBezTo>
                  <a:pt x="856" y="929"/>
                  <a:pt x="904" y="977"/>
                  <a:pt x="960" y="1009"/>
                </a:cubicBezTo>
                <a:cubicBezTo>
                  <a:pt x="1016" y="1041"/>
                  <a:pt x="1084" y="1049"/>
                  <a:pt x="1152" y="1057"/>
                </a:cubicBezTo>
              </a:path>
            </a:pathLst>
          </a:custGeom>
          <a:solidFill>
            <a:srgbClr val="00ae00">
              <a:alpha val="5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26"/>
          <p:cNvSpPr/>
          <p:nvPr/>
        </p:nvSpPr>
        <p:spPr>
          <a:xfrm>
            <a:off x="4335120" y="3505320"/>
            <a:ext cx="43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Symbol"/>
                <a:ea typeface="Symbo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27"/>
          <p:cNvSpPr/>
          <p:nvPr/>
        </p:nvSpPr>
        <p:spPr>
          <a:xfrm>
            <a:off x="5478120" y="3505320"/>
            <a:ext cx="43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Symbol"/>
                <a:ea typeface="Symbo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5486400" y="1219320"/>
            <a:ext cx="3200400" cy="11430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In-class Problem 2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onsider simulation data from a system having three energy level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 = 100 samples taken at </a:t>
            </a:r>
            <a:r>
              <a:rPr b="0" i="1" lang="el-GR" sz="2100" spc="-1" strike="noStrike">
                <a:solidFill>
                  <a:srgbClr val="000000"/>
                </a:solidFill>
                <a:latin typeface="Symbol"/>
                <a:ea typeface="Symbol"/>
              </a:rPr>
              <a:t>β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= 0.5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times observed in level i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What is </a:t>
            </a:r>
            <a:r>
              <a:rPr b="0" lang="en-US" sz="2400" spc="-1" strike="noStrike">
                <a:solidFill>
                  <a:srgbClr val="618ffd"/>
                </a:solidFill>
                <a:latin typeface="Symbol"/>
                <a:ea typeface="Symbol"/>
              </a:rPr>
              <a:t>Ω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(E)?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Object 4"/>
          <p:cNvGraphicFramePr/>
          <p:nvPr/>
        </p:nvGraphicFramePr>
        <p:xfrm>
          <a:off x="5715000" y="1295280"/>
          <a:ext cx="2730600" cy="97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1295280"/>
                    <a:ext cx="2730600" cy="9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5486400" y="1219320"/>
            <a:ext cx="3200400" cy="11430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In-class Problem 2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onsider simulation data from a system having three energy level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 = 100 samples taken at </a:t>
            </a:r>
            <a:r>
              <a:rPr b="0" i="1" lang="el-GR" sz="2100" spc="-1" strike="noStrike">
                <a:solidFill>
                  <a:srgbClr val="000000"/>
                </a:solidFill>
                <a:latin typeface="Symbol"/>
                <a:ea typeface="Symbol"/>
              </a:rPr>
              <a:t>β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= 0.5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times observed in level i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What is </a:t>
            </a:r>
            <a:r>
              <a:rPr b="0" lang="en-US" sz="2400" spc="-1" strike="noStrike">
                <a:solidFill>
                  <a:srgbClr val="618ffd"/>
                </a:solidFill>
                <a:latin typeface="Symbol"/>
                <a:ea typeface="Symbol"/>
              </a:rPr>
              <a:t>Ω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(E)?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Object 4"/>
          <p:cNvGraphicFramePr/>
          <p:nvPr/>
        </p:nvGraphicFramePr>
        <p:xfrm>
          <a:off x="5715000" y="1295280"/>
          <a:ext cx="2730600" cy="97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1295280"/>
                    <a:ext cx="2730600" cy="9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5"/>
          <p:cNvGraphicFramePr/>
          <p:nvPr/>
        </p:nvGraphicFramePr>
        <p:xfrm>
          <a:off x="4184640" y="2540160"/>
          <a:ext cx="1790640" cy="66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84640" y="2540160"/>
                    <a:ext cx="179064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Text Box 6"/>
          <p:cNvSpPr/>
          <p:nvPr/>
        </p:nvSpPr>
        <p:spPr>
          <a:xfrm>
            <a:off x="3048120" y="2681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Remi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9"/>
          <p:cNvSpPr/>
          <p:nvPr/>
        </p:nvSpPr>
        <p:spPr>
          <a:xfrm>
            <a:off x="5486400" y="1219320"/>
            <a:ext cx="3200400" cy="11430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In-class Problem 2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onsider simulation data from a system having three energy level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 = 100 samples taken at </a:t>
            </a:r>
            <a:r>
              <a:rPr b="0" i="1" lang="el-GR" sz="2100" spc="-1" strike="noStrike">
                <a:solidFill>
                  <a:srgbClr val="000000"/>
                </a:solidFill>
                <a:latin typeface="Symbol"/>
                <a:ea typeface="Symbol"/>
              </a:rPr>
              <a:t>β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= 0.5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times observed in level i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What is </a:t>
            </a:r>
            <a:r>
              <a:rPr b="0" lang="en-US" sz="2400" spc="-1" strike="noStrike">
                <a:solidFill>
                  <a:srgbClr val="618ffd"/>
                </a:solidFill>
                <a:latin typeface="Symbol"/>
                <a:ea typeface="Symbol"/>
              </a:rPr>
              <a:t>Ω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(E)?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Object 4"/>
          <p:cNvGraphicFramePr/>
          <p:nvPr/>
        </p:nvGraphicFramePr>
        <p:xfrm>
          <a:off x="5715000" y="1295280"/>
          <a:ext cx="2730600" cy="97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1295280"/>
                    <a:ext cx="2730600" cy="9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5"/>
          <p:cNvGraphicFramePr/>
          <p:nvPr/>
        </p:nvGraphicFramePr>
        <p:xfrm>
          <a:off x="4095720" y="2546280"/>
          <a:ext cx="196848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95720" y="2546280"/>
                    <a:ext cx="196848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Text Box 6"/>
          <p:cNvSpPr/>
          <p:nvPr/>
        </p:nvSpPr>
        <p:spPr>
          <a:xfrm>
            <a:off x="3048120" y="2681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H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6324480" y="25146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Can get only relative value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5T02:08:18Z</dcterms:created>
  <dc:creator>David A. Kofke</dc:creator>
  <dc:description/>
  <dc:language>en-US</dc:language>
  <cp:lastModifiedBy>David Kofke</cp:lastModifiedBy>
  <cp:lastPrinted>1999-09-22T22:06:24Z</cp:lastPrinted>
  <dcterms:modified xsi:type="dcterms:W3CDTF">2014-04-29T15:37:03Z</dcterms:modified>
  <cp:revision>91</cp:revision>
  <dc:subject/>
  <dc:title>CE 530 Molecular Simul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heme.buffalo.edu/courses/ce530</vt:lpwstr>
  </property>
  <property fmtid="{D5CDD505-2E9C-101B-9397-08002B2CF9AE}" pid="9" name="LinkColor">
    <vt:r8>16711782</vt:r8>
  </property>
  <property fmtid="{D5CDD505-2E9C-101B-9397-08002B2CF9AE}" pid="10" name="MailAddress">
    <vt:lpwstr>kofke@eng.buffalo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G:\Teaching\CE 530\Lectures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