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.docx" ContentType="application/vnd.openxmlformats-officedocument.wordprocessingml.documen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3.png" ContentType="image/png"/>
  <Override PartName="/ppt/media/image42.wmf" ContentType="image/x-wmf"/>
  <Override PartName="/ppt/media/image54.wmf" ContentType="image/x-wmf"/>
  <Override PartName="/ppt/media/image34.png" ContentType="image/png"/>
  <Override PartName="/ppt/media/image43.wmf" ContentType="image/x-wmf"/>
  <Override PartName="/ppt/media/image55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873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ae00"/>
              </a:buClr>
              <a:buFont typeface="Zapf Dingba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8920" y="88920"/>
            <a:ext cx="8966160" cy="668016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530560" y="152280"/>
            <a:ext cx="611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804E-E596-49A1-85D9-B56AF2A3583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 530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cture 19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ree-energy calculations: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stribution functions, precision and accurac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vid A. Kofke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partment of Chemical Engineering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NY Buffalo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ofke@eng.buffalo.edu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stribution-Function Relat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eviously we derived this resul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ake M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[u-(U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-U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]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Use definitions of p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and p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962000" y="1994040"/>
          <a:ext cx="274320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2000" y="1994040"/>
                    <a:ext cx="27432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905120" y="3809880"/>
          <a:ext cx="2577960" cy="10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809880"/>
                    <a:ext cx="257796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2133720" y="5556240"/>
          <a:ext cx="212076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5556240"/>
                    <a:ext cx="21207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3306600" y="3780000"/>
            <a:ext cx="797040" cy="288720"/>
          </a:xfrm>
          <a:prstGeom prst="rect">
            <a:avLst/>
          </a:prstGeom>
          <a:noFill/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48320" y="33523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his is u; the delta function lets us take it outside the 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114800" y="3657240"/>
            <a:ext cx="533520" cy="152280"/>
          </a:xfrm>
          <a:prstGeom prst="line">
            <a:avLst/>
          </a:prstGeom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stribution-Function Relat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eviously we derived this resul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ake M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[u-(U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-U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]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Use definitions of p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and p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962000" y="1994040"/>
          <a:ext cx="274320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2000" y="1994040"/>
                    <a:ext cx="27432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1905120" y="3809880"/>
          <a:ext cx="2577960" cy="10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809880"/>
                    <a:ext cx="257796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2133720" y="5556240"/>
          <a:ext cx="212076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5556240"/>
                    <a:ext cx="21207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2743200" y="4343400"/>
            <a:ext cx="1589040" cy="487440"/>
          </a:xfrm>
          <a:prstGeom prst="rect">
            <a:avLst/>
          </a:prstGeom>
          <a:noFill/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76920" y="42505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his is the free-energy 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343400" y="4419360"/>
            <a:ext cx="533520" cy="152280"/>
          </a:xfrm>
          <a:prstGeom prst="line">
            <a:avLst/>
          </a:prstGeom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715000" y="3505320"/>
            <a:ext cx="2819520" cy="685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stribution-Function Relat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eviously we derived this resul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ake M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[u-(U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-U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]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Use definitions of p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and p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962000" y="1994040"/>
          <a:ext cx="274320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2000" y="1994040"/>
                    <a:ext cx="27432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905120" y="3809880"/>
          <a:ext cx="2577960" cy="10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809880"/>
                    <a:ext cx="257796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2133720" y="5556240"/>
          <a:ext cx="212076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5556240"/>
                    <a:ext cx="21207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 rot="18471000">
            <a:off x="4041360" y="4951080"/>
            <a:ext cx="2209680" cy="247680"/>
          </a:xfrm>
          <a:prstGeom prst="rightArrow">
            <a:avLst>
              <a:gd name="adj1" fmla="val 50000"/>
              <a:gd name="adj2" fmla="val 223038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791320" y="3657600"/>
          <a:ext cx="266688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3657600"/>
                    <a:ext cx="2666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5181480" y="5333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rear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Using the p</a:t>
            </a:r>
            <a:r>
              <a:rPr b="0" lang="en-US" sz="3600" spc="-1" strike="noStrike" baseline="-25000">
                <a:solidFill>
                  <a:srgbClr val="fc0128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,p</a:t>
            </a:r>
            <a:r>
              <a:rPr b="0" lang="en-US" sz="3600" spc="-1" strike="noStrike" baseline="-25000">
                <a:solidFill>
                  <a:srgbClr val="fc0128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 Re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lation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s can be used to obtain the free-energy differen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everal equivalent formulatio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re sophisticated methods are availa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amine them later; present interest is using distributions to understand FEP performa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362320" y="762120"/>
          <a:ext cx="266688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762120"/>
                    <a:ext cx="2666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762120" y="3733920"/>
          <a:ext cx="4457520" cy="40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33920"/>
                    <a:ext cx="44575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685800" y="2197080"/>
          <a:ext cx="231156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2197080"/>
                    <a:ext cx="23115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3124080" y="2050560"/>
            <a:ext cx="2895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Plot ln[p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/p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] vs u; slope -</a:t>
            </a: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, intercept </a:t>
            </a: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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Requires that distributions have region of overl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67480" y="17524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53080" y="335268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8153280" y="3429000"/>
          <a:ext cx="163800" cy="17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153280" y="3429000"/>
                    <a:ext cx="16380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6629400" y="1600200"/>
          <a:ext cx="736560" cy="49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1600200"/>
                    <a:ext cx="7365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6553080" y="1981080"/>
            <a:ext cx="1676520" cy="11430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7391520" y="3429000"/>
          <a:ext cx="150840" cy="22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91520" y="3429000"/>
                    <a:ext cx="1508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8001000" y="2133720"/>
          <a:ext cx="442800" cy="26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01000" y="2133720"/>
                    <a:ext cx="44280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 flipH="1">
            <a:off x="7567560" y="2286000"/>
            <a:ext cx="433440" cy="25704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3657600"/>
            <a:ext cx="8229600" cy="0"/>
          </a:xfrm>
          <a:prstGeom prst="line">
            <a:avLst/>
          </a:prstGeom>
          <a:ln w="19080">
            <a:solidFill>
              <a:srgbClr val="618ff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4169880"/>
            <a:ext cx="4496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Plot lnp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u/2 and lnp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H 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u/2 vs. u on same plot; constant difference between is </a:t>
            </a: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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an be applied to nonoverlapping distributions if interpolating form is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543800" y="5562720"/>
          <a:ext cx="163440" cy="176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43800" y="5562720"/>
                    <a:ext cx="16344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6019920" y="3733920"/>
          <a:ext cx="736560" cy="493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19920" y="3733920"/>
                    <a:ext cx="7365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6781680" y="5562720"/>
          <a:ext cx="150840" cy="228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781680" y="5562720"/>
                    <a:ext cx="1508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7862760" y="4952880"/>
          <a:ext cx="443160" cy="265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62760" y="4952880"/>
                    <a:ext cx="44316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6019920" y="4572000"/>
            <a:ext cx="1612800" cy="685800"/>
          </a:xfrm>
          <a:custGeom>
            <a:avLst/>
            <a:gdLst/>
            <a:ahLst/>
            <a:rect l="l" t="t" r="r" b="b"/>
            <a:pathLst>
              <a:path w="1016" h="432">
                <a:moveTo>
                  <a:pt x="0" y="124"/>
                </a:moveTo>
                <a:cubicBezTo>
                  <a:pt x="14" y="111"/>
                  <a:pt x="45" y="66"/>
                  <a:pt x="86" y="45"/>
                </a:cubicBezTo>
                <a:cubicBezTo>
                  <a:pt x="127" y="24"/>
                  <a:pt x="173" y="0"/>
                  <a:pt x="248" y="0"/>
                </a:cubicBezTo>
                <a:cubicBezTo>
                  <a:pt x="323" y="0"/>
                  <a:pt x="448" y="16"/>
                  <a:pt x="536" y="48"/>
                </a:cubicBezTo>
                <a:cubicBezTo>
                  <a:pt x="624" y="80"/>
                  <a:pt x="696" y="128"/>
                  <a:pt x="776" y="192"/>
                </a:cubicBezTo>
                <a:cubicBezTo>
                  <a:pt x="856" y="256"/>
                  <a:pt x="936" y="344"/>
                  <a:pt x="1016" y="432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19920" y="4267080"/>
            <a:ext cx="1612800" cy="685800"/>
          </a:xfrm>
          <a:custGeom>
            <a:avLst/>
            <a:gdLst/>
            <a:ahLst/>
            <a:rect l="l" t="t" r="r" b="b"/>
            <a:pathLst>
              <a:path w="1016" h="432">
                <a:moveTo>
                  <a:pt x="0" y="124"/>
                </a:moveTo>
                <a:cubicBezTo>
                  <a:pt x="14" y="111"/>
                  <a:pt x="45" y="66"/>
                  <a:pt x="86" y="45"/>
                </a:cubicBezTo>
                <a:cubicBezTo>
                  <a:pt x="127" y="24"/>
                  <a:pt x="173" y="0"/>
                  <a:pt x="248" y="0"/>
                </a:cubicBezTo>
                <a:cubicBezTo>
                  <a:pt x="323" y="0"/>
                  <a:pt x="448" y="16"/>
                  <a:pt x="536" y="48"/>
                </a:cubicBezTo>
                <a:cubicBezTo>
                  <a:pt x="624" y="80"/>
                  <a:pt x="696" y="128"/>
                  <a:pt x="776" y="192"/>
                </a:cubicBezTo>
                <a:cubicBezTo>
                  <a:pt x="856" y="256"/>
                  <a:pt x="936" y="344"/>
                  <a:pt x="1016" y="432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20120" y="495288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16560 h 304920"/>
              <a:gd name="textAreaBottom" fmla="*/ 2883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13"/>
                  <a:pt x="10800" y="3825"/>
                </a:cubicBezTo>
                <a:lnTo>
                  <a:pt x="10800" y="6975"/>
                </a:lnTo>
                <a:cubicBezTo>
                  <a:pt x="10800" y="8888"/>
                  <a:pt x="16200" y="10800"/>
                  <a:pt x="21600" y="10800"/>
                </a:cubicBezTo>
                <a:cubicBezTo>
                  <a:pt x="16200" y="10800"/>
                  <a:pt x="10800" y="12713"/>
                  <a:pt x="10800" y="14625"/>
                </a:cubicBezTo>
                <a:lnTo>
                  <a:pt x="10800" y="17775"/>
                </a:lnTo>
                <a:cubicBezTo>
                  <a:pt x="10800" y="19688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43600" y="4191120"/>
            <a:ext cx="1143000" cy="30456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2217000">
            <a:off x="6490800" y="4830480"/>
            <a:ext cx="135576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0" y="388620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43600" y="54864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06960" y="4570560"/>
            <a:ext cx="795600" cy="198360"/>
          </a:xfrm>
          <a:custGeom>
            <a:avLst/>
            <a:gdLst/>
            <a:ahLst/>
            <a:rect l="l" t="t" r="r" b="b"/>
            <a:pathLst>
              <a:path w="501" h="125">
                <a:moveTo>
                  <a:pt x="0" y="125"/>
                </a:moveTo>
                <a:cubicBezTo>
                  <a:pt x="14" y="112"/>
                  <a:pt x="45" y="67"/>
                  <a:pt x="86" y="46"/>
                </a:cubicBezTo>
                <a:cubicBezTo>
                  <a:pt x="127" y="25"/>
                  <a:pt x="179" y="2"/>
                  <a:pt x="248" y="1"/>
                </a:cubicBezTo>
                <a:cubicBezTo>
                  <a:pt x="317" y="0"/>
                  <a:pt x="459" y="34"/>
                  <a:pt x="501" y="4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32600" y="4413240"/>
            <a:ext cx="587520" cy="539640"/>
          </a:xfrm>
          <a:custGeom>
            <a:avLst/>
            <a:gdLst/>
            <a:ahLst/>
            <a:rect l="l" t="t" r="r" b="b"/>
            <a:pathLst>
              <a:path w="370" h="340">
                <a:moveTo>
                  <a:pt x="0" y="0"/>
                </a:moveTo>
                <a:cubicBezTo>
                  <a:pt x="20" y="18"/>
                  <a:pt x="68" y="43"/>
                  <a:pt x="130" y="100"/>
                </a:cubicBezTo>
                <a:cubicBezTo>
                  <a:pt x="192" y="157"/>
                  <a:pt x="290" y="252"/>
                  <a:pt x="370" y="34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ccuracy and Precis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performance of FEP calculations from two perspectiv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ecis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producibility of the resul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ccurac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rrectness of the resul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hard-sphere deletion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alcul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good precision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errible accuracy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724280" y="2286000"/>
            <a:ext cx="2012400" cy="2045520"/>
            <a:chOff x="4724280" y="2286000"/>
            <a:chExt cx="2012400" cy="2045520"/>
          </a:xfrm>
        </p:grpSpPr>
        <p:grpSp>
          <p:nvGrpSpPr>
            <p:cNvPr id="341" name=""/>
            <p:cNvGrpSpPr/>
            <p:nvPr/>
          </p:nvGrpSpPr>
          <p:grpSpPr>
            <a:xfrm>
              <a:off x="4724280" y="2286000"/>
              <a:ext cx="2012400" cy="2045520"/>
              <a:chOff x="4724280" y="2286000"/>
              <a:chExt cx="2012400" cy="2045520"/>
            </a:xfrm>
          </p:grpSpPr>
          <p:sp>
            <p:nvSpPr>
              <p:cNvPr id="342" name=""/>
              <p:cNvSpPr/>
              <p:nvPr/>
            </p:nvSpPr>
            <p:spPr>
              <a:xfrm>
                <a:off x="4724280" y="2286000"/>
                <a:ext cx="2012400" cy="2045520"/>
              </a:xfrm>
              <a:prstGeom prst="ellipse">
                <a:avLst/>
              </a:prstGeom>
              <a:solidFill>
                <a:srgbClr val="99ccff"/>
              </a:solidFill>
              <a:ln w="22320">
                <a:solidFill>
                  <a:srgbClr val="618ffd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078520" y="2622600"/>
                <a:ext cx="1342080" cy="136332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421960" y="2959200"/>
                <a:ext cx="699120" cy="7074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41280" y="3272400"/>
                <a:ext cx="88200" cy="89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6242760" y="3504240"/>
              <a:ext cx="250920" cy="324360"/>
              <a:chOff x="6242760" y="3504240"/>
              <a:chExt cx="250920" cy="324360"/>
            </a:xfrm>
          </p:grpSpPr>
          <p:sp>
            <p:nvSpPr>
              <p:cNvPr id="347" name=""/>
              <p:cNvSpPr/>
              <p:nvPr/>
            </p:nvSpPr>
            <p:spPr>
              <a:xfrm>
                <a:off x="6242760" y="3666600"/>
                <a:ext cx="79920" cy="80640"/>
              </a:xfrm>
              <a:custGeom>
                <a:avLst/>
                <a:gdLst>
                  <a:gd name="textAreaLeft" fmla="*/ 18000 w 79920"/>
                  <a:gd name="textAreaRight" fmla="*/ 61920 w 79920"/>
                  <a:gd name="textAreaTop" fmla="*/ 18360 h 80640"/>
                  <a:gd name="textAreaBottom" fmla="*/ 62280 h 80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414120" y="3701880"/>
                <a:ext cx="79560" cy="81000"/>
              </a:xfrm>
              <a:custGeom>
                <a:avLst/>
                <a:gdLst>
                  <a:gd name="textAreaLeft" fmla="*/ 18000 w 79560"/>
                  <a:gd name="textAreaRight" fmla="*/ 61560 w 79560"/>
                  <a:gd name="textAreaTop" fmla="*/ 18360 h 81000"/>
                  <a:gd name="textAreaBottom" fmla="*/ 62640 h 81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322680" y="3747600"/>
                <a:ext cx="79920" cy="81000"/>
              </a:xfrm>
              <a:custGeom>
                <a:avLst/>
                <a:gdLst>
                  <a:gd name="textAreaLeft" fmla="*/ 18000 w 79920"/>
                  <a:gd name="textAreaRight" fmla="*/ 61920 w 79920"/>
                  <a:gd name="textAreaTop" fmla="*/ 18360 h 81000"/>
                  <a:gd name="textAreaBottom" fmla="*/ 62640 h 81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322680" y="3666600"/>
                <a:ext cx="79920" cy="80640"/>
              </a:xfrm>
              <a:custGeom>
                <a:avLst/>
                <a:gdLst>
                  <a:gd name="textAreaLeft" fmla="*/ 18000 w 79920"/>
                  <a:gd name="textAreaRight" fmla="*/ 61920 w 79920"/>
                  <a:gd name="textAreaTop" fmla="*/ 18360 h 80640"/>
                  <a:gd name="textAreaBottom" fmla="*/ 62280 h 80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322680" y="3504240"/>
                <a:ext cx="79920" cy="81000"/>
              </a:xfrm>
              <a:custGeom>
                <a:avLst/>
                <a:gdLst>
                  <a:gd name="textAreaLeft" fmla="*/ 18000 w 79920"/>
                  <a:gd name="textAreaRight" fmla="*/ 61920 w 79920"/>
                  <a:gd name="textAreaTop" fmla="*/ 18360 h 81000"/>
                  <a:gd name="textAreaBottom" fmla="*/ 62640 h 81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2" name=""/>
          <p:cNvGrpSpPr/>
          <p:nvPr/>
        </p:nvGrpSpPr>
        <p:grpSpPr>
          <a:xfrm>
            <a:off x="4724280" y="4495680"/>
            <a:ext cx="2010960" cy="2045880"/>
            <a:chOff x="4724280" y="4495680"/>
            <a:chExt cx="2010960" cy="2045880"/>
          </a:xfrm>
        </p:grpSpPr>
        <p:grpSp>
          <p:nvGrpSpPr>
            <p:cNvPr id="353" name=""/>
            <p:cNvGrpSpPr/>
            <p:nvPr/>
          </p:nvGrpSpPr>
          <p:grpSpPr>
            <a:xfrm>
              <a:off x="4724280" y="4495680"/>
              <a:ext cx="2010960" cy="2045880"/>
              <a:chOff x="4724280" y="4495680"/>
              <a:chExt cx="2010960" cy="2045880"/>
            </a:xfrm>
          </p:grpSpPr>
          <p:sp>
            <p:nvSpPr>
              <p:cNvPr id="354" name=""/>
              <p:cNvSpPr/>
              <p:nvPr/>
            </p:nvSpPr>
            <p:spPr>
              <a:xfrm>
                <a:off x="4724280" y="4495680"/>
                <a:ext cx="2010960" cy="2045880"/>
              </a:xfrm>
              <a:prstGeom prst="ellipse">
                <a:avLst/>
              </a:prstGeom>
              <a:solidFill>
                <a:srgbClr val="99ccff"/>
              </a:solidFill>
              <a:ln w="22320">
                <a:solidFill>
                  <a:srgbClr val="8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" name=""/>
              <p:cNvGrpSpPr/>
              <p:nvPr/>
            </p:nvGrpSpPr>
            <p:grpSpPr>
              <a:xfrm>
                <a:off x="5078520" y="4832280"/>
                <a:ext cx="1340280" cy="1363320"/>
                <a:chOff x="5078520" y="4832280"/>
                <a:chExt cx="1340280" cy="13633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5078520" y="4832280"/>
                  <a:ext cx="1340280" cy="136332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421240" y="5168520"/>
                  <a:ext cx="698400" cy="70740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740200" y="5481720"/>
                  <a:ext cx="88200" cy="896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9" name=""/>
            <p:cNvGrpSpPr/>
            <p:nvPr/>
          </p:nvGrpSpPr>
          <p:grpSpPr>
            <a:xfrm>
              <a:off x="5536800" y="5308560"/>
              <a:ext cx="480240" cy="487080"/>
              <a:chOff x="5536800" y="5308560"/>
              <a:chExt cx="480240" cy="487080"/>
            </a:xfrm>
          </p:grpSpPr>
          <p:sp>
            <p:nvSpPr>
              <p:cNvPr id="360" name=""/>
              <p:cNvSpPr/>
              <p:nvPr/>
            </p:nvSpPr>
            <p:spPr>
              <a:xfrm>
                <a:off x="5536800" y="5389200"/>
                <a:ext cx="79920" cy="81360"/>
              </a:xfrm>
              <a:custGeom>
                <a:avLst/>
                <a:gdLst>
                  <a:gd name="textAreaLeft" fmla="*/ 18000 w 79920"/>
                  <a:gd name="textAreaRight" fmla="*/ 61920 w 79920"/>
                  <a:gd name="textAreaTop" fmla="*/ 18360 h 81360"/>
                  <a:gd name="textAreaBottom" fmla="*/ 63000 h 8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20040" y="5460840"/>
                <a:ext cx="79920" cy="80640"/>
              </a:xfrm>
              <a:custGeom>
                <a:avLst/>
                <a:gdLst>
                  <a:gd name="textAreaLeft" fmla="*/ 18000 w 79920"/>
                  <a:gd name="textAreaRight" fmla="*/ 61920 w 79920"/>
                  <a:gd name="textAreaTop" fmla="*/ 18360 h 80640"/>
                  <a:gd name="textAreaBottom" fmla="*/ 62280 h 80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696640" y="5632920"/>
                <a:ext cx="79920" cy="81360"/>
              </a:xfrm>
              <a:custGeom>
                <a:avLst/>
                <a:gdLst>
                  <a:gd name="textAreaLeft" fmla="*/ 18000 w 79920"/>
                  <a:gd name="textAreaRight" fmla="*/ 61920 w 79920"/>
                  <a:gd name="textAreaTop" fmla="*/ 18360 h 81360"/>
                  <a:gd name="textAreaBottom" fmla="*/ 63000 h 8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857200" y="5308560"/>
                <a:ext cx="79560" cy="80640"/>
              </a:xfrm>
              <a:custGeom>
                <a:avLst/>
                <a:gdLst>
                  <a:gd name="textAreaLeft" fmla="*/ 18000 w 79560"/>
                  <a:gd name="textAreaRight" fmla="*/ 61560 w 79560"/>
                  <a:gd name="textAreaTop" fmla="*/ 18360 h 80640"/>
                  <a:gd name="textAreaBottom" fmla="*/ 62280 h 80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937120" y="5714280"/>
                <a:ext cx="79920" cy="81360"/>
              </a:xfrm>
              <a:custGeom>
                <a:avLst/>
                <a:gdLst>
                  <a:gd name="textAreaLeft" fmla="*/ 18000 w 79920"/>
                  <a:gd name="textAreaRight" fmla="*/ 61920 w 79920"/>
                  <a:gd name="textAreaTop" fmla="*/ 18360 h 81360"/>
                  <a:gd name="textAreaBottom" fmla="*/ 63000 h 8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5" name=""/>
          <p:cNvSpPr/>
          <p:nvPr/>
        </p:nvSpPr>
        <p:spPr>
          <a:xfrm>
            <a:off x="6781680" y="29016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Precise, but not accu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81680" y="51811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ccurate, but less prec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172200" y="5791320"/>
            <a:ext cx="1981080" cy="685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5791320"/>
            <a:ext cx="1981440" cy="685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ail Contributions in FEP Calculat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mine contributions to FEP averag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295280" y="2743200"/>
          <a:ext cx="22226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22226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5189400" y="2285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Generalized de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4402080" y="3338640"/>
            <a:ext cx="3675240" cy="27572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762120" y="3338640"/>
            <a:ext cx="3674880" cy="27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"/>
          <p:cNvGraphicFramePr/>
          <p:nvPr/>
        </p:nvGraphicFramePr>
        <p:xfrm>
          <a:off x="5164200" y="2743200"/>
          <a:ext cx="2184480" cy="40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64200" y="2743200"/>
                    <a:ext cx="21844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1332720" y="22096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Generalized inser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5791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arge contribution from tail at small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762120" y="4647960"/>
            <a:ext cx="685800" cy="106668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48520" y="5791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arge contribution from tail at large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7009920" y="4267080"/>
            <a:ext cx="838440" cy="14479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375080" y="5257800"/>
            <a:ext cx="1720800" cy="1447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accuracy in FEP Calculations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in source of inaccuracy is inadequate sampling of tai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del inaccuracy by assuming all error is due to missing tail contrib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378240" y="2057400"/>
            <a:ext cx="3429000" cy="10969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387" name=""/>
          <p:cNvSpPr/>
          <p:nvPr/>
        </p:nvSpPr>
        <p:spPr>
          <a:xfrm>
            <a:off x="3505320" y="3260880"/>
            <a:ext cx="1371600" cy="793440"/>
          </a:xfrm>
          <a:prstGeom prst="rect">
            <a:avLst/>
          </a:prstGeom>
          <a:noFill/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30520" y="3108240"/>
            <a:ext cx="279360" cy="244440"/>
          </a:xfrm>
          <a:prstGeom prst="line">
            <a:avLst/>
          </a:prstGeom>
          <a:ln w="93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973760" y="228492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34120" y="2880000"/>
            <a:ext cx="322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45560" y="2851560"/>
            <a:ext cx="322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33440" y="2286000"/>
          <a:ext cx="1816200" cy="74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3440" y="2286000"/>
                    <a:ext cx="18162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3505320" y="3227400"/>
          <a:ext cx="2921040" cy="81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3227400"/>
                    <a:ext cx="292104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5105520" y="3247920"/>
            <a:ext cx="1371600" cy="790560"/>
          </a:xfrm>
          <a:prstGeom prst="rect">
            <a:avLst/>
          </a:prstGeom>
          <a:noFill/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3124080"/>
            <a:ext cx="76320" cy="282600"/>
          </a:xfrm>
          <a:prstGeom prst="line">
            <a:avLst/>
          </a:prstGeom>
          <a:ln w="93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90720" y="36576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argest contribution to insertion inaccu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200400" y="3657240"/>
            <a:ext cx="304920" cy="15228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05720" y="3733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argest contribution to deletion inaccu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6476760" y="3886200"/>
            <a:ext cx="228600" cy="763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914400" y="5257800"/>
          <a:ext cx="5130720" cy="773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4400" y="5257800"/>
                    <a:ext cx="513072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1022400" y="5935680"/>
          <a:ext cx="5029200" cy="787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22400" y="5935680"/>
                    <a:ext cx="50292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6172200" y="5484960"/>
            <a:ext cx="2743200" cy="9169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naccuracy in each method is given by area under curve for other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accuracy in FEP Calculations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issing tail contribu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lative inaccurac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71640" y="5029200"/>
            <a:ext cx="579096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48240" y="5029200"/>
            <a:ext cx="221436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047600" y="5029200"/>
          <a:ext cx="57294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0" y="5029200"/>
                    <a:ext cx="57294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971640" y="5867280"/>
            <a:ext cx="579096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48240" y="5867280"/>
            <a:ext cx="221436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066680" y="5867280"/>
          <a:ext cx="5691240" cy="6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867280"/>
                    <a:ext cx="569124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5867280" y="2514600"/>
            <a:ext cx="2819520" cy="2163600"/>
            <a:chOff x="5867280" y="2514600"/>
            <a:chExt cx="2819520" cy="2163600"/>
          </a:xfrm>
        </p:grpSpPr>
        <p:grpSp>
          <p:nvGrpSpPr>
            <p:cNvPr id="418" name=""/>
            <p:cNvGrpSpPr/>
            <p:nvPr/>
          </p:nvGrpSpPr>
          <p:grpSpPr>
            <a:xfrm>
              <a:off x="5867280" y="2514600"/>
              <a:ext cx="2819520" cy="2163600"/>
              <a:chOff x="5867280" y="2514600"/>
              <a:chExt cx="2819520" cy="2163600"/>
            </a:xfrm>
          </p:grpSpPr>
          <p:pic>
            <p:nvPicPr>
              <p:cNvPr id="41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67280" y="2514600"/>
                <a:ext cx="2819520" cy="187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0" name=""/>
              <p:cNvSpPr/>
              <p:nvPr/>
            </p:nvSpPr>
            <p:spPr>
              <a:xfrm>
                <a:off x="5910120" y="4294800"/>
                <a:ext cx="368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800080"/>
                    </a:solidFill>
                    <a:latin typeface="Times New Roman"/>
                  </a:rPr>
                  <a:t>u</a:t>
                </a:r>
                <a:r>
                  <a:rPr b="0" i="1" lang="en-US" sz="1600" spc="-1" strike="noStrike" baseline="-25000">
                    <a:solidFill>
                      <a:srgbClr val="80008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161120" y="4307400"/>
                <a:ext cx="4590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800080"/>
                    </a:solidFill>
                    <a:latin typeface="Times New Roman"/>
                  </a:rPr>
                  <a:t>u</a:t>
                </a:r>
                <a:r>
                  <a:rPr b="0" i="1" lang="en-US" sz="1600" spc="-1" strike="noStrike" baseline="-25000">
                    <a:solidFill>
                      <a:srgbClr val="800080"/>
                    </a:solidFill>
                    <a:latin typeface="Times New Roman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6003720" y="3162960"/>
                <a:ext cx="1531800" cy="964440"/>
                <a:chOff x="6003720" y="3162960"/>
                <a:chExt cx="1531800" cy="9644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6361200" y="3162960"/>
                  <a:ext cx="117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800080"/>
                      </a:solidFill>
                      <a:latin typeface="Times New Roman"/>
                    </a:rPr>
                    <a:t>inaccurac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>
                  <a:off x="6003720" y="3503160"/>
                  <a:ext cx="588600" cy="572040"/>
                </a:xfrm>
                <a:prstGeom prst="line">
                  <a:avLst/>
                </a:prstGeom>
                <a:ln w="9360">
                  <a:solidFill>
                    <a:srgbClr val="8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272000" y="3503160"/>
                  <a:ext cx="226080" cy="624240"/>
                </a:xfrm>
                <a:prstGeom prst="line">
                  <a:avLst/>
                </a:prstGeom>
                <a:ln w="9360">
                  <a:solidFill>
                    <a:srgbClr val="8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6" name=""/>
            <p:cNvSpPr/>
            <p:nvPr/>
          </p:nvSpPr>
          <p:spPr>
            <a:xfrm>
              <a:off x="7496280" y="371412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9933"/>
                  </a:solidFill>
                  <a:latin typeface="Times New Roman"/>
                </a:rPr>
                <a:t>p</a:t>
              </a:r>
              <a:r>
                <a:rPr b="0" i="1" lang="en-US" sz="1800" spc="-1" strike="noStrike" baseline="-25000">
                  <a:solidFill>
                    <a:srgbClr val="339933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3600" y="2799720"/>
              <a:ext cx="52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9933"/>
                  </a:solidFill>
                  <a:latin typeface="Times New Roman"/>
                </a:rPr>
                <a:t>p</a:t>
              </a:r>
              <a:r>
                <a:rPr b="0" i="1" lang="en-US" sz="1800" spc="-1" strike="noStrike" baseline="-25000">
                  <a:solidFill>
                    <a:srgbClr val="339933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6781680" y="5073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nsertion overestima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81680" y="5911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Deletion underestima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33520" y="2057400"/>
            <a:ext cx="5181480" cy="1465200"/>
            <a:chOff x="533520" y="2057400"/>
            <a:chExt cx="5181480" cy="1465200"/>
          </a:xfrm>
        </p:grpSpPr>
        <p:sp>
          <p:nvSpPr>
            <p:cNvPr id="431" name=""/>
            <p:cNvSpPr/>
            <p:nvPr/>
          </p:nvSpPr>
          <p:spPr>
            <a:xfrm>
              <a:off x="3994200" y="2057400"/>
              <a:ext cx="1720800" cy="14479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32" name=""/>
            <p:cNvGraphicFramePr/>
            <p:nvPr/>
          </p:nvGraphicFramePr>
          <p:xfrm>
            <a:off x="533520" y="2057400"/>
            <a:ext cx="5130720" cy="773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3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2057400"/>
                      <a:ext cx="5130720" cy="7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4" name=""/>
            <p:cNvGraphicFramePr/>
            <p:nvPr/>
          </p:nvGraphicFramePr>
          <p:xfrm>
            <a:off x="641520" y="2735280"/>
            <a:ext cx="5029200" cy="787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41520" y="2735280"/>
                      <a:ext cx="50292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6" name=""/>
          <p:cNvSpPr/>
          <p:nvPr/>
        </p:nvSpPr>
        <p:spPr>
          <a:xfrm>
            <a:off x="5867280" y="1447920"/>
            <a:ext cx="2743200" cy="9169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naccuracy in each method is given by area under curve for other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symmetry of the Inaccuracy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opposite tendency of the insertion/deletion inaccuracy leads to statements like thes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forward and reverse [inaccuracy] should be of the same magnitude and opposite sign”    </a:t>
            </a:r>
            <a:r>
              <a:rPr b="0" i="1" lang="en-US" sz="1400" spc="-1" strike="noStrike">
                <a:solidFill>
                  <a:srgbClr val="800080"/>
                </a:solidFill>
                <a:latin typeface="Times New Roman"/>
              </a:rPr>
              <a:t>J. Phys. Chem., 98, 1487-1493,1999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free energy change was taken as the average of the forward and reverse free energies.”   </a:t>
            </a:r>
            <a:r>
              <a:rPr b="0" i="1" lang="en-US" sz="1400" spc="-1" strike="noStrike">
                <a:solidFill>
                  <a:srgbClr val="800080"/>
                </a:solidFill>
                <a:latin typeface="Times New Roman"/>
              </a:rPr>
              <a:t>J Comp. Chem., 20, 499-510, 1999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member the asymmetry of the hard-sphere insertion/deletion method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 insertion, e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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is zero until a non-overlap is complete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 deletion e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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is always un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veraging the insertion and deletion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’s would be ba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symmetry of the Inaccuracy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1800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618ffd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618ffd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have different varianc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8440" indent="-298440">
              <a:spcBef>
                <a:spcPts val="1800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ference with 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roader distribution 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ves more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ccurate resul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8440" indent="-298440">
              <a:spcBef>
                <a:spcPts val="11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arge entropy 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ference has larger 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variance hence 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ves more 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ccurate resul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8440" indent="-298440">
              <a:spcBef>
                <a:spcPts val="11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sertion is more reliable than dele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81280" y="2209680"/>
            <a:ext cx="5257800" cy="2819520"/>
          </a:xfrm>
          <a:prstGeom prst="roundRect">
            <a:avLst>
              <a:gd name="adj" fmla="val 1092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727440" y="2333520"/>
            <a:ext cx="2122560" cy="1163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6496200" y="2333520"/>
            <a:ext cx="2122200" cy="11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</p:pic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6510240" y="3780000"/>
            <a:ext cx="2122560" cy="115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</p:pic>
      <p:sp>
        <p:nvSpPr>
          <p:cNvPr id="445" name=""/>
          <p:cNvSpPr/>
          <p:nvPr/>
        </p:nvSpPr>
        <p:spPr>
          <a:xfrm>
            <a:off x="3924360" y="3857760"/>
            <a:ext cx="1942920" cy="914400"/>
          </a:xfrm>
          <a:prstGeom prst="roundRect">
            <a:avLst>
              <a:gd name="adj" fmla="val 16667"/>
            </a:avLst>
          </a:prstGeom>
          <a:solidFill>
            <a:srgbClr val="cecece"/>
          </a:solidFill>
          <a:ln w="0">
            <a:noFill/>
          </a:ln>
          <a:effectLst>
            <a:outerShdw dist="17819" dir="2700000" blurRad="0" rotWithShape="0">
              <a:srgbClr val="7b7b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057560" y="3949560"/>
            <a:ext cx="381240" cy="304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92080" y="3932640"/>
            <a:ext cx="137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i="1" lang="en-US" sz="1600" spc="-1" strike="noStrike" baseline="-25000">
                <a:solidFill>
                  <a:srgbClr val="339933"/>
                </a:solidFill>
                <a:latin typeface="Times New Roman"/>
              </a:rPr>
              <a:t>H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 inaccu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057560" y="4371840"/>
            <a:ext cx="381240" cy="304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4354920"/>
            <a:ext cx="1447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i="1" lang="en-US" sz="1600" spc="-1" strike="noStrike" baseline="-25000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 inaccu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19920" y="2790720"/>
            <a:ext cx="380880" cy="152640"/>
          </a:xfrm>
          <a:prstGeom prst="rightArrow">
            <a:avLst>
              <a:gd name="adj1" fmla="val 50000"/>
              <a:gd name="adj2" fmla="val 62382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553160" y="3495600"/>
            <a:ext cx="152640" cy="266760"/>
          </a:xfrm>
          <a:prstGeom prst="downArrow">
            <a:avLst>
              <a:gd name="adj1" fmla="val 50000"/>
              <a:gd name="adj2" fmla="val 4369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29000" y="17668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mprovement of accuracies as length of simulation grow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eview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l useful free-energy methods compute free-energy differenc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ral approaches have been develop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EP gives free-energy difference via an ensemble averag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symmetric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Deletion method is awful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 approaches to basic multistaging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mbrella sampling, Bennett’s method, staged insertion/dele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rmodynamic integration uses dA/d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= &lt;dU/d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ymmetric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arameter hopping treats perturbation variable as an extension of phase spa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ime spent at different values relates to their free-energy differe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Predicting Inaccurac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ximum likelihood analysi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sider most likely outcome for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imulation with length 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eed most likely values for u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probability that largest 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letion energy is some value, u*,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fter M attempted dele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ximize with respect to u*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95680" y="4876920"/>
            <a:ext cx="3048120" cy="1752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5943600" y="762120"/>
            <a:ext cx="2819520" cy="2163600"/>
            <a:chOff x="5943600" y="762120"/>
            <a:chExt cx="2819520" cy="2163600"/>
          </a:xfrm>
        </p:grpSpPr>
        <p:grpSp>
          <p:nvGrpSpPr>
            <p:cNvPr id="457" name=""/>
            <p:cNvGrpSpPr/>
            <p:nvPr/>
          </p:nvGrpSpPr>
          <p:grpSpPr>
            <a:xfrm>
              <a:off x="5943600" y="762120"/>
              <a:ext cx="2819520" cy="2163600"/>
              <a:chOff x="5943600" y="762120"/>
              <a:chExt cx="2819520" cy="2163600"/>
            </a:xfrm>
          </p:grpSpPr>
          <p:pic>
            <p:nvPicPr>
              <p:cNvPr id="4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943600" y="762120"/>
                <a:ext cx="2819520" cy="187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5986440" y="2542320"/>
                <a:ext cx="368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800080"/>
                    </a:solidFill>
                    <a:latin typeface="Times New Roman"/>
                  </a:rPr>
                  <a:t>u</a:t>
                </a:r>
                <a:r>
                  <a:rPr b="0" i="1" lang="en-US" sz="1600" spc="-1" strike="noStrike" baseline="-25000">
                    <a:solidFill>
                      <a:srgbClr val="80008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37440" y="2554920"/>
                <a:ext cx="4590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800080"/>
                    </a:solidFill>
                    <a:latin typeface="Times New Roman"/>
                  </a:rPr>
                  <a:t>u</a:t>
                </a:r>
                <a:r>
                  <a:rPr b="0" i="1" lang="en-US" sz="1600" spc="-1" strike="noStrike" baseline="-25000">
                    <a:solidFill>
                      <a:srgbClr val="800080"/>
                    </a:solidFill>
                    <a:latin typeface="Times New Roman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6080040" y="1410480"/>
                <a:ext cx="1531800" cy="964440"/>
                <a:chOff x="6080040" y="1410480"/>
                <a:chExt cx="1531800" cy="96444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6437520" y="1410480"/>
                  <a:ext cx="117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800080"/>
                      </a:solidFill>
                      <a:latin typeface="Times New Roman"/>
                    </a:rPr>
                    <a:t>inaccurac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>
                  <a:off x="6080040" y="1750680"/>
                  <a:ext cx="588600" cy="572040"/>
                </a:xfrm>
                <a:prstGeom prst="line">
                  <a:avLst/>
                </a:prstGeom>
                <a:ln w="9360">
                  <a:solidFill>
                    <a:srgbClr val="8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348320" y="1750680"/>
                  <a:ext cx="226080" cy="624240"/>
                </a:xfrm>
                <a:prstGeom prst="line">
                  <a:avLst/>
                </a:prstGeom>
                <a:ln w="9360">
                  <a:solidFill>
                    <a:srgbClr val="8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5" name=""/>
            <p:cNvSpPr/>
            <p:nvPr/>
          </p:nvSpPr>
          <p:spPr>
            <a:xfrm>
              <a:off x="7572600" y="196164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9933"/>
                  </a:solidFill>
                  <a:latin typeface="Times New Roman"/>
                </a:rPr>
                <a:t>p</a:t>
              </a:r>
              <a:r>
                <a:rPr b="0" i="1" lang="en-US" sz="1800" spc="-1" strike="noStrike" baseline="-25000">
                  <a:solidFill>
                    <a:srgbClr val="339933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019920" y="1047240"/>
              <a:ext cx="52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9933"/>
                  </a:solidFill>
                  <a:latin typeface="Times New Roman"/>
                </a:rPr>
                <a:t>p</a:t>
              </a:r>
              <a:r>
                <a:rPr b="0" i="1" lang="en-US" sz="1800" spc="-1" strike="noStrike" baseline="-25000">
                  <a:solidFill>
                    <a:srgbClr val="339933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67" name=""/>
          <p:cNvGraphicFramePr/>
          <p:nvPr/>
        </p:nvGraphicFramePr>
        <p:xfrm>
          <a:off x="1041480" y="3543480"/>
          <a:ext cx="6478560" cy="118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1480" y="3543480"/>
                    <a:ext cx="647856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4572000" y="5105520"/>
          <a:ext cx="2832120" cy="66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5105520"/>
                    <a:ext cx="28321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4610160" y="5867280"/>
          <a:ext cx="2781360" cy="660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10160" y="5867280"/>
                    <a:ext cx="278136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5181480" y="4102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imilar formula derived for inser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3429000" y="2347920"/>
            <a:ext cx="5554800" cy="3747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esting Inaccuracy Model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240" y="9763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C Sim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V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(N-1) LJ + 1 HS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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N LJ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HS diameter = 0.8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 = 2.0; 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0.9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imulation repeats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up to 200 ru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3886200"/>
            <a:ext cx="25909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90720" y="388620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11360" y="439416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66680" y="4267080"/>
            <a:ext cx="38124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43000" y="46483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25760" y="42670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66680" y="510552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828800" y="51055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09680" y="4267080"/>
            <a:ext cx="38124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35240" y="477504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11560" y="515628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76520" y="56386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38280" y="5638680"/>
            <a:ext cx="38124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47242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54100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28800" y="39625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19520" y="57913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373392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09680" y="3809880"/>
            <a:ext cx="38124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95280" y="601992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5638680"/>
            <a:ext cx="38124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09680" y="601992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5181480"/>
            <a:ext cx="38124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60199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971800" y="46483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0240" y="561348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2120" y="480060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447920" y="49528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33520" y="38098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43200" y="434340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743200" y="53341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90920" y="39625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52480" y="601992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66880" y="487692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057400" y="5486400"/>
            <a:ext cx="380880" cy="3808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33720" y="55627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3" name=""/>
          <p:cNvGraphicFramePr/>
          <p:nvPr/>
        </p:nvGraphicFramePr>
        <p:xfrm>
          <a:off x="3048120" y="3075120"/>
          <a:ext cx="1819080" cy="50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075120"/>
                    <a:ext cx="1819080" cy="506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5181480" y="3165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nsertion only (</a:t>
            </a: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 &lt; 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Knowing Your Inaccurac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ow can the accuracy of a simulation result be assessed if the simulation is inaccurate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mpare to precision calculation where simulation data (variance) are used to provide confidence limit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most-likely inaccuracy for HS inser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ostulate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~ (Me</a:t>
            </a:r>
            <a:r>
              <a:rPr b="0" lang="en-US" sz="2400" spc="-1" strike="noStrike" baseline="30000">
                <a:solidFill>
                  <a:srgbClr val="618ffd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for continuous distribu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valuate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 accuracy using simulation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ut simulation gives ‘incorrect’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enerally, simulation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 &lt; true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S(sim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&gt; e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S(true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us ‘incorrect’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 indicates larger erro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afe estimate of inaccurac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ives (probabilistic) upper bound of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 inaccurac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3276720" y="3505320"/>
            <a:ext cx="5673600" cy="31161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est of Postulated Form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282600" indent="-1681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C simulations with various conditio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1681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peat simulations for up to 100 independent ru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1681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ery long simulation generates pseudo true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1681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alculate entropy change, error-bar, inaccuracy etc.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3352680" y="1447920"/>
          <a:ext cx="5631120" cy="1990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1447920"/>
                    <a:ext cx="5631120" cy="19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est of Postulated Form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282600" indent="-1681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C simulations with various conditio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1681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peat simulations for up to 100 independent ru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1681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ery long simulation generates pseudo true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1681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alculate entropy change, error-bar, inaccuracy etc.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3352680" y="1447920"/>
          <a:ext cx="5631120" cy="199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447920"/>
                    <a:ext cx="5631120" cy="19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3276720" y="3468600"/>
            <a:ext cx="5703840" cy="3160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528" name=""/>
          <p:cNvSpPr/>
          <p:nvPr/>
        </p:nvSpPr>
        <p:spPr>
          <a:xfrm>
            <a:off x="4191120" y="6324480"/>
            <a:ext cx="1600200" cy="3049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19320" y="57913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ppropriate group, perhaps incorrect expon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295280" y="5105520"/>
          <a:ext cx="1819440" cy="50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5105520"/>
                    <a:ext cx="1819440" cy="506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Precision of FEP Calculations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simulations, each doing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inser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1,2,3,4,5,...,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1,2,3,4,5,...,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        L tim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1,2,3,4,5,...,M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ach M-length run gives a value for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Variance of these averages for the L runs describes the precision of the calc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19520" y="24382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335"/>
                </a:lnTo>
                <a:cubicBezTo>
                  <a:pt x="10800" y="8235"/>
                  <a:pt x="16200" y="9135"/>
                  <a:pt x="21600" y="9135"/>
                </a:cubicBezTo>
                <a:cubicBezTo>
                  <a:pt x="16200" y="9135"/>
                  <a:pt x="10800" y="10035"/>
                  <a:pt x="10800" y="1093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"/>
          <p:cNvGraphicFramePr/>
          <p:nvPr/>
        </p:nvGraphicFramePr>
        <p:xfrm>
          <a:off x="4038480" y="79200"/>
          <a:ext cx="4973760" cy="411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79200"/>
                    <a:ext cx="4973760" cy="41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Precision of FEP Calculations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1676520" y="3308400"/>
          <a:ext cx="200664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308400"/>
                    <a:ext cx="20066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2590920" y="4572000"/>
          <a:ext cx="292104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4572000"/>
                    <a:ext cx="29210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Discretize p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Consider probability of observing any </a:t>
            </a:r>
            <a:br>
              <a:rPr sz="2000"/>
            </a:b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given distribution of FEP energy </a:t>
            </a:r>
            <a:br>
              <a:rPr sz="2000"/>
            </a:b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values in a simulation of length M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Follows binomial distribut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Variance in FEP average given in terms of variance of this distribut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Return to </a:t>
            </a:r>
            <a:br>
              <a:rPr sz="2000"/>
            </a:b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continuum </a:t>
            </a:r>
            <a:br>
              <a:rPr sz="2000"/>
            </a:b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formulation, </a:t>
            </a:r>
            <a:br>
              <a:rPr sz="2000"/>
            </a:b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rewrite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38280" y="5105520"/>
            <a:ext cx="403884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ae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2590920" y="5105520"/>
          <a:ext cx="3746520" cy="15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5105520"/>
                    <a:ext cx="374652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"/>
          <p:cNvSpPr/>
          <p:nvPr/>
        </p:nvSpPr>
        <p:spPr>
          <a:xfrm>
            <a:off x="6629400" y="50292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Note that exponents have signs opposite those for avera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1828800" y="4724280"/>
            <a:ext cx="4267080" cy="10670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Precision of FEP Calculations 3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compose into entropic and energetic contribu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cus on insertion for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pan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ntropy difference is ke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2089080" y="2146320"/>
          <a:ext cx="381024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9080" y="2146320"/>
                    <a:ext cx="38102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2049480" y="3505320"/>
          <a:ext cx="632628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49480" y="3505320"/>
                    <a:ext cx="63262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 flipH="1">
            <a:off x="5333760" y="3657600"/>
            <a:ext cx="1143000" cy="4572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930320" y="5029200"/>
          <a:ext cx="408960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30320" y="5029200"/>
                    <a:ext cx="40896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"/>
          <p:cNvSpPr/>
          <p:nvPr/>
        </p:nvSpPr>
        <p:spPr>
          <a:xfrm>
            <a:off x="5410080" y="5789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Variance of energy in L system (independent of 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O(1) quant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4876560" y="5410080"/>
            <a:ext cx="609480" cy="60984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2362320" y="3733920"/>
            <a:ext cx="3429000" cy="404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62320" y="4419720"/>
            <a:ext cx="12952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6019920" y="2994120"/>
            <a:ext cx="2895120" cy="2342520"/>
            <a:chOff x="6019920" y="2994120"/>
            <a:chExt cx="2895120" cy="2342520"/>
          </a:xfrm>
        </p:grpSpPr>
        <p:sp>
          <p:nvSpPr>
            <p:cNvPr id="562" name=""/>
            <p:cNvSpPr/>
            <p:nvPr/>
          </p:nvSpPr>
          <p:spPr>
            <a:xfrm>
              <a:off x="6019920" y="2994120"/>
              <a:ext cx="2822760" cy="2317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263800" y="4876920"/>
              <a:ext cx="6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64280" y="3283560"/>
              <a:ext cx="2099160" cy="1737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105680" y="3573360"/>
              <a:ext cx="868320" cy="13032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467480" y="3935520"/>
              <a:ext cx="72360" cy="72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960960" y="4659840"/>
              <a:ext cx="57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4560" y="3935520"/>
              <a:ext cx="57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7539480" y="4007520"/>
              <a:ext cx="21708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395120" y="4370040"/>
              <a:ext cx="57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ptimal Staging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pply precision model to optimize choice of intermediate in staged inser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how best to define U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verall variance is the sum of variances of all stag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hoose W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inimiz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ubject to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obtai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: order of un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euristic: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) = 0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qual entropy differe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mpare to unjustified rule-of-thumb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qual free-energy difference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/k) = 0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ew rule greatly improves the precis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2590920" y="2895480"/>
          <a:ext cx="2933640" cy="4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895480"/>
                    <a:ext cx="29336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2641680" y="3352680"/>
          <a:ext cx="132084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1680" y="3352680"/>
                    <a:ext cx="13208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2362320" y="3733920"/>
          <a:ext cx="337824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733920"/>
                    <a:ext cx="33782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4267080" y="1676520"/>
          <a:ext cx="328932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1676520"/>
                    <a:ext cx="3289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xample Applic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429000" y="1600200"/>
            <a:ext cx="25909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09880" y="160020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530520" y="210816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86200" y="19810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62520" y="23623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444920" y="1981080"/>
            <a:ext cx="38124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886200" y="28195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648320" y="28195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029200" y="19810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054760" y="248904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130720" y="287028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495680" y="3352680"/>
            <a:ext cx="38124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003640" y="337824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48320" y="24382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191120" y="31240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648320" y="16765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638680" y="350532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43400" y="14479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029200" y="15238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114800" y="37339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029200" y="37339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429000" y="28954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505320" y="37339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91320" y="23623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79760" y="332748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581280" y="251460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267080" y="2666880"/>
            <a:ext cx="38124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52680" y="1523880"/>
            <a:ext cx="38124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562720" y="205740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486400" y="31240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10080" y="167652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572000" y="37339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86400" y="25909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320040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248520" y="1600200"/>
            <a:ext cx="259056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629400" y="160020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350040" y="210816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19810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781680" y="236232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264440" y="19810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705720" y="28195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467480" y="281952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848720" y="19810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873920" y="2489040"/>
            <a:ext cx="38124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950240" y="287028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315200" y="33526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077320" y="33526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467480" y="2438280"/>
            <a:ext cx="38124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010280" y="3124080"/>
            <a:ext cx="38124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467480" y="167652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458200" y="35053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162920" y="14479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848720" y="15238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934320" y="37339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705720" y="33526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848720" y="37339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248520" y="28954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324480" y="373392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610480" y="236232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299280" y="332748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00800" y="251460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86600" y="26668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172200" y="15238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381880" y="205740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381880" y="304812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229600" y="16765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91520" y="37339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05920" y="25909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696080" y="320040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1600200"/>
            <a:ext cx="25909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160020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11360" y="210816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066680" y="1981080"/>
            <a:ext cx="38124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143000" y="23623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625760" y="19810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066680" y="281952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828800" y="28195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09680" y="1981080"/>
            <a:ext cx="38124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235240" y="248904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311560" y="287028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676520" y="33526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84480" y="337824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28800" y="24382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71600" y="31240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828800" y="16765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819520" y="35053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23880" y="144792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209680" y="1523880"/>
            <a:ext cx="38124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95280" y="373392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066680" y="3352680"/>
            <a:ext cx="38124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209680" y="373392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9480" y="2895480"/>
            <a:ext cx="38124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37339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971800" y="23623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60240" y="332748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62120" y="251460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447920" y="26668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3520" y="1523880"/>
            <a:ext cx="38088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743200" y="205740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666880" y="3124080"/>
            <a:ext cx="381240" cy="3812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590920" y="1676520"/>
            <a:ext cx="38088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752480" y="373392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66880" y="2590920"/>
            <a:ext cx="381240" cy="3808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133720" y="3276720"/>
            <a:ext cx="75960" cy="75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57200" y="43434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e00"/>
                </a:solidFill>
                <a:uFillTx/>
                <a:latin typeface="Times New Roman"/>
              </a:rPr>
              <a:t>System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N-1 LJ partic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00400" y="434340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e00"/>
                </a:solidFill>
                <a:uFillTx/>
                <a:latin typeface="Times New Roman"/>
              </a:rPr>
              <a:t>System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N-1 Lennard-Jones parti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1 Hard sphere of diameter </a:t>
            </a: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5880" y="43434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e00"/>
                </a:solidFill>
                <a:uFillTx/>
                <a:latin typeface="Times New Roman"/>
              </a:rPr>
              <a:t>System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N LJ partic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54097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ptimize with respect to intermediate-HS diameter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ree-Energy Perturb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ach stage of a FEP method should be used only for “encompassing systems”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mportant configurations of one system form a subset of the configurations that are important to the othe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taging may be needed to bring this abou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superset will have a higher entrop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se “H” and “L” to distinguish high-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nd low-entropy system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member hard-sphere with test partic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very configuration of non-overlap is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mportant to the N+1 particle (L) syste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ut every one of these configurations is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of uniform importance in the N-particle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(H) system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943600" y="2133720"/>
            <a:ext cx="3048120" cy="2440800"/>
            <a:chOff x="5943600" y="2133720"/>
            <a:chExt cx="3048120" cy="2440800"/>
          </a:xfrm>
        </p:grpSpPr>
        <p:sp>
          <p:nvSpPr>
            <p:cNvPr id="47" name=""/>
            <p:cNvSpPr/>
            <p:nvPr/>
          </p:nvSpPr>
          <p:spPr>
            <a:xfrm>
              <a:off x="5943600" y="2133720"/>
              <a:ext cx="2971800" cy="2438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305920" y="4114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095880" y="2438640"/>
              <a:ext cx="2210040" cy="182880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0" y="2895840"/>
              <a:ext cx="1295280" cy="838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34320" y="3886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15200" y="3276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7327800" y="4965840"/>
            <a:ext cx="1663920" cy="1663560"/>
            <a:chOff x="7327800" y="4965840"/>
            <a:chExt cx="1663920" cy="1663560"/>
          </a:xfrm>
        </p:grpSpPr>
        <p:sp>
          <p:nvSpPr>
            <p:cNvPr id="54" name=""/>
            <p:cNvSpPr/>
            <p:nvPr/>
          </p:nvSpPr>
          <p:spPr>
            <a:xfrm>
              <a:off x="7327800" y="4965840"/>
              <a:ext cx="1663920" cy="166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56320" y="5094360"/>
              <a:ext cx="11916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50000" y="5073480"/>
              <a:ext cx="11772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13480" y="5394240"/>
              <a:ext cx="11772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64560" y="5137200"/>
              <a:ext cx="11736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56560" y="5653080"/>
              <a:ext cx="1191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86760" y="528804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36040" y="599616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58120" y="599616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594640" y="541656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01200" y="5716440"/>
              <a:ext cx="11880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766000" y="6039000"/>
              <a:ext cx="117720" cy="11880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94760" y="6253200"/>
              <a:ext cx="11736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658360" y="6469200"/>
              <a:ext cx="11880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78760" y="6338880"/>
              <a:ext cx="11916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07280" y="5759280"/>
              <a:ext cx="11916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64320" y="565308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843680" y="631836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29480" y="6167520"/>
              <a:ext cx="11916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594640" y="5888160"/>
              <a:ext cx="117720" cy="11880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766000" y="541656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66120" y="561024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680320" y="5222880"/>
              <a:ext cx="11772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423280" y="5781600"/>
              <a:ext cx="11736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86760" y="6103800"/>
              <a:ext cx="11736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70880" y="6189840"/>
              <a:ext cx="1191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70880" y="6381720"/>
              <a:ext cx="11916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272440" y="642636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21480" y="593244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250120" y="5567400"/>
              <a:ext cx="1191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423280" y="5073480"/>
              <a:ext cx="11736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70640" y="642636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92960" y="561024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43680" y="548172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993080" y="5245200"/>
              <a:ext cx="1191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78760" y="5437080"/>
              <a:ext cx="11916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64560" y="5824440"/>
              <a:ext cx="11736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37480" y="627552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440" y="5265720"/>
              <a:ext cx="11736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466120" y="644688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874000" y="651204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99520" y="6253200"/>
              <a:ext cx="11880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09200" y="623268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15400" y="599616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996320" y="563400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72400" y="533412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12240" y="502920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721720" y="4987800"/>
              <a:ext cx="11736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39080" y="559764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39080" y="5867280"/>
              <a:ext cx="11772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86800" y="613728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58200" y="6324480"/>
              <a:ext cx="11736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53280" y="651204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48720" y="647712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43800" y="644220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26440" y="6095880"/>
              <a:ext cx="11736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26440" y="582624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78720" y="5410080"/>
              <a:ext cx="11736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43800" y="5216400"/>
              <a:ext cx="11736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07320" y="4987800"/>
              <a:ext cx="11736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5216400"/>
              <a:ext cx="11772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96080" y="552132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96080" y="582624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883640" y="597852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70840" y="579132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12240" y="5603760"/>
              <a:ext cx="11736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40840" y="5410080"/>
              <a:ext cx="11736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29600" y="514044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64520" y="4987800"/>
              <a:ext cx="11736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53280" y="5902200"/>
              <a:ext cx="11772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42400" y="617220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01000" y="651204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645400" y="556272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486400" y="4965840"/>
            <a:ext cx="1663560" cy="1663560"/>
            <a:chOff x="5486400" y="4965840"/>
            <a:chExt cx="1663560" cy="1663560"/>
          </a:xfrm>
        </p:grpSpPr>
        <p:sp>
          <p:nvSpPr>
            <p:cNvPr id="128" name=""/>
            <p:cNvSpPr/>
            <p:nvPr/>
          </p:nvSpPr>
          <p:spPr>
            <a:xfrm>
              <a:off x="5486400" y="4965840"/>
              <a:ext cx="1663560" cy="166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14920" y="5094360"/>
              <a:ext cx="11916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08600" y="5073480"/>
              <a:ext cx="11736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72080" y="5394240"/>
              <a:ext cx="11736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22800" y="5137200"/>
              <a:ext cx="11736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14800" y="5653080"/>
              <a:ext cx="1191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45000" y="528804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4280" y="599616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16720" y="599616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53240" y="541656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59440" y="5716440"/>
              <a:ext cx="11916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24600" y="6039000"/>
              <a:ext cx="117360" cy="11880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53000" y="6253200"/>
              <a:ext cx="11736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16600" y="6469200"/>
              <a:ext cx="1191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37000" y="6338880"/>
              <a:ext cx="11916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65880" y="5759280"/>
              <a:ext cx="11880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22920" y="565308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02280" y="631836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88080" y="6167520"/>
              <a:ext cx="118800" cy="11880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53240" y="5888160"/>
              <a:ext cx="117360" cy="11880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24600" y="541656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24360" y="561024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8920" y="5222880"/>
              <a:ext cx="11736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81520" y="5781600"/>
              <a:ext cx="11772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45000" y="6103800"/>
              <a:ext cx="11772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29120" y="6189480"/>
              <a:ext cx="11916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29120" y="6381720"/>
              <a:ext cx="11916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30680" y="642636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80080" y="593244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08720" y="5567400"/>
              <a:ext cx="11880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81520" y="5073480"/>
              <a:ext cx="11772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29240" y="642636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51200" y="561024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02280" y="548172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51320" y="5245200"/>
              <a:ext cx="1191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37000" y="5437080"/>
              <a:ext cx="11916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22800" y="5824440"/>
              <a:ext cx="11736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96080" y="627552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38680" y="5265720"/>
              <a:ext cx="11772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4360" y="644688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32600" y="651204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57760" y="6253200"/>
              <a:ext cx="119160" cy="1191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67440" y="623268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73640" y="599616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11640" y="6135840"/>
              <a:ext cx="119160" cy="11736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54560" y="563400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30640" y="533412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0480" y="502920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79960" y="4987800"/>
              <a:ext cx="11772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97680" y="559764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97680" y="5867280"/>
              <a:ext cx="11736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45040" y="613728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16440" y="6324480"/>
              <a:ext cx="11772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11880" y="651204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06960" y="647712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02040" y="644220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4680" y="6095880"/>
              <a:ext cx="11736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4680" y="582624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36960" y="5410080"/>
              <a:ext cx="11772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02040" y="5216400"/>
              <a:ext cx="11772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65560" y="4987800"/>
              <a:ext cx="11772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54680" y="5216400"/>
              <a:ext cx="11736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54680" y="552132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54680" y="582624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41880" y="597852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29080" y="579132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70480" y="5603760"/>
              <a:ext cx="11736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99080" y="5410080"/>
              <a:ext cx="11736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87840" y="514044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22760" y="4987800"/>
              <a:ext cx="11772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11880" y="5902200"/>
              <a:ext cx="117360" cy="11772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00640" y="617220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59240" y="6512040"/>
              <a:ext cx="11772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04000" y="5562720"/>
              <a:ext cx="117360" cy="11736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29718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xample Result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896760" y="3567240"/>
            <a:ext cx="5029200" cy="311472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3233880" y="184320"/>
            <a:ext cx="957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99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3399ff"/>
                </a:solidFill>
                <a:latin typeface="Times New Roman"/>
              </a:rPr>
              <a:t>=1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99ff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3399ff"/>
                </a:solidFill>
                <a:latin typeface="Times New Roman"/>
              </a:rPr>
              <a:t>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99ff"/>
                </a:solidFill>
                <a:latin typeface="Symbol"/>
                <a:ea typeface="Symbol"/>
              </a:rPr>
              <a:t></a:t>
            </a:r>
            <a:r>
              <a:rPr b="0" lang="en-US" sz="1400" spc="-1" strike="noStrike">
                <a:solidFill>
                  <a:srgbClr val="3399ff"/>
                </a:solidFill>
                <a:latin typeface="Times New Roman"/>
              </a:rPr>
              <a:t>=0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52280" y="4037040"/>
            <a:ext cx="957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99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3399ff"/>
                </a:solidFill>
                <a:latin typeface="Times New Roman"/>
              </a:rPr>
              <a:t>=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99ff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3399ff"/>
                </a:solidFill>
                <a:latin typeface="Times New Roman"/>
              </a:rPr>
              <a:t>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99ff"/>
                </a:solidFill>
                <a:latin typeface="Symbol"/>
                <a:ea typeface="Symbol"/>
              </a:rPr>
              <a:t></a:t>
            </a:r>
            <a:r>
              <a:rPr b="0" lang="en-US" sz="1400" spc="-1" strike="noStrike">
                <a:solidFill>
                  <a:srgbClr val="3399ff"/>
                </a:solidFill>
                <a:latin typeface="Times New Roman"/>
              </a:rPr>
              <a:t>=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2"/>
          <a:stretch/>
        </p:blipFill>
        <p:spPr>
          <a:xfrm>
            <a:off x="3902040" y="357120"/>
            <a:ext cx="4997520" cy="310032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6615360" y="62496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Symbol"/>
                <a:ea typeface="Symbol"/>
              </a:rPr>
              <a:t></a:t>
            </a:r>
            <a:r>
              <a:rPr b="0" i="1" lang="en-US" sz="1600" spc="-1" strike="noStrike">
                <a:solidFill>
                  <a:srgbClr val="00ae00"/>
                </a:solidFill>
                <a:latin typeface="Symbol"/>
                <a:ea typeface="Symbol"/>
              </a:rPr>
              <a:t></a:t>
            </a:r>
            <a:r>
              <a:rPr b="0" lang="en-US" sz="1600" spc="-1" strike="noStrike">
                <a:solidFill>
                  <a:srgbClr val="00ae00"/>
                </a:solidFill>
                <a:latin typeface="Symbol"/>
                <a:ea typeface="Symbol"/>
              </a:rPr>
              <a:t>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740840" y="2317320"/>
            <a:ext cx="90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Symbol"/>
                <a:ea typeface="Symbol"/>
              </a:rPr>
              <a:t></a:t>
            </a:r>
            <a:r>
              <a:rPr b="0" i="1" lang="en-US" sz="1600" spc="-1" strike="noStrike">
                <a:solidFill>
                  <a:srgbClr val="00ae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/</a:t>
            </a:r>
            <a:r>
              <a:rPr b="0" i="1" lang="en-US" sz="1600" spc="-1" strike="noStrike">
                <a:solidFill>
                  <a:srgbClr val="00ae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ae00"/>
                </a:solidFill>
                <a:latin typeface="Symbol"/>
                <a:ea typeface="Symbol"/>
              </a:rPr>
              <a:t>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110560" y="114264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Overall var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05360" y="391608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Symbol"/>
                <a:ea typeface="Symbol"/>
              </a:rPr>
              <a:t></a:t>
            </a:r>
            <a:r>
              <a:rPr b="0" i="1" lang="en-US" sz="1600" spc="-1" strike="noStrike">
                <a:solidFill>
                  <a:srgbClr val="00ae00"/>
                </a:solidFill>
                <a:latin typeface="Symbol"/>
                <a:ea typeface="Symbol"/>
              </a:rPr>
              <a:t></a:t>
            </a:r>
            <a:r>
              <a:rPr b="0" lang="en-US" sz="1600" spc="-1" strike="noStrike">
                <a:solidFill>
                  <a:srgbClr val="00ae00"/>
                </a:solidFill>
                <a:latin typeface="Symbol"/>
                <a:ea typeface="Symbol"/>
              </a:rPr>
              <a:t>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072600" y="4982760"/>
            <a:ext cx="90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Symbol"/>
                <a:ea typeface="Symbol"/>
              </a:rPr>
              <a:t></a:t>
            </a:r>
            <a:r>
              <a:rPr b="0" i="1" lang="en-US" sz="1600" spc="-1" strike="noStrike">
                <a:solidFill>
                  <a:srgbClr val="00ae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/</a:t>
            </a:r>
            <a:r>
              <a:rPr b="0" i="1" lang="en-US" sz="1600" spc="-1" strike="noStrike">
                <a:solidFill>
                  <a:srgbClr val="00ae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ae00"/>
                </a:solidFill>
                <a:latin typeface="Symbol"/>
                <a:ea typeface="Symbol"/>
              </a:rPr>
              <a:t>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955400" y="189000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ero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EP energy distributions provide detailed information regarding free-energy differenc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lation between insertion and deletion distribution can be used to measure free-energy differenc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stributions can be used to understand precision and accuracy of FEP calcul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sertion usually gives too-high value, deletion too low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ut not equally so; deletion is much wors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mulated way to estimate inaccuracy using inaccurate data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oth accuracy and precision strongly depend on entropy difference between stat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an use precision analysis to optimize staged inser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752480" y="3352680"/>
            <a:ext cx="2438640" cy="533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4572000"/>
            <a:ext cx="2438640" cy="533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stribution Funct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FEP average can be cast as a simple one-dimensional integra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ikewis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nergy distribu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34902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reference is the high-entropy sys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351080" y="2406600"/>
          <a:ext cx="524484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1080" y="2406600"/>
                    <a:ext cx="52448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5078520" y="5257800"/>
            <a:ext cx="3913200" cy="1583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mencl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e-energy difference:   </a:t>
            </a:r>
            <a:r>
              <a:rPr b="0" lang="en-US" sz="1800" spc="-1" strike="noStrike">
                <a:solidFill>
                  <a:srgbClr val="fc0128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 A</a:t>
            </a:r>
            <a:r>
              <a:rPr b="0" lang="en-US" sz="1800" spc="-1" strike="noStrike" baseline="-25000">
                <a:solidFill>
                  <a:srgbClr val="fc0128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-A</a:t>
            </a:r>
            <a:r>
              <a:rPr b="0" lang="en-US" sz="1800" spc="-1" strike="noStrike" baseline="-25000">
                <a:solidFill>
                  <a:srgbClr val="fc0128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ropy difference:  </a:t>
            </a:r>
            <a:r>
              <a:rPr b="0" lang="en-US" sz="1800" spc="-1" strike="noStrike">
                <a:solidFill>
                  <a:srgbClr val="fc0128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S </a:t>
            </a:r>
            <a:r>
              <a:rPr b="0" lang="en-US" sz="18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 S</a:t>
            </a:r>
            <a:r>
              <a:rPr b="0" lang="en-US" sz="1800" spc="-1" strike="noStrike" baseline="-25000">
                <a:solidFill>
                  <a:srgbClr val="fc0128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-S</a:t>
            </a:r>
            <a:r>
              <a:rPr b="0" lang="en-US" sz="1800" spc="-1" strike="noStrike" baseline="-25000">
                <a:solidFill>
                  <a:srgbClr val="fc0128"/>
                </a:solidFill>
                <a:latin typeface="Times New Roman"/>
              </a:rPr>
              <a:t>H </a:t>
            </a: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&l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y difference:  </a:t>
            </a: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 U</a:t>
            </a:r>
            <a:r>
              <a:rPr b="0" lang="en-US" sz="1800" spc="-1" strike="noStrike" baseline="-25000">
                <a:solidFill>
                  <a:srgbClr val="fc0128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r</a:t>
            </a:r>
            <a:r>
              <a:rPr b="0" lang="en-US" sz="1800" spc="-1" strike="noStrike" baseline="30000">
                <a:solidFill>
                  <a:srgbClr val="fc0128"/>
                </a:solidFill>
                <a:latin typeface="Times New Roman"/>
              </a:rPr>
              <a:t>(N)</a:t>
            </a: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)-U</a:t>
            </a:r>
            <a:r>
              <a:rPr b="0" lang="en-US" sz="1800" spc="-1" strike="noStrike" baseline="-25000">
                <a:solidFill>
                  <a:srgbClr val="fc0128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r</a:t>
            </a:r>
            <a:r>
              <a:rPr b="0" lang="en-US" sz="1800" spc="-1" strike="noStrike" baseline="30000">
                <a:solidFill>
                  <a:srgbClr val="fc0128"/>
                </a:solidFill>
                <a:latin typeface="Times New Roman"/>
              </a:rPr>
              <a:t>(N)</a:t>
            </a: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905120" y="4648320"/>
          <a:ext cx="2184120" cy="40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648320"/>
                    <a:ext cx="21841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4343400" y="4677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reference is the low-entropy sys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990720" y="5956200"/>
          <a:ext cx="2158920" cy="74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5956200"/>
                    <a:ext cx="215892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429000" y="6032520"/>
          <a:ext cx="1270080" cy="74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6032520"/>
                    <a:ext cx="12700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3581280" y="57747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normaliz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terpret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in the context of particle insertion (ghost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real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igh-S system is ghost, Low-S is rea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u is the difference in energy U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real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- U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ghos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is the distribution of energies (virtual energy changes) experienced by molecule acting as a ghost (insertion energy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any overlaps, so energy will tend to be larg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is the distribution of energies experienced by a molecule interacting with the others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deletion energy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 overlap, favorable interactions,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o energy will be smal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ypical behavior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029200" y="3962520"/>
            <a:ext cx="3962160" cy="2590200"/>
            <a:chOff x="5029200" y="3962520"/>
            <a:chExt cx="3962160" cy="259020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5029200" y="3962520"/>
              <a:ext cx="3962160" cy="25902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919191"/>
              </a:outerShdw>
            </a:effectLst>
          </p:spPr>
        </p:pic>
        <p:sp>
          <p:nvSpPr>
            <p:cNvPr id="222" name=""/>
            <p:cNvSpPr/>
            <p:nvPr/>
          </p:nvSpPr>
          <p:spPr>
            <a:xfrm>
              <a:off x="5538600" y="4511160"/>
              <a:ext cx="441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30280" y="544140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 flipV="1">
            <a:off x="3124080" y="5257800"/>
            <a:ext cx="17528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Generalized Insertion and Dele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idom insertion samples high-S system, perturbs to low-S syste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idom deletion does the opposit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fin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35480" indent="-282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ae00"/>
                </a:solidFill>
                <a:latin typeface="Times New Roman"/>
              </a:rPr>
              <a:t>Generalized insertion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:  FEP calculation in which high-entropy system governs sampling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ae00"/>
                </a:solidFill>
                <a:latin typeface="Times New Roman"/>
              </a:rPr>
              <a:t>Generalized deletion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: FEP calculation in which low-entropy system governs sampling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638680" y="1523880"/>
            <a:ext cx="3047760" cy="2441160"/>
            <a:chOff x="5638680" y="1523880"/>
            <a:chExt cx="3047760" cy="2441160"/>
          </a:xfrm>
        </p:grpSpPr>
        <p:sp>
          <p:nvSpPr>
            <p:cNvPr id="228" name=""/>
            <p:cNvSpPr/>
            <p:nvPr/>
          </p:nvSpPr>
          <p:spPr>
            <a:xfrm>
              <a:off x="5638680" y="1523880"/>
              <a:ext cx="2971800" cy="24386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00640" y="3505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0960" y="1828800"/>
              <a:ext cx="2209680" cy="182880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53080" y="2286000"/>
              <a:ext cx="1295280" cy="838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29040" y="32767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10280" y="2666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638680" y="4114800"/>
            <a:ext cx="3047760" cy="2440800"/>
            <a:chOff x="5638680" y="4114800"/>
            <a:chExt cx="3047760" cy="2440800"/>
          </a:xfrm>
        </p:grpSpPr>
        <p:sp>
          <p:nvSpPr>
            <p:cNvPr id="235" name=""/>
            <p:cNvSpPr/>
            <p:nvPr/>
          </p:nvSpPr>
          <p:spPr>
            <a:xfrm>
              <a:off x="5638680" y="4114800"/>
              <a:ext cx="2971800" cy="24382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00640" y="6095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0960" y="4419360"/>
              <a:ext cx="2209680" cy="1828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53080" y="4876560"/>
              <a:ext cx="1295280" cy="837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29040" y="5867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10280" y="52574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stribution-Function Relat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eviously we derived this resul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962000" y="1994040"/>
          <a:ext cx="274320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2000" y="1994040"/>
                    <a:ext cx="27432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5105520" y="214884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Non-Boltzmann averaging formula</a:t>
            </a:r>
            <a:br>
              <a:rPr sz="1800"/>
            </a:b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(used 0 and W to designate system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stribution-Function Relat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eviously we derived this resul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ake M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[u-(U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-U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]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962000" y="1994040"/>
          <a:ext cx="274320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2000" y="1994040"/>
                    <a:ext cx="27432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905120" y="3809880"/>
          <a:ext cx="2577960" cy="10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809880"/>
                    <a:ext cx="257796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stribution-Function Relat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eviously we derived this resul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ake M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[u-(U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-U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]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Use definitions of p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and p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962000" y="1994040"/>
          <a:ext cx="274320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2000" y="1994040"/>
                    <a:ext cx="27432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905120" y="3809880"/>
          <a:ext cx="2577960" cy="10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809880"/>
                    <a:ext cx="257796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2133720" y="5556240"/>
          <a:ext cx="212076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5556240"/>
                    <a:ext cx="21207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1828800" y="4038480"/>
            <a:ext cx="609480" cy="533520"/>
          </a:xfrm>
          <a:prstGeom prst="rect">
            <a:avLst/>
          </a:prstGeom>
          <a:noFill/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424800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his is </a:t>
            </a:r>
            <a:br>
              <a:rPr sz="1800"/>
            </a:b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definition of p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295280" y="4343040"/>
            <a:ext cx="533520" cy="152280"/>
          </a:xfrm>
          <a:prstGeom prst="line">
            <a:avLst/>
          </a:prstGeom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21:21:26Z</dcterms:created>
  <dc:creator>David A. Kofke</dc:creator>
  <dc:description/>
  <dc:language>en-US</dc:language>
  <cp:lastModifiedBy>David Kofke</cp:lastModifiedBy>
  <cp:lastPrinted>1999-09-22T22:06:24Z</cp:lastPrinted>
  <dcterms:modified xsi:type="dcterms:W3CDTF">2000-03-31T18:28:22Z</dcterms:modified>
  <cp:revision>95</cp:revision>
  <dc:subject/>
  <dc:title>CE 530 Molecular Sim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heme.buffalo.edu/courses/ce530</vt:lpwstr>
  </property>
  <property fmtid="{D5CDD505-2E9C-101B-9397-08002B2CF9AE}" pid="9" name="LinkColor">
    <vt:r8>16711782</vt:r8>
  </property>
  <property fmtid="{D5CDD505-2E9C-101B-9397-08002B2CF9AE}" pid="10" name="MailAddress">
    <vt:lpwstr>kofke@eng.buffalo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G:\Teaching\CE 530\Lecture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