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32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E532-28D6-450F-85D0-B74EC2697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class work out this derivation before presenting this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2B9C-82EE-4319-9912-1275C5A28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8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62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8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62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8739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ae00"/>
              </a:buClr>
              <a:buFont typeface="Zapf Dingba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920" y="88920"/>
            <a:ext cx="8966160" cy="668016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530560" y="152280"/>
            <a:ext cx="611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76CF-F434-4464-A8FB-FEEE668EF86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tomica.org/app/modules/sites/swmd/swmd2d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 530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223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cture 13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lecular Dynamics in Other Ensembl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vid A. Kofke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partment of Chemical Engineering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NY Buffalo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ofke@eng.buffalo.edu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hermostat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ll NPT MD methods thermostat the momentum temperatur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roper sampling of the canonical ensemble requires that the momentum temperature fluctuat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omentum temperature is proportional to total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kinetic energ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nergy should fluctuate between K and U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ariance of momentum-temperature fluctuation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an be derived from Maxwell-Boltzman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fluctuations vanish at large N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9028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rigidly fixing K affects fluctuation quantities, </a:t>
            </a:r>
            <a:br>
              <a:rPr sz="1800"/>
            </a:b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but may not matter much to other average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ll thermostats introduce unphysical features to the dynamic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MD transport measurements best done with no thermosta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use thermostat equilibrate </a:t>
            </a:r>
            <a:r>
              <a:rPr b="1" lang="en-US" sz="1800" spc="-1" strike="noStrike">
                <a:solidFill>
                  <a:srgbClr val="00ae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ae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temperatures to desired value, then remove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  <p:graphicFrame>
        <p:nvGraphicFramePr>
          <p:cNvPr id="147" name="Object 6"/>
          <p:cNvGraphicFramePr/>
          <p:nvPr/>
        </p:nvGraphicFramePr>
        <p:xfrm>
          <a:off x="6705720" y="2438280"/>
          <a:ext cx="218412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2438280"/>
                    <a:ext cx="218412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7"/>
          <p:cNvSpPr/>
          <p:nvPr/>
        </p:nvSpPr>
        <p:spPr>
          <a:xfrm>
            <a:off x="6934320" y="3352680"/>
            <a:ext cx="761760" cy="106704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7696080" y="3352680"/>
            <a:ext cx="762120" cy="1067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7424640" y="3562200"/>
            <a:ext cx="533520" cy="6858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10"/>
          <p:cNvGraphicFramePr/>
          <p:nvPr/>
        </p:nvGraphicFramePr>
        <p:xfrm>
          <a:off x="5791320" y="4343400"/>
          <a:ext cx="102852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4343400"/>
                    <a:ext cx="10285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694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sokinetic Thermostatting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ce momentum temperature to remain constan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ne (bad) approach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t each time step scale momenta to force K to desired valu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dvance positions and momenta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pply p</a:t>
            </a:r>
            <a:r>
              <a:rPr b="0" lang="en-US" sz="1800" spc="-1" strike="noStrike" baseline="30000">
                <a:solidFill>
                  <a:srgbClr val="00ae00"/>
                </a:solidFill>
                <a:latin typeface="Times New Roman"/>
              </a:rPr>
              <a:t>new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= </a:t>
            </a:r>
            <a:r>
              <a:rPr b="0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λ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p with </a:t>
            </a:r>
            <a:r>
              <a:rPr b="0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λ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chosen to satisfy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repeat 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quations of motion” are irreversib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transition probabilities” cannot satisfy detailed balance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oes not sample any well-defined ensemble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5423040" y="3111480"/>
          <a:ext cx="158724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3040" y="3111480"/>
                    <a:ext cx="15872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sokinetic Thermostatting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ne (good) approach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12640" indent="-196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odify equations of motion to satisfy constrain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is a friction term selected to force constant momentum-temperatur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ime-reversible equations of mo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12640" indent="-196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o momentum-temperature fluctuation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nfigurations properly sample NVT ensemble (with fluctuations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emperature is not specified in equations of motion!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60" name="Object 4"/>
          <p:cNvGraphicFramePr/>
          <p:nvPr/>
        </p:nvGraphicFramePr>
        <p:xfrm>
          <a:off x="2063880" y="1797120"/>
          <a:ext cx="111744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3880" y="1797120"/>
                    <a:ext cx="111744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6"/>
          <p:cNvGraphicFramePr/>
          <p:nvPr/>
        </p:nvGraphicFramePr>
        <p:xfrm>
          <a:off x="1536840" y="2940120"/>
          <a:ext cx="2425680" cy="22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6840" y="2940120"/>
                    <a:ext cx="2425680" cy="22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7"/>
          <p:cNvGraphicFramePr/>
          <p:nvPr/>
        </p:nvGraphicFramePr>
        <p:xfrm>
          <a:off x="5105520" y="4419720"/>
          <a:ext cx="146052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4419720"/>
                    <a:ext cx="14605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Line 8"/>
          <p:cNvSpPr/>
          <p:nvPr/>
        </p:nvSpPr>
        <p:spPr>
          <a:xfrm>
            <a:off x="4191120" y="4800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hermostatting via Wall Collisio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all collision imparts random velocity to molecu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election consistent with (canonical-ensemble) Maxwell-Boltzmann distribution at desired temperatur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alistic model of actual process of heat transfe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rrectly samples canonical ensemb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an’t use periodic boundari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all may give rise to unacceptable finite-size effect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not a problem if desiring to simulate a system in confined space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ot well suited for soft potential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8305920" y="1600200"/>
            <a:ext cx="75960" cy="3048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7543800" y="3657600"/>
            <a:ext cx="457200" cy="457200"/>
          </a:xfrm>
          <a:prstGeom prst="ellipse">
            <a:avLst/>
          </a:prstGeom>
          <a:solidFill>
            <a:srgbClr val="618ffd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6"/>
          <p:cNvSpPr/>
          <p:nvPr/>
        </p:nvSpPr>
        <p:spPr>
          <a:xfrm flipV="1">
            <a:off x="7772400" y="3571560"/>
            <a:ext cx="193680" cy="31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7848720" y="3048120"/>
            <a:ext cx="457200" cy="457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8"/>
          <p:cNvSpPr/>
          <p:nvPr/>
        </p:nvSpPr>
        <p:spPr>
          <a:xfrm flipH="1">
            <a:off x="7848360" y="3276720"/>
            <a:ext cx="22860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9"/>
          <p:cNvSpPr/>
          <p:nvPr/>
        </p:nvSpPr>
        <p:spPr>
          <a:xfrm flipH="1" flipV="1">
            <a:off x="7772040" y="304776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0"/>
          <p:cNvSpPr/>
          <p:nvPr/>
        </p:nvSpPr>
        <p:spPr>
          <a:xfrm flipH="1">
            <a:off x="7695720" y="3276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6781680" y="2666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andom </a:t>
            </a:r>
            <a:r>
              <a:rPr b="1" lang="en-US" sz="1800" spc="-1" strike="noStrike">
                <a:solidFill>
                  <a:srgbClr val="00ae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Object 12"/>
          <p:cNvGraphicFramePr/>
          <p:nvPr/>
        </p:nvGraphicFramePr>
        <p:xfrm>
          <a:off x="2247840" y="2286000"/>
          <a:ext cx="3213000" cy="74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47840" y="2286000"/>
                    <a:ext cx="32130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13"/>
          <p:cNvSpPr/>
          <p:nvPr/>
        </p:nvSpPr>
        <p:spPr>
          <a:xfrm>
            <a:off x="990720" y="2209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7467480" y="47242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Wall can be made as realistic as des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ndersen Thermosta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all thermostat without the wal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ach molecule undergoes impulsive “collisions” with a heat bath at random interva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llision frequency </a:t>
            </a:r>
            <a:r>
              <a:rPr b="0" lang="el-GR" sz="2400" spc="-1" strike="noStrike">
                <a:solidFill>
                  <a:srgbClr val="618ffd"/>
                </a:solidFill>
                <a:latin typeface="Times New Roman"/>
              </a:rPr>
              <a:t>ν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describes strength of coupling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robability of collision over time dt is </a:t>
            </a:r>
            <a:r>
              <a:rPr b="0" i="1" lang="el-GR" sz="2100" spc="-1" strike="noStrike">
                <a:solidFill>
                  <a:srgbClr val="000000"/>
                </a:solidFill>
                <a:latin typeface="Times New Roman"/>
              </a:rPr>
              <a:t>ν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oisson process governs collision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mulation becomes a Markov proces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NV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is a “deterministic” TP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it is not ergodic for NVT, but </a:t>
            </a:r>
            <a:r>
              <a:rPr b="0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Π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 i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Click here 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o see the Andersen thermostat in ac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5410080" y="4038480"/>
          <a:ext cx="1333800" cy="34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4038480"/>
                    <a:ext cx="13338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5"/>
          <p:cNvGraphicFramePr/>
          <p:nvPr/>
        </p:nvGraphicFramePr>
        <p:xfrm>
          <a:off x="1482840" y="4905360"/>
          <a:ext cx="3504960" cy="36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6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82840" y="4905360"/>
                    <a:ext cx="35049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Oval 6"/>
          <p:cNvSpPr/>
          <p:nvPr/>
        </p:nvSpPr>
        <p:spPr>
          <a:xfrm>
            <a:off x="7848720" y="3124080"/>
            <a:ext cx="457200" cy="457200"/>
          </a:xfrm>
          <a:prstGeom prst="ellipse">
            <a:avLst/>
          </a:prstGeom>
          <a:solidFill>
            <a:srgbClr val="618ffd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 flipV="1">
            <a:off x="8077320" y="3038040"/>
            <a:ext cx="193680" cy="31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8"/>
          <p:cNvSpPr/>
          <p:nvPr/>
        </p:nvSpPr>
        <p:spPr>
          <a:xfrm>
            <a:off x="8153280" y="2514600"/>
            <a:ext cx="457200" cy="457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9"/>
          <p:cNvSpPr/>
          <p:nvPr/>
        </p:nvSpPr>
        <p:spPr>
          <a:xfrm flipH="1">
            <a:off x="8152920" y="274320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0"/>
          <p:cNvSpPr/>
          <p:nvPr/>
        </p:nvSpPr>
        <p:spPr>
          <a:xfrm flipH="1" flipV="1">
            <a:off x="8077320" y="2514240"/>
            <a:ext cx="3045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1"/>
          <p:cNvSpPr/>
          <p:nvPr/>
        </p:nvSpPr>
        <p:spPr>
          <a:xfrm flipH="1">
            <a:off x="8001000" y="2743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7086600" y="2133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andom </a:t>
            </a:r>
            <a:r>
              <a:rPr b="1" lang="en-US" sz="1800" spc="-1" strike="noStrike">
                <a:solidFill>
                  <a:srgbClr val="00ae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3"/>
          <p:cNvSpPr/>
          <p:nvPr/>
        </p:nvSpPr>
        <p:spPr>
          <a:xfrm flipV="1">
            <a:off x="8381880" y="266688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8381880" y="2743200"/>
            <a:ext cx="76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Nosé Thermostat 1. 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dification of equations of mo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ike isokinetic algorithm (differential feedback control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ut permits fluctuations in the momentum temperatur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tegral feedback contro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tended Lagrangian equations of mo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troduce a new degree of freedom,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, representing reservoi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ssociate kinetic and potential energy with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omenta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7169040" y="4248000"/>
          <a:ext cx="1359000" cy="7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9040" y="4248000"/>
                    <a:ext cx="135900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Text Box 5"/>
          <p:cNvSpPr/>
          <p:nvPr/>
        </p:nvSpPr>
        <p:spPr>
          <a:xfrm>
            <a:off x="7543800" y="5181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effective 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6"/>
          <p:cNvSpPr/>
          <p:nvPr/>
        </p:nvSpPr>
        <p:spPr>
          <a:xfrm flipH="1" flipV="1">
            <a:off x="7924680" y="4952520"/>
            <a:ext cx="152640" cy="22860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7"/>
          <p:cNvGraphicFramePr/>
          <p:nvPr/>
        </p:nvGraphicFramePr>
        <p:xfrm>
          <a:off x="1765440" y="4476600"/>
          <a:ext cx="4165560" cy="73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5440" y="4476600"/>
                    <a:ext cx="4165560" cy="7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8"/>
          <p:cNvGraphicFramePr/>
          <p:nvPr/>
        </p:nvGraphicFramePr>
        <p:xfrm>
          <a:off x="2749680" y="5334120"/>
          <a:ext cx="1523880" cy="12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9680" y="5334120"/>
                    <a:ext cx="152388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Nosé Thermostat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tended-system Hamiltonian is conserv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us the probability distribution can be writte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23880" indent="-2397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t can be shown that the molecular positions and momenta follow a canonical (NVT) distribution if g = 3N+1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 can be interpreted as a time-scaling facto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23880" indent="-2397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true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1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sim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varies during the simulation, each “true” time step is of varying length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Object 4"/>
          <p:cNvGraphicFramePr/>
          <p:nvPr/>
        </p:nvGraphicFramePr>
        <p:xfrm>
          <a:off x="1778040" y="2178000"/>
          <a:ext cx="38988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2178000"/>
                    <a:ext cx="38988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5"/>
          <p:cNvGraphicFramePr/>
          <p:nvPr/>
        </p:nvGraphicFramePr>
        <p:xfrm>
          <a:off x="1968480" y="3613320"/>
          <a:ext cx="2921040" cy="39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8480" y="3613320"/>
                    <a:ext cx="29210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Nosé Thermostat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tended-system Hamiltonian is conserv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us the probability distribution can be writte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hat does this mean for the sampling of coordinates and momenta?  How does this ensure a canonical distribution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1778040" y="2178000"/>
          <a:ext cx="38988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2178000"/>
                    <a:ext cx="38988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5"/>
          <p:cNvGraphicFramePr/>
          <p:nvPr/>
        </p:nvGraphicFramePr>
        <p:xfrm>
          <a:off x="1968480" y="3613320"/>
          <a:ext cx="2921040" cy="39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8480" y="3613320"/>
                    <a:ext cx="29210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Nosé Thermostat 3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440" y="5105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5000"/>
          </a:bodyPr>
          <a:p>
            <a:pPr marL="188640" indent="-188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et canonical ensemble for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' if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= 3(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+1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188640" indent="-188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 can be interpreted as a time-scaling facto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408600" indent="-156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true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1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sim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08600" indent="-156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varies during simulation, so“true” time step is of varying length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20" name="Object 3"/>
          <p:cNvGraphicFramePr/>
          <p:nvPr/>
        </p:nvGraphicFramePr>
        <p:xfrm>
          <a:off x="838080" y="1371600"/>
          <a:ext cx="638172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638172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4"/>
          <p:cNvGraphicFramePr/>
          <p:nvPr/>
        </p:nvGraphicFramePr>
        <p:xfrm>
          <a:off x="8153280" y="457200"/>
          <a:ext cx="762120" cy="73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53280" y="457200"/>
                    <a:ext cx="7621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5"/>
          <p:cNvGraphicFramePr/>
          <p:nvPr/>
        </p:nvGraphicFramePr>
        <p:xfrm>
          <a:off x="7289640" y="1371600"/>
          <a:ext cx="162576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89640" y="1371600"/>
                    <a:ext cx="16257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Nosé Thermostat 3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440" y="5105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5000"/>
          </a:bodyPr>
          <a:p>
            <a:pPr marL="188640" indent="-188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et canonical ensemble for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' if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= 3(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+1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188640" indent="-188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 can be interpreted as a time-scaling facto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408600" indent="-156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true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1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sim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08600" indent="-156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varies during simulation, so“true” time step is of varying length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28" name="Object 3"/>
          <p:cNvGraphicFramePr/>
          <p:nvPr/>
        </p:nvGraphicFramePr>
        <p:xfrm>
          <a:off x="838080" y="1371600"/>
          <a:ext cx="699156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699156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4"/>
          <p:cNvGraphicFramePr/>
          <p:nvPr/>
        </p:nvGraphicFramePr>
        <p:xfrm>
          <a:off x="8153280" y="457200"/>
          <a:ext cx="762120" cy="73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53280" y="457200"/>
                    <a:ext cx="7621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5"/>
          <p:cNvGraphicFramePr/>
          <p:nvPr/>
        </p:nvGraphicFramePr>
        <p:xfrm>
          <a:off x="7289640" y="1371600"/>
          <a:ext cx="162576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89640" y="1371600"/>
                    <a:ext cx="16257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eview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lecular dynamics is a numerical integration of the classical equations of mo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otal energy is strictly conserved, so MD samples the NVE ensem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ynamical behaviors can be measured by taking appropriate time averages over the sim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pontaneous fluctuations provide non-equilibrium condition for measurement of transport in equilibrium M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on-equilibrium MD can be used to get less noisy results, but requires mechanism to remove energy via heat transfe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wo equivalent formalisms for EMD measurement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instein equ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reen-Kubo rel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time correlation function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Nosé-Hoover Thermostat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2120760"/>
            <a:ext cx="3924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Scaled-variables equations of mot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constant simulation </a:t>
            </a:r>
            <a:r>
              <a:rPr b="0" i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fluctuating real </a:t>
            </a:r>
            <a:r>
              <a:rPr b="0" i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996840" y="3632040"/>
          <a:ext cx="2908440" cy="29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3632040"/>
                    <a:ext cx="2908440" cy="29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62080" y="2120760"/>
            <a:ext cx="3924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Real-variables (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</a:rPr>
              <a:t>'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removed) equation of mot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39" name="Object 23"/>
          <p:cNvGraphicFramePr/>
          <p:nvPr/>
        </p:nvGraphicFramePr>
        <p:xfrm>
          <a:off x="5175360" y="2806560"/>
          <a:ext cx="2743200" cy="28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75360" y="2806560"/>
                    <a:ext cx="274320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Rectangle 24"/>
          <p:cNvSpPr/>
          <p:nvPr/>
        </p:nvSpPr>
        <p:spPr>
          <a:xfrm>
            <a:off x="678600" y="1447920"/>
            <a:ext cx="69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ae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dvantageous to work with non-fluctuating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Object 23"/>
          <p:cNvGraphicFramePr/>
          <p:nvPr/>
        </p:nvGraphicFramePr>
        <p:xfrm>
          <a:off x="7848720" y="685800"/>
          <a:ext cx="1015920" cy="127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85800"/>
                    <a:ext cx="10159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23"/>
          <p:cNvGraphicFramePr/>
          <p:nvPr/>
        </p:nvGraphicFramePr>
        <p:xfrm>
          <a:off x="4038480" y="3429000"/>
          <a:ext cx="636840" cy="142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Object 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3429000"/>
                    <a:ext cx="63684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152280" y="76320"/>
          <a:ext cx="389916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76320"/>
                    <a:ext cx="38991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Nosé-Hoover Thermostat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al-variable equations are of the for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mpare to isokinetic equa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fference is in the treatment of the friction coefficien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-2257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osé-Hoover correctly samples NVT ensemble for both momentum and configurations; isokinetic does NVT properly only for configurations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Object 5"/>
          <p:cNvGraphicFramePr/>
          <p:nvPr/>
        </p:nvGraphicFramePr>
        <p:xfrm>
          <a:off x="1828800" y="1847880"/>
          <a:ext cx="1955880" cy="24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847880"/>
                    <a:ext cx="195588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6"/>
          <p:cNvGraphicFramePr/>
          <p:nvPr/>
        </p:nvGraphicFramePr>
        <p:xfrm>
          <a:off x="1765440" y="4654440"/>
          <a:ext cx="111744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5440" y="4654440"/>
                    <a:ext cx="111744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7"/>
          <p:cNvGraphicFramePr/>
          <p:nvPr/>
        </p:nvGraphicFramePr>
        <p:xfrm>
          <a:off x="3581280" y="4572000"/>
          <a:ext cx="146052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4572000"/>
                    <a:ext cx="14605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8"/>
          <p:cNvSpPr/>
          <p:nvPr/>
        </p:nvSpPr>
        <p:spPr>
          <a:xfrm>
            <a:off x="2743200" y="29862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(redundant; s is not present in other equ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165240"/>
            <a:ext cx="78742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Nosé-Hoover Thermostat 3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quations of mo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tegration schem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redictor-corrector algorithm is straightforwar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erlet algorithm is feasible, but tricky to implemen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5"/>
          <p:cNvGrpSpPr/>
          <p:nvPr/>
        </p:nvGrpSpPr>
        <p:grpSpPr>
          <a:xfrm>
            <a:off x="1600200" y="5334120"/>
            <a:ext cx="2133720" cy="1328760"/>
            <a:chOff x="1600200" y="5334120"/>
            <a:chExt cx="2133720" cy="1328760"/>
          </a:xfrm>
        </p:grpSpPr>
        <p:sp>
          <p:nvSpPr>
            <p:cNvPr id="260" name="Rectangle 6"/>
            <p:cNvSpPr/>
            <p:nvPr/>
          </p:nvSpPr>
          <p:spPr>
            <a:xfrm>
              <a:off x="1884600" y="5666400"/>
              <a:ext cx="615960" cy="333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7"/>
            <p:cNvSpPr/>
            <p:nvPr/>
          </p:nvSpPr>
          <p:spPr>
            <a:xfrm>
              <a:off x="2499840" y="5666400"/>
              <a:ext cx="617400" cy="333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>
              <a:off x="3117240" y="5666400"/>
              <a:ext cx="616320" cy="333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9"/>
            <p:cNvSpPr/>
            <p:nvPr/>
          </p:nvSpPr>
          <p:spPr>
            <a:xfrm>
              <a:off x="1884600" y="5999400"/>
              <a:ext cx="615960" cy="3319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10"/>
            <p:cNvSpPr/>
            <p:nvPr/>
          </p:nvSpPr>
          <p:spPr>
            <a:xfrm>
              <a:off x="2499840" y="5999400"/>
              <a:ext cx="617400" cy="3319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1"/>
            <p:cNvSpPr/>
            <p:nvPr/>
          </p:nvSpPr>
          <p:spPr>
            <a:xfrm>
              <a:off x="3117240" y="5999400"/>
              <a:ext cx="616320" cy="3319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1884600" y="6330600"/>
              <a:ext cx="615960" cy="3322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13"/>
            <p:cNvSpPr/>
            <p:nvPr/>
          </p:nvSpPr>
          <p:spPr>
            <a:xfrm>
              <a:off x="2499840" y="6330600"/>
              <a:ext cx="617400" cy="3322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14"/>
            <p:cNvSpPr/>
            <p:nvPr/>
          </p:nvSpPr>
          <p:spPr>
            <a:xfrm>
              <a:off x="3117240" y="6330600"/>
              <a:ext cx="616320" cy="3322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15"/>
            <p:cNvSpPr/>
            <p:nvPr/>
          </p:nvSpPr>
          <p:spPr>
            <a:xfrm>
              <a:off x="1600200" y="5667120"/>
              <a:ext cx="28440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16"/>
            <p:cNvSpPr/>
            <p:nvPr/>
          </p:nvSpPr>
          <p:spPr>
            <a:xfrm>
              <a:off x="1836000" y="5334120"/>
              <a:ext cx="189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-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         t          t+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17"/>
            <p:cNvSpPr/>
            <p:nvPr/>
          </p:nvSpPr>
          <p:spPr>
            <a:xfrm>
              <a:off x="1884600" y="5666400"/>
              <a:ext cx="1849320" cy="99648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18"/>
            <p:cNvSpPr/>
            <p:nvPr/>
          </p:nvSpPr>
          <p:spPr>
            <a:xfrm>
              <a:off x="2833560" y="5999400"/>
              <a:ext cx="616320" cy="3319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9"/>
            <p:cNvSpPr/>
            <p:nvPr/>
          </p:nvSpPr>
          <p:spPr>
            <a:xfrm flipV="1">
              <a:off x="3402000" y="6140160"/>
              <a:ext cx="188280" cy="33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0"/>
            <p:cNvSpPr/>
            <p:nvPr/>
          </p:nvSpPr>
          <p:spPr>
            <a:xfrm>
              <a:off x="3117240" y="6140520"/>
              <a:ext cx="4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5" name="Object 21"/>
          <p:cNvGraphicFramePr/>
          <p:nvPr/>
        </p:nvGraphicFramePr>
        <p:xfrm>
          <a:off x="1143000" y="1542960"/>
          <a:ext cx="1955880" cy="24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42960"/>
                    <a:ext cx="195588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22"/>
          <p:cNvGraphicFramePr/>
          <p:nvPr/>
        </p:nvGraphicFramePr>
        <p:xfrm>
          <a:off x="6654960" y="5530680"/>
          <a:ext cx="19555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4960" y="5530680"/>
                    <a:ext cx="19555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Text Box 23"/>
          <p:cNvSpPr/>
          <p:nvPr/>
        </p:nvSpPr>
        <p:spPr>
          <a:xfrm>
            <a:off x="3809880" y="57150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At this step, update of </a:t>
            </a:r>
            <a:r>
              <a:rPr b="0" i="1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ξ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 depends on p; update of p depends on </a:t>
            </a:r>
            <a:r>
              <a:rPr b="0" i="1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Barostat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pproaches similar to that seen in thermostat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nstraint method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tochastic coupling to a pressure bath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xtended Lagrangian equations of mo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stantaneous virial takes the role of the momentum temperatur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caling of the system volume is performed to control pressur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ample:  Equations of motion for constraint metho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82" name="Object 4"/>
          <p:cNvGraphicFramePr/>
          <p:nvPr/>
        </p:nvGraphicFramePr>
        <p:xfrm>
          <a:off x="1689120" y="3225960"/>
          <a:ext cx="40384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3225960"/>
                    <a:ext cx="40384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5"/>
          <p:cNvGraphicFramePr/>
          <p:nvPr/>
        </p:nvGraphicFramePr>
        <p:xfrm>
          <a:off x="1670040" y="5384880"/>
          <a:ext cx="2222640" cy="12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0040" y="5384880"/>
                    <a:ext cx="22226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Text Box 6"/>
          <p:cNvSpPr/>
          <p:nvPr/>
        </p:nvSpPr>
        <p:spPr>
          <a:xfrm>
            <a:off x="4191120" y="55627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χ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(t) is set to ensure dP/dt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tandard MD simulations are performed in the NVE ensem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itial momenta can be set to desired temperature, but very hard to set configuration to have same temperatur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omentum and configuration coordinates go into thermal equilibrium at temperature that is hard to predic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eed ability to thermostat MD simula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id initializ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quired to do NEMD simulation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sirable to have thermostat generate canonical ensem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0200" indent="-250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ral approaches are possi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tochastic coupling with temperature bath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nstraint method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ore rigorous extended Lagrangian techniqu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arostats and other constraints can be imposed in similar way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olecular Dynamics in Other Ensembl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tandard MD samples the NVE ensem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re is need enable MD to operate at constant T and/or P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ith standard MD it is very hard to set initial positions and velocities to give a desired T or P with any accurac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NPT MD permits control over state conditions of most interest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EMD and other advanced methods require temperature contro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wo general approach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tochastic coupling to a reservoi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eedback contro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ood methods ensure proper sampling of the appropriate ensemble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656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What is Temperature?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620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-2296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rmodynamic defini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29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29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29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497520" indent="-191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emperature describes how much more disordered a system becomes when a given amount of energy is added to i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765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high temperature:  adding energy opens up </a:t>
            </a:r>
            <a:r>
              <a:rPr b="0" lang="en-US" sz="1800" spc="-1" strike="noStrike" u="sng">
                <a:solidFill>
                  <a:srgbClr val="00ae00"/>
                </a:solidFill>
                <a:uFillTx/>
                <a:latin typeface="Times New Roman"/>
              </a:rPr>
              <a:t>few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additional microstate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765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ow temperature:  adding energy opens up </a:t>
            </a:r>
            <a:r>
              <a:rPr b="0" lang="en-US" sz="1800" spc="-1" strike="noStrike" u="sng">
                <a:solidFill>
                  <a:srgbClr val="00ae00"/>
                </a:solidFill>
                <a:uFillTx/>
                <a:latin typeface="Times New Roman"/>
              </a:rPr>
              <a:t>many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additional microstate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229680" indent="-2296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rmal equilibriu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497520" indent="-191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ntropy is maximized for an isolated system at equilibriu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otal entropy of two subsystems is sum of entropy of each: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nsider transfer of energy from one subsystem to anothe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765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if entropy of one system goes up more than entropy of other system goes down, total entropy increases with energy transfer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765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equilibrium established when both rates of change are equal (T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=T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3" marL="1072080" indent="-1530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emperature is guaranteed to increase as energy is adde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55" name="Object 4"/>
          <p:cNvGraphicFramePr/>
          <p:nvPr/>
        </p:nvGraphicFramePr>
        <p:xfrm>
          <a:off x="1866960" y="1282680"/>
          <a:ext cx="2070000" cy="12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1282680"/>
                    <a:ext cx="207000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5"/>
          <p:cNvSpPr/>
          <p:nvPr/>
        </p:nvSpPr>
        <p:spPr>
          <a:xfrm>
            <a:off x="3479760" y="144792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Number of microstates having given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901960" y="2133720"/>
            <a:ext cx="196920" cy="25560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AutoShape 7"/>
          <p:cNvCxnSpPr>
            <a:stCxn id="57" idx="1"/>
            <a:endCxn id="58" idx="0"/>
          </p:cNvCxnSpPr>
          <p:nvPr/>
        </p:nvCxnSpPr>
        <p:spPr>
          <a:xfrm flipH="1">
            <a:off x="2999880" y="1706040"/>
            <a:ext cx="480240" cy="428040"/>
          </a:xfrm>
          <a:prstGeom prst="straightConnector1">
            <a:avLst/>
          </a:prstGeom>
          <a:ln w="12600">
            <a:solidFill>
              <a:srgbClr val="00ae00"/>
            </a:solidFill>
            <a:miter/>
          </a:ln>
        </p:spPr>
      </p:cxnSp>
      <p:grpSp>
        <p:nvGrpSpPr>
          <p:cNvPr id="60" name="Group 11"/>
          <p:cNvGrpSpPr/>
          <p:nvPr/>
        </p:nvGrpSpPr>
        <p:grpSpPr>
          <a:xfrm>
            <a:off x="5765760" y="1295280"/>
            <a:ext cx="2711160" cy="1550880"/>
            <a:chOff x="5765760" y="1295280"/>
            <a:chExt cx="2711160" cy="1550880"/>
          </a:xfrm>
        </p:grpSpPr>
        <p:sp>
          <p:nvSpPr>
            <p:cNvPr id="61" name="Text Box 8"/>
            <p:cNvSpPr/>
            <p:nvPr/>
          </p:nvSpPr>
          <p:spPr>
            <a:xfrm>
              <a:off x="6495840" y="1295280"/>
              <a:ext cx="1981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ae00"/>
                  </a:solidFill>
                  <a:latin typeface="Times New Roman"/>
                </a:rPr>
                <a:t>Disordered:  more ways to arrange system and have it look the s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9"/>
            <p:cNvSpPr/>
            <p:nvPr/>
          </p:nvSpPr>
          <p:spPr>
            <a:xfrm>
              <a:off x="5765760" y="2590560"/>
              <a:ext cx="1187280" cy="255600"/>
            </a:xfrm>
            <a:prstGeom prst="rect">
              <a:avLst/>
            </a:prstGeom>
            <a:noFill/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" name="AutoShape 10"/>
            <p:cNvCxnSpPr>
              <a:stCxn id="61" idx="2"/>
              <a:endCxn id="62" idx="0"/>
            </p:cNvCxnSpPr>
            <p:nvPr/>
          </p:nvCxnSpPr>
          <p:spPr>
            <a:xfrm flipH="1">
              <a:off x="6358680" y="2025360"/>
              <a:ext cx="1127880" cy="565920"/>
            </a:xfrm>
            <a:prstGeom prst="straightConnector1">
              <a:avLst/>
            </a:prstGeom>
            <a:ln w="12600">
              <a:solidFill>
                <a:srgbClr val="00ae00"/>
              </a:solidFill>
              <a:miter/>
            </a:ln>
          </p:spPr>
        </p:cxnSp>
      </p:grpSp>
      <p:graphicFrame>
        <p:nvGraphicFramePr>
          <p:cNvPr id="64" name="Object 12"/>
          <p:cNvGraphicFramePr/>
          <p:nvPr/>
        </p:nvGraphicFramePr>
        <p:xfrm>
          <a:off x="7823160" y="4800600"/>
          <a:ext cx="1244520" cy="2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3160" y="4800600"/>
                    <a:ext cx="124452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Rectangle 13"/>
          <p:cNvSpPr/>
          <p:nvPr/>
        </p:nvSpPr>
        <p:spPr>
          <a:xfrm>
            <a:off x="152280" y="5486400"/>
            <a:ext cx="762120" cy="10666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914400" y="5486400"/>
            <a:ext cx="762120" cy="1066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9"/>
          <p:cNvSpPr/>
          <p:nvPr/>
        </p:nvSpPr>
        <p:spPr>
          <a:xfrm>
            <a:off x="685800" y="5715000"/>
            <a:ext cx="53352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1520" y="151920"/>
            <a:ext cx="90424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omentum and Configurational Equilibriu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mentum and configuration coordinates are </a:t>
            </a:r>
            <a:br>
              <a:rPr sz="2400"/>
            </a:b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 thermal equilibriu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omentum and configuration coordinates must be “at same temperature” or there will be net energy flux from one to othe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n arbitrary initial condition (p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,r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 is unlikely to have equal momentum and configurational temperatur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nd once equilibrium is established, energy will fluctuate back and forth between two form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...so temperatures will fluctuate too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ither momentum or configurational coordinates (or both) may be thermostatted to fix temperature of both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ssuming they are couple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1447920" y="2325600"/>
          <a:ext cx="275580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25600"/>
                    <a:ext cx="27558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5"/>
          <p:cNvSpPr/>
          <p:nvPr/>
        </p:nvSpPr>
        <p:spPr>
          <a:xfrm>
            <a:off x="7086600" y="1676520"/>
            <a:ext cx="762120" cy="10666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848720" y="1676520"/>
            <a:ext cx="761760" cy="1066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7577280" y="1886040"/>
            <a:ext cx="533160" cy="6858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5"/>
          <p:cNvSpPr/>
          <p:nvPr/>
        </p:nvSpPr>
        <p:spPr>
          <a:xfrm>
            <a:off x="2895480" y="5638680"/>
            <a:ext cx="1676520" cy="914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n Expression for the Temperature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a space of two variabl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chematic representation of phase spa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tours show lines of constant 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tandard MD simulation moves along corresponding 3N dimensional hypersurfa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ngth of contour E relates to </a:t>
            </a:r>
            <a:r>
              <a:rPr b="0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Ω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hile moving along the E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contour, we’d like to see how much longer the E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contour i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nalysis yield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5791320" y="2057400"/>
            <a:ext cx="2361960" cy="20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6"/>
          <p:cNvSpPr/>
          <p:nvPr/>
        </p:nvSpPr>
        <p:spPr>
          <a:xfrm>
            <a:off x="6400800" y="2743200"/>
            <a:ext cx="1270080" cy="927000"/>
          </a:xfrm>
          <a:custGeom>
            <a:avLst/>
            <a:gdLst/>
            <a:ahLst/>
            <a:rect l="l" t="t" r="r" b="b"/>
            <a:pathLst>
              <a:path w="800" h="584">
                <a:moveTo>
                  <a:pt x="336" y="144"/>
                </a:moveTo>
                <a:cubicBezTo>
                  <a:pt x="272" y="160"/>
                  <a:pt x="232" y="88"/>
                  <a:pt x="192" y="96"/>
                </a:cubicBezTo>
                <a:cubicBezTo>
                  <a:pt x="152" y="104"/>
                  <a:pt x="120" y="128"/>
                  <a:pt x="96" y="192"/>
                </a:cubicBezTo>
                <a:cubicBezTo>
                  <a:pt x="72" y="256"/>
                  <a:pt x="0" y="424"/>
                  <a:pt x="48" y="480"/>
                </a:cubicBezTo>
                <a:cubicBezTo>
                  <a:pt x="96" y="536"/>
                  <a:pt x="264" y="584"/>
                  <a:pt x="384" y="528"/>
                </a:cubicBezTo>
                <a:cubicBezTo>
                  <a:pt x="504" y="472"/>
                  <a:pt x="736" y="232"/>
                  <a:pt x="768" y="144"/>
                </a:cubicBezTo>
                <a:cubicBezTo>
                  <a:pt x="800" y="56"/>
                  <a:pt x="648" y="0"/>
                  <a:pt x="576" y="0"/>
                </a:cubicBezTo>
                <a:cubicBezTo>
                  <a:pt x="504" y="0"/>
                  <a:pt x="400" y="128"/>
                  <a:pt x="336" y="144"/>
                </a:cubicBezTo>
                <a:close/>
              </a:path>
            </a:pathLst>
          </a:custGeom>
          <a:noFill/>
          <a:ln w="255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7"/>
          <p:cNvSpPr/>
          <p:nvPr/>
        </p:nvSpPr>
        <p:spPr>
          <a:xfrm>
            <a:off x="6218280" y="2536920"/>
            <a:ext cx="1676520" cy="1298520"/>
          </a:xfrm>
          <a:custGeom>
            <a:avLst/>
            <a:gdLst/>
            <a:ahLst/>
            <a:rect l="l" t="t" r="r" b="b"/>
            <a:pathLst>
              <a:path w="800" h="584">
                <a:moveTo>
                  <a:pt x="336" y="144"/>
                </a:moveTo>
                <a:cubicBezTo>
                  <a:pt x="272" y="160"/>
                  <a:pt x="232" y="88"/>
                  <a:pt x="192" y="96"/>
                </a:cubicBezTo>
                <a:cubicBezTo>
                  <a:pt x="152" y="104"/>
                  <a:pt x="120" y="128"/>
                  <a:pt x="96" y="192"/>
                </a:cubicBezTo>
                <a:cubicBezTo>
                  <a:pt x="72" y="256"/>
                  <a:pt x="0" y="424"/>
                  <a:pt x="48" y="480"/>
                </a:cubicBezTo>
                <a:cubicBezTo>
                  <a:pt x="96" y="536"/>
                  <a:pt x="264" y="584"/>
                  <a:pt x="384" y="528"/>
                </a:cubicBezTo>
                <a:cubicBezTo>
                  <a:pt x="504" y="472"/>
                  <a:pt x="736" y="232"/>
                  <a:pt x="768" y="144"/>
                </a:cubicBezTo>
                <a:cubicBezTo>
                  <a:pt x="800" y="56"/>
                  <a:pt x="648" y="0"/>
                  <a:pt x="576" y="0"/>
                </a:cubicBezTo>
                <a:cubicBezTo>
                  <a:pt x="504" y="0"/>
                  <a:pt x="400" y="128"/>
                  <a:pt x="336" y="144"/>
                </a:cubicBezTo>
                <a:close/>
              </a:path>
            </a:pathLst>
          </a:custGeom>
          <a:noFill/>
          <a:ln w="255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Object 8"/>
          <p:cNvGraphicFramePr/>
          <p:nvPr/>
        </p:nvGraphicFramePr>
        <p:xfrm>
          <a:off x="7772400" y="4114800"/>
          <a:ext cx="20160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4114800"/>
                    <a:ext cx="2016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9"/>
          <p:cNvGraphicFramePr/>
          <p:nvPr/>
        </p:nvGraphicFramePr>
        <p:xfrm>
          <a:off x="5467320" y="2133720"/>
          <a:ext cx="239760" cy="2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67320" y="2133720"/>
                    <a:ext cx="23976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11"/>
          <p:cNvGraphicFramePr/>
          <p:nvPr/>
        </p:nvGraphicFramePr>
        <p:xfrm>
          <a:off x="7238880" y="2438280"/>
          <a:ext cx="303480" cy="29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8880" y="2438280"/>
                    <a:ext cx="30348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12"/>
          <p:cNvGraphicFramePr/>
          <p:nvPr/>
        </p:nvGraphicFramePr>
        <p:xfrm>
          <a:off x="7162920" y="3048120"/>
          <a:ext cx="303120" cy="29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3048120"/>
                    <a:ext cx="30312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Freeform 18"/>
          <p:cNvSpPr/>
          <p:nvPr/>
        </p:nvSpPr>
        <p:spPr>
          <a:xfrm>
            <a:off x="5943600" y="5334120"/>
            <a:ext cx="2209680" cy="1079280"/>
          </a:xfrm>
          <a:custGeom>
            <a:avLst/>
            <a:gdLst/>
            <a:ahLst/>
            <a:rect l="l" t="t" r="r" b="b"/>
            <a:pathLst>
              <a:path w="1392" h="680">
                <a:moveTo>
                  <a:pt x="0" y="480"/>
                </a:moveTo>
                <a:cubicBezTo>
                  <a:pt x="120" y="544"/>
                  <a:pt x="240" y="608"/>
                  <a:pt x="384" y="624"/>
                </a:cubicBezTo>
                <a:cubicBezTo>
                  <a:pt x="528" y="640"/>
                  <a:pt x="696" y="680"/>
                  <a:pt x="864" y="576"/>
                </a:cubicBezTo>
                <a:cubicBezTo>
                  <a:pt x="1032" y="472"/>
                  <a:pt x="1212" y="236"/>
                  <a:pt x="1392" y="0"/>
                </a:cubicBezTo>
              </a:path>
            </a:pathLst>
          </a:custGeom>
          <a:noFill/>
          <a:ln w="3168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19"/>
          <p:cNvSpPr/>
          <p:nvPr/>
        </p:nvSpPr>
        <p:spPr>
          <a:xfrm>
            <a:off x="5943600" y="4800600"/>
            <a:ext cx="2209680" cy="1079640"/>
          </a:xfrm>
          <a:custGeom>
            <a:avLst/>
            <a:gdLst/>
            <a:ahLst/>
            <a:rect l="l" t="t" r="r" b="b"/>
            <a:pathLst>
              <a:path w="1392" h="680">
                <a:moveTo>
                  <a:pt x="0" y="480"/>
                </a:moveTo>
                <a:cubicBezTo>
                  <a:pt x="120" y="544"/>
                  <a:pt x="240" y="608"/>
                  <a:pt x="384" y="624"/>
                </a:cubicBezTo>
                <a:cubicBezTo>
                  <a:pt x="528" y="640"/>
                  <a:pt x="696" y="680"/>
                  <a:pt x="864" y="576"/>
                </a:cubicBezTo>
                <a:cubicBezTo>
                  <a:pt x="1032" y="472"/>
                  <a:pt x="1212" y="236"/>
                  <a:pt x="1392" y="0"/>
                </a:cubicBezTo>
              </a:path>
            </a:pathLst>
          </a:custGeom>
          <a:noFill/>
          <a:ln w="3168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0"/>
          <p:cNvSpPr/>
          <p:nvPr/>
        </p:nvSpPr>
        <p:spPr>
          <a:xfrm flipH="1">
            <a:off x="5943600" y="3809880"/>
            <a:ext cx="53352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1"/>
          <p:cNvSpPr/>
          <p:nvPr/>
        </p:nvSpPr>
        <p:spPr>
          <a:xfrm>
            <a:off x="7238880" y="3657600"/>
            <a:ext cx="76212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22"/>
          <p:cNvGraphicFramePr/>
          <p:nvPr/>
        </p:nvGraphicFramePr>
        <p:xfrm>
          <a:off x="7848720" y="5562720"/>
          <a:ext cx="303120" cy="290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Object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48720" y="5562720"/>
                    <a:ext cx="30312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23"/>
          <p:cNvGraphicFramePr/>
          <p:nvPr/>
        </p:nvGraphicFramePr>
        <p:xfrm>
          <a:off x="7696080" y="4952880"/>
          <a:ext cx="303480" cy="290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7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96080" y="4952880"/>
                    <a:ext cx="30348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24"/>
          <p:cNvGraphicFramePr/>
          <p:nvPr/>
        </p:nvGraphicFramePr>
        <p:xfrm>
          <a:off x="3048120" y="5715000"/>
          <a:ext cx="1181160" cy="736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9" name="Object 2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8120" y="5715000"/>
                    <a:ext cx="11811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Line 26"/>
          <p:cNvSpPr/>
          <p:nvPr/>
        </p:nvSpPr>
        <p:spPr>
          <a:xfrm>
            <a:off x="7315200" y="5715000"/>
            <a:ext cx="304920" cy="3049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7"/>
          <p:cNvSpPr/>
          <p:nvPr/>
        </p:nvSpPr>
        <p:spPr>
          <a:xfrm>
            <a:off x="7467480" y="5638680"/>
            <a:ext cx="304920" cy="152640"/>
          </a:xfrm>
          <a:prstGeom prst="line">
            <a:avLst/>
          </a:prstGeom>
          <a:ln w="255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8"/>
          <p:cNvSpPr/>
          <p:nvPr/>
        </p:nvSpPr>
        <p:spPr>
          <a:xfrm>
            <a:off x="7238880" y="5791320"/>
            <a:ext cx="152640" cy="380880"/>
          </a:xfrm>
          <a:prstGeom prst="line">
            <a:avLst/>
          </a:prstGeom>
          <a:ln w="255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29"/>
          <p:cNvSpPr/>
          <p:nvPr/>
        </p:nvSpPr>
        <p:spPr>
          <a:xfrm>
            <a:off x="7215120" y="5607000"/>
            <a:ext cx="228600" cy="152280"/>
          </a:xfrm>
          <a:custGeom>
            <a:avLst/>
            <a:gdLst/>
            <a:ahLst/>
            <a:rect l="l" t="t" r="r" b="b"/>
            <a:pathLst>
              <a:path w="144" h="96">
                <a:moveTo>
                  <a:pt x="0" y="96"/>
                </a:moveTo>
                <a:lnTo>
                  <a:pt x="83" y="55"/>
                </a:lnTo>
                <a:lnTo>
                  <a:pt x="144" y="0"/>
                </a:lnTo>
              </a:path>
            </a:pathLst>
          </a:custGeom>
          <a:noFill/>
          <a:ln w="442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30"/>
          <p:cNvSpPr/>
          <p:nvPr/>
        </p:nvSpPr>
        <p:spPr>
          <a:xfrm>
            <a:off x="7389720" y="5810400"/>
            <a:ext cx="376200" cy="376200"/>
          </a:xfrm>
          <a:custGeom>
            <a:avLst/>
            <a:gdLst/>
            <a:ahLst/>
            <a:rect l="l" t="t" r="r" b="b"/>
            <a:pathLst>
              <a:path w="237" h="237">
                <a:moveTo>
                  <a:pt x="0" y="237"/>
                </a:moveTo>
                <a:lnTo>
                  <a:pt x="131" y="131"/>
                </a:lnTo>
                <a:lnTo>
                  <a:pt x="237" y="0"/>
                </a:lnTo>
              </a:path>
            </a:pathLst>
          </a:custGeom>
          <a:noFill/>
          <a:ln w="4428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1"/>
          <p:cNvSpPr/>
          <p:nvPr/>
        </p:nvSpPr>
        <p:spPr>
          <a:xfrm>
            <a:off x="7772400" y="5791320"/>
            <a:ext cx="129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Relates to gradient and rate of change of grad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9"/>
          <p:cNvSpPr/>
          <p:nvPr/>
        </p:nvSpPr>
        <p:spPr>
          <a:xfrm>
            <a:off x="2971800" y="5791320"/>
            <a:ext cx="1828800" cy="838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omentum Temperatur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Kinetic energ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radien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aplacia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3124080" y="1447920"/>
          <a:ext cx="149868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447920"/>
                    <a:ext cx="14986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6"/>
          <p:cNvSpPr/>
          <p:nvPr/>
        </p:nvSpPr>
        <p:spPr>
          <a:xfrm>
            <a:off x="6019920" y="2514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d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7"/>
          <p:cNvGraphicFramePr/>
          <p:nvPr/>
        </p:nvGraphicFramePr>
        <p:xfrm>
          <a:off x="3048120" y="3276720"/>
          <a:ext cx="279396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276720"/>
                    <a:ext cx="279396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8"/>
          <p:cNvGraphicFramePr/>
          <p:nvPr/>
        </p:nvGraphicFramePr>
        <p:xfrm>
          <a:off x="3124080" y="4114800"/>
          <a:ext cx="2514600" cy="242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4114800"/>
                    <a:ext cx="251460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10"/>
          <p:cNvSpPr/>
          <p:nvPr/>
        </p:nvSpPr>
        <p:spPr>
          <a:xfrm>
            <a:off x="5181480" y="5867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The standard canonical-ensemble “equipartition”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11"/>
          <p:cNvGraphicFramePr/>
          <p:nvPr/>
        </p:nvGraphicFramePr>
        <p:xfrm>
          <a:off x="3143160" y="2362320"/>
          <a:ext cx="2603520" cy="69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43160" y="2362320"/>
                    <a:ext cx="26035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nfigurational Temperatur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otential energ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radien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aplacia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3352680" y="1828800"/>
          <a:ext cx="64800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828800"/>
                    <a:ext cx="6480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5"/>
          <p:cNvGraphicFramePr/>
          <p:nvPr/>
        </p:nvGraphicFramePr>
        <p:xfrm>
          <a:off x="2438280" y="2514600"/>
          <a:ext cx="4686480" cy="74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2514600"/>
                    <a:ext cx="4686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6"/>
          <p:cNvGraphicFramePr/>
          <p:nvPr/>
        </p:nvGraphicFramePr>
        <p:xfrm>
          <a:off x="2590920" y="3429000"/>
          <a:ext cx="273024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3429000"/>
                    <a:ext cx="27302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7"/>
          <p:cNvGraphicFramePr/>
          <p:nvPr/>
        </p:nvGraphicFramePr>
        <p:xfrm>
          <a:off x="2971800" y="4267080"/>
          <a:ext cx="2197080" cy="219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4267080"/>
                    <a:ext cx="219708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1"/>
          <p:cNvSpPr/>
          <p:nvPr/>
        </p:nvSpPr>
        <p:spPr>
          <a:xfrm>
            <a:off x="6172200" y="59515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ae00"/>
                </a:solidFill>
                <a:latin typeface="Times New Roman"/>
              </a:rPr>
              <a:t>Butler, B. D., G. Ayton, O. G. Jepps, and D. J. Evans. 1998. Configurational temperature: verification of Monte Carlo simulations. </a:t>
            </a:r>
            <a:r>
              <a:rPr b="0" i="1" lang="en-US" sz="1200" spc="-1" strike="noStrike">
                <a:solidFill>
                  <a:srgbClr val="00ae00"/>
                </a:solidFill>
                <a:latin typeface="Times New Roman"/>
              </a:rPr>
              <a:t>J. Chem. Phys</a:t>
            </a:r>
            <a:r>
              <a:rPr b="0" lang="en-US" sz="1200" spc="-1" strike="noStrike">
                <a:solidFill>
                  <a:srgbClr val="00ae00"/>
                </a:solidFill>
                <a:latin typeface="Times New Roman"/>
              </a:rPr>
              <a:t>. </a:t>
            </a:r>
            <a:r>
              <a:rPr b="1" lang="en-US" sz="1200" spc="-1" strike="noStrike">
                <a:solidFill>
                  <a:srgbClr val="00ae00"/>
                </a:solidFill>
                <a:latin typeface="Times New Roman"/>
              </a:rPr>
              <a:t>109</a:t>
            </a:r>
            <a:r>
              <a:rPr b="0" lang="en-US" sz="1200" spc="-1" strike="noStrike">
                <a:solidFill>
                  <a:srgbClr val="00ae00"/>
                </a:solidFill>
                <a:latin typeface="Times New Roman"/>
              </a:rPr>
              <a:t>, 65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35040" y="609120"/>
            <a:ext cx="797544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Lennard-Jones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nfigurational Temperatur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pherically-symmetric, pairwise additive mod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aplacia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2508120" y="2514600"/>
          <a:ext cx="200664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8120" y="2514600"/>
                    <a:ext cx="20066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5"/>
          <p:cNvGraphicFramePr/>
          <p:nvPr/>
        </p:nvGraphicFramePr>
        <p:xfrm>
          <a:off x="2349360" y="3352680"/>
          <a:ext cx="14986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9360" y="3352680"/>
                    <a:ext cx="14986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6"/>
          <p:cNvGraphicFramePr/>
          <p:nvPr/>
        </p:nvGraphicFramePr>
        <p:xfrm>
          <a:off x="5257800" y="2438280"/>
          <a:ext cx="2654280" cy="7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2438280"/>
                    <a:ext cx="265428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9"/>
          <p:cNvGraphicFramePr/>
          <p:nvPr/>
        </p:nvGraphicFramePr>
        <p:xfrm>
          <a:off x="5194440" y="3352680"/>
          <a:ext cx="3111480" cy="77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94440" y="3352680"/>
                    <a:ext cx="311148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0"/>
          <p:cNvGraphicFramePr/>
          <p:nvPr/>
        </p:nvGraphicFramePr>
        <p:xfrm>
          <a:off x="609480" y="4800600"/>
          <a:ext cx="3683160" cy="800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4800600"/>
                    <a:ext cx="36831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11"/>
          <p:cNvGraphicFramePr/>
          <p:nvPr/>
        </p:nvGraphicFramePr>
        <p:xfrm>
          <a:off x="4876920" y="4865760"/>
          <a:ext cx="3809880" cy="772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3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920" y="4865760"/>
                    <a:ext cx="380988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12"/>
          <p:cNvSpPr/>
          <p:nvPr/>
        </p:nvSpPr>
        <p:spPr>
          <a:xfrm>
            <a:off x="6324480" y="6338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N.B.  Formulas not ver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1T23:02:04Z</dcterms:created>
  <dc:creator>David A. Kofke</dc:creator>
  <dc:description/>
  <dc:language>en-US</dc:language>
  <cp:lastModifiedBy>David Kofke</cp:lastModifiedBy>
  <cp:lastPrinted>2016-04-05T16:16:51Z</cp:lastPrinted>
  <dcterms:modified xsi:type="dcterms:W3CDTF">2016-04-05T16:18:24Z</dcterms:modified>
  <cp:revision>115</cp:revision>
  <dc:subject/>
  <dc:title>MD in Other Ensemb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heme.buffalo.edu/courses/ce530</vt:lpwstr>
  </property>
  <property fmtid="{D5CDD505-2E9C-101B-9397-08002B2CF9AE}" pid="9" name="LinkColor">
    <vt:r8>16711782</vt:r8>
  </property>
  <property fmtid="{D5CDD505-2E9C-101B-9397-08002B2CF9AE}" pid="10" name="MailAddress">
    <vt:lpwstr>kofke@eng.buffalo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G:\Teaching\CE 530\Lecture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