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7150-F395-4F9B-9114-940ED9BAB45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Dynamics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1"/>
          <p:cNvSpPr/>
          <p:nvPr/>
        </p:nvSpPr>
        <p:spPr>
          <a:xfrm>
            <a:off x="1447920" y="2362320"/>
            <a:ext cx="2819160" cy="342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600200" y="6019920"/>
            <a:ext cx="609588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3809880" y="4343400"/>
            <a:ext cx="4419720" cy="1523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876920" y="2438280"/>
            <a:ext cx="4038480" cy="1524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miltonian Formulation 4. Dynam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amilton’s 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rom Lagrangian equations, written in terms of moment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003640" y="2616120"/>
          <a:ext cx="119412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616120"/>
                    <a:ext cx="11941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816200" y="2889360"/>
          <a:ext cx="181584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6200" y="2889360"/>
                    <a:ext cx="1815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213520" y="3301920"/>
          <a:ext cx="69840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3520" y="3301920"/>
                    <a:ext cx="698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8"/>
          <p:cNvSpPr/>
          <p:nvPr/>
        </p:nvSpPr>
        <p:spPr>
          <a:xfrm>
            <a:off x="6477120" y="2666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grange’s equation of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477120" y="3429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finition of 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676520" y="2438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a234"/>
                </a:solidFill>
                <a:latin typeface="Times New Roman"/>
              </a:rPr>
              <a:t>Differential change in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1676520" y="3962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a234"/>
                </a:solidFill>
                <a:latin typeface="Times New Roman"/>
              </a:rPr>
              <a:t>Legendre 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3"/>
          <p:cNvGraphicFramePr/>
          <p:nvPr/>
        </p:nvGraphicFramePr>
        <p:xfrm>
          <a:off x="1765440" y="4311720"/>
          <a:ext cx="1803240" cy="97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5440" y="4311720"/>
                    <a:ext cx="18032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4"/>
          <p:cNvGraphicFramePr/>
          <p:nvPr/>
        </p:nvGraphicFramePr>
        <p:xfrm>
          <a:off x="3879720" y="4483080"/>
          <a:ext cx="927360" cy="12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79720" y="4483080"/>
                    <a:ext cx="9273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15"/>
          <p:cNvSpPr/>
          <p:nvPr/>
        </p:nvSpPr>
        <p:spPr>
          <a:xfrm>
            <a:off x="3657600" y="4572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5029200" y="48909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amilton’s equations of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8"/>
          <p:cNvGraphicFramePr/>
          <p:nvPr/>
        </p:nvGraphicFramePr>
        <p:xfrm>
          <a:off x="4286160" y="6083280"/>
          <a:ext cx="3187800" cy="58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6160" y="6083280"/>
                    <a:ext cx="3187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19"/>
          <p:cNvSpPr/>
          <p:nvPr/>
        </p:nvSpPr>
        <p:spPr>
          <a:xfrm>
            <a:off x="1752480" y="6172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Conservation of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0"/>
          <p:cNvSpPr/>
          <p:nvPr/>
        </p:nvSpPr>
        <p:spPr>
          <a:xfrm>
            <a:off x="1752480" y="4038480"/>
            <a:ext cx="3581640" cy="152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miltonian Formulation 5.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article motion in central force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no simpler, but theoretical basis is bett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019920" y="1676520"/>
            <a:ext cx="2895480" cy="2819160"/>
            <a:chOff x="6019920" y="1676520"/>
            <a:chExt cx="2895480" cy="2819160"/>
          </a:xfrm>
        </p:grpSpPr>
        <p:sp>
          <p:nvSpPr>
            <p:cNvPr id="172" name="Oval 5"/>
            <p:cNvSpPr/>
            <p:nvPr/>
          </p:nvSpPr>
          <p:spPr>
            <a:xfrm>
              <a:off x="6248520" y="1905120"/>
              <a:ext cx="2438280" cy="2438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746748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019920" y="31240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7162920" y="28195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8077320" y="19810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315200" y="2057400"/>
              <a:ext cx="838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 flipV="1">
              <a:off x="7772400" y="2285640"/>
              <a:ext cx="6094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8305920" y="2209680"/>
              <a:ext cx="152280" cy="1526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7391520" y="3048120"/>
              <a:ext cx="152280" cy="15228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868680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7469280" y="2057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Object 16"/>
          <p:cNvGraphicFramePr/>
          <p:nvPr/>
        </p:nvGraphicFramePr>
        <p:xfrm>
          <a:off x="2057400" y="2590920"/>
          <a:ext cx="2197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219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7"/>
          <p:cNvGraphicFramePr/>
          <p:nvPr/>
        </p:nvGraphicFramePr>
        <p:xfrm>
          <a:off x="2590920" y="5626080"/>
          <a:ext cx="143496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626080"/>
                    <a:ext cx="143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8"/>
          <p:cNvGraphicFramePr/>
          <p:nvPr/>
        </p:nvGraphicFramePr>
        <p:xfrm>
          <a:off x="1803240" y="4114800"/>
          <a:ext cx="337824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3240" y="4114800"/>
                    <a:ext cx="33782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9"/>
          <p:cNvGraphicFramePr/>
          <p:nvPr/>
        </p:nvGraphicFramePr>
        <p:xfrm>
          <a:off x="749160" y="4178160"/>
          <a:ext cx="927360" cy="12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9160" y="4178160"/>
                    <a:ext cx="9273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21"/>
          <p:cNvSpPr/>
          <p:nvPr/>
        </p:nvSpPr>
        <p:spPr>
          <a:xfrm>
            <a:off x="6934320" y="5678640"/>
            <a:ext cx="1447560" cy="609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6781680" y="5068800"/>
            <a:ext cx="190512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23"/>
          <p:cNvGraphicFramePr/>
          <p:nvPr/>
        </p:nvGraphicFramePr>
        <p:xfrm>
          <a:off x="6858000" y="5092560"/>
          <a:ext cx="1689120" cy="366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5092560"/>
                    <a:ext cx="16891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24"/>
          <p:cNvGraphicFramePr/>
          <p:nvPr/>
        </p:nvGraphicFramePr>
        <p:xfrm>
          <a:off x="7023240" y="5702400"/>
          <a:ext cx="1269720" cy="58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3240" y="5702400"/>
                    <a:ext cx="1269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25"/>
          <p:cNvSpPr/>
          <p:nvPr/>
        </p:nvSpPr>
        <p:spPr>
          <a:xfrm>
            <a:off x="6705720" y="464832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grange’s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hase Space (again)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turn to the complete picture of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ull specification of microstate of the system is given by the values of all positions and all momenta of all ato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Γ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(p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r</a:t>
            </a:r>
            <a:r>
              <a:rPr b="0" lang="en-US" sz="1800" spc="-1" strike="noStrike" baseline="30000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iew positions and momenta as completely independent coordin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nnection between them comes only through equation of mo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tion through phase 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elpful to think of dynamics as “simple” movement through the high-dimensional phase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acilitate connection to quantum mechanic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asis for theoretical treatments of dynamic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understanding of integrator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324480" y="4648320"/>
            <a:ext cx="2590920" cy="19810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6515280" y="4762440"/>
            <a:ext cx="2057400" cy="1650960"/>
          </a:xfrm>
          <a:custGeom>
            <a:avLst/>
            <a:gdLst/>
            <a:ahLst/>
            <a:rect l="l" t="t" r="r" b="b"/>
            <a:pathLst>
              <a:path w="1296" h="1040">
                <a:moveTo>
                  <a:pt x="408" y="1032"/>
                </a:moveTo>
                <a:cubicBezTo>
                  <a:pt x="540" y="1012"/>
                  <a:pt x="672" y="992"/>
                  <a:pt x="744" y="936"/>
                </a:cubicBezTo>
                <a:cubicBezTo>
                  <a:pt x="816" y="880"/>
                  <a:pt x="800" y="712"/>
                  <a:pt x="840" y="696"/>
                </a:cubicBezTo>
                <a:cubicBezTo>
                  <a:pt x="880" y="680"/>
                  <a:pt x="976" y="792"/>
                  <a:pt x="984" y="840"/>
                </a:cubicBezTo>
                <a:cubicBezTo>
                  <a:pt x="992" y="888"/>
                  <a:pt x="864" y="960"/>
                  <a:pt x="888" y="984"/>
                </a:cubicBezTo>
                <a:cubicBezTo>
                  <a:pt x="912" y="1008"/>
                  <a:pt x="1088" y="1040"/>
                  <a:pt x="1128" y="984"/>
                </a:cubicBezTo>
                <a:cubicBezTo>
                  <a:pt x="1168" y="928"/>
                  <a:pt x="1152" y="696"/>
                  <a:pt x="1128" y="648"/>
                </a:cubicBezTo>
                <a:cubicBezTo>
                  <a:pt x="1104" y="600"/>
                  <a:pt x="1016" y="728"/>
                  <a:pt x="984" y="696"/>
                </a:cubicBezTo>
                <a:cubicBezTo>
                  <a:pt x="952" y="664"/>
                  <a:pt x="888" y="520"/>
                  <a:pt x="936" y="456"/>
                </a:cubicBezTo>
                <a:cubicBezTo>
                  <a:pt x="984" y="392"/>
                  <a:pt x="1248" y="384"/>
                  <a:pt x="1272" y="312"/>
                </a:cubicBezTo>
                <a:cubicBezTo>
                  <a:pt x="1296" y="240"/>
                  <a:pt x="1248" y="48"/>
                  <a:pt x="1080" y="24"/>
                </a:cubicBezTo>
                <a:cubicBezTo>
                  <a:pt x="912" y="0"/>
                  <a:pt x="384" y="112"/>
                  <a:pt x="264" y="168"/>
                </a:cubicBezTo>
                <a:cubicBezTo>
                  <a:pt x="144" y="224"/>
                  <a:pt x="392" y="296"/>
                  <a:pt x="360" y="360"/>
                </a:cubicBezTo>
                <a:cubicBezTo>
                  <a:pt x="328" y="424"/>
                  <a:pt x="48" y="496"/>
                  <a:pt x="72" y="552"/>
                </a:cubicBezTo>
                <a:cubicBezTo>
                  <a:pt x="96" y="608"/>
                  <a:pt x="408" y="720"/>
                  <a:pt x="504" y="696"/>
                </a:cubicBezTo>
                <a:cubicBezTo>
                  <a:pt x="600" y="672"/>
                  <a:pt x="592" y="480"/>
                  <a:pt x="648" y="408"/>
                </a:cubicBezTo>
                <a:cubicBezTo>
                  <a:pt x="704" y="336"/>
                  <a:pt x="816" y="248"/>
                  <a:pt x="840" y="264"/>
                </a:cubicBezTo>
                <a:cubicBezTo>
                  <a:pt x="864" y="280"/>
                  <a:pt x="856" y="400"/>
                  <a:pt x="792" y="504"/>
                </a:cubicBezTo>
                <a:cubicBezTo>
                  <a:pt x="728" y="608"/>
                  <a:pt x="576" y="856"/>
                  <a:pt x="456" y="888"/>
                </a:cubicBezTo>
                <a:cubicBezTo>
                  <a:pt x="336" y="920"/>
                  <a:pt x="144" y="680"/>
                  <a:pt x="72" y="696"/>
                </a:cubicBezTo>
                <a:cubicBezTo>
                  <a:pt x="0" y="712"/>
                  <a:pt x="12" y="848"/>
                  <a:pt x="24" y="984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537040" y="60958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"/>
          <p:cNvSpPr/>
          <p:nvPr/>
        </p:nvSpPr>
        <p:spPr>
          <a:xfrm>
            <a:off x="1523880" y="1739880"/>
            <a:ext cx="1447920" cy="1371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gration Algorith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206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of motion in cartesian coordin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sirable features of an integra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inimal need to compute forces (a very expensive calculation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stability for large time ste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accurac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erves energy and moment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-reversi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rea-preserving (symplectic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784520" y="1790640"/>
          <a:ext cx="8762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790640"/>
                    <a:ext cx="8762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3657600" y="1892160"/>
          <a:ext cx="115560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892160"/>
                    <a:ext cx="115560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"/>
          <p:cNvSpPr/>
          <p:nvPr/>
        </p:nvSpPr>
        <p:spPr>
          <a:xfrm>
            <a:off x="4799520" y="280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pairwise additive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166720" y="1982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2-dimensional space (for ex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4800600" y="181620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952160" y="5958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More on these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4584600" y="579132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5"/>
          <p:cNvSpPr/>
          <p:nvPr/>
        </p:nvSpPr>
        <p:spPr>
          <a:xfrm>
            <a:off x="6858000" y="349236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162920" y="349236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7391520" y="303516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6"/>
          <p:cNvSpPr/>
          <p:nvPr/>
        </p:nvSpPr>
        <p:spPr>
          <a:xfrm>
            <a:off x="7391520" y="37972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7315200" y="3645000"/>
            <a:ext cx="17604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731520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9"/>
          <p:cNvSpPr/>
          <p:nvPr/>
        </p:nvSpPr>
        <p:spPr>
          <a:xfrm flipV="1">
            <a:off x="7315200" y="349236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7315200" y="3645000"/>
            <a:ext cx="5335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7772400" y="364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1176480" y="4724280"/>
            <a:ext cx="362412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1. Equ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ry simple, very good, very popular 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expansion of coordinate forward and backward in tim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d these togeth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arran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pdate without ever consulting velocities!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1220760" y="2495520"/>
          <a:ext cx="5346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495520"/>
                    <a:ext cx="5346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5"/>
          <p:cNvGraphicFramePr/>
          <p:nvPr/>
        </p:nvGraphicFramePr>
        <p:xfrm>
          <a:off x="1244520" y="3860640"/>
          <a:ext cx="4419720" cy="3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4520" y="3860640"/>
                    <a:ext cx="44197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1244520" y="4815000"/>
          <a:ext cx="441972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4520" y="4815000"/>
                    <a:ext cx="441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656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34" name="Group 84"/>
          <p:cNvGrpSpPr/>
          <p:nvPr/>
        </p:nvGrpSpPr>
        <p:grpSpPr>
          <a:xfrm>
            <a:off x="268560" y="990720"/>
            <a:ext cx="8761320" cy="5894640"/>
            <a:chOff x="268560" y="990720"/>
            <a:chExt cx="8761320" cy="5894640"/>
          </a:xfrm>
        </p:grpSpPr>
        <p:sp>
          <p:nvSpPr>
            <p:cNvPr id="235" name="Rectangle 83"/>
            <p:cNvSpPr/>
            <p:nvPr/>
          </p:nvSpPr>
          <p:spPr>
            <a:xfrm>
              <a:off x="2743200" y="990720"/>
              <a:ext cx="19810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74"/>
            <p:cNvSpPr/>
            <p:nvPr/>
          </p:nvSpPr>
          <p:spPr>
            <a:xfrm>
              <a:off x="6369120" y="1752480"/>
              <a:ext cx="2652480" cy="3810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4"/>
            <p:cNvSpPr/>
            <p:nvPr/>
          </p:nvSpPr>
          <p:spPr>
            <a:xfrm>
              <a:off x="498960" y="1455480"/>
              <a:ext cx="6264000" cy="825840"/>
            </a:xfrm>
            <a:prstGeom prst="flowChartInputOutput">
              <a:avLst/>
            </a:prstGeom>
            <a:solidFill>
              <a:srgbClr val="99cc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vious configuratio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-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>
              <a:off x="2174760" y="2568600"/>
              <a:ext cx="2913120" cy="825480"/>
            </a:xfrm>
            <a:prstGeom prst="flowChartProcess">
              <a:avLst/>
            </a:prstGeom>
            <a:solidFill>
              <a:srgbClr val="99cc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for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 all atoms us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>
              <a:off x="1420200" y="3664800"/>
              <a:ext cx="4420440" cy="825480"/>
            </a:xfrm>
            <a:prstGeom prst="flowChartProcess">
              <a:avLst/>
            </a:prstGeom>
            <a:solidFill>
              <a:srgbClr val="99cc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vance all positions according 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+</a:t>
              </a:r>
              <a:r>
                <a:rPr b="0" lang="el-G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) = 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-</a:t>
              </a:r>
              <a:r>
                <a:rPr b="0" lang="el-G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)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/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AutoShape 8"/>
            <p:cNvCxnSpPr>
              <a:stCxn id="237" idx="4"/>
              <a:endCxn id="238" idx="0"/>
            </p:cNvCxnSpPr>
            <p:nvPr/>
          </p:nvCxnSpPr>
          <p:spPr>
            <a:xfrm>
              <a:off x="3631680" y="2286000"/>
              <a:ext cx="1080" cy="27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AutoShape 9"/>
            <p:cNvCxnSpPr>
              <a:stCxn id="238" idx="2"/>
              <a:endCxn id="239" idx="0"/>
            </p:cNvCxnSpPr>
            <p:nvPr/>
          </p:nvCxnSpPr>
          <p:spPr>
            <a:xfrm flipH="1">
              <a:off x="3630240" y="3398760"/>
              <a:ext cx="216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AutoShape 10"/>
            <p:cNvSpPr/>
            <p:nvPr/>
          </p:nvSpPr>
          <p:spPr>
            <a:xfrm>
              <a:off x="2455920" y="4884840"/>
              <a:ext cx="2358360" cy="459720"/>
            </a:xfrm>
            <a:prstGeom prst="flowChartProcess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to block 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AutoShape 11"/>
            <p:cNvCxnSpPr>
              <a:stCxn id="239" idx="2"/>
              <a:endCxn id="242" idx="0"/>
            </p:cNvCxnSpPr>
            <p:nvPr/>
          </p:nvCxnSpPr>
          <p:spPr>
            <a:xfrm>
              <a:off x="3630240" y="4492440"/>
              <a:ext cx="5400" cy="38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AutoShape 12"/>
            <p:cNvSpPr/>
            <p:nvPr/>
          </p:nvSpPr>
          <p:spPr>
            <a:xfrm>
              <a:off x="1825560" y="5234760"/>
              <a:ext cx="3613320" cy="1650600"/>
            </a:xfrm>
            <a:prstGeom prst="flowChartDecision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 of block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AutoShape 13"/>
            <p:cNvCxnSpPr>
              <a:stCxn id="242" idx="2"/>
              <a:endCxn id="244" idx="0"/>
            </p:cNvCxnSpPr>
            <p:nvPr/>
          </p:nvCxnSpPr>
          <p:spPr>
            <a:xfrm flipH="1">
              <a:off x="3631320" y="5349600"/>
              <a:ext cx="3960" cy="292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14"/>
            <p:cNvCxnSpPr>
              <a:stCxn id="244" idx="1"/>
              <a:endCxn id="237" idx="2"/>
            </p:cNvCxnSpPr>
            <p:nvPr/>
          </p:nvCxnSpPr>
          <p:spPr>
            <a:xfrm rot="10800000">
              <a:off x="1124640" y="1867680"/>
              <a:ext cx="700920" cy="4191840"/>
            </a:xfrm>
            <a:prstGeom prst="bentConnector3">
              <a:avLst>
                <a:gd name="adj1" fmla="val 22219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Text Box 15"/>
            <p:cNvSpPr/>
            <p:nvPr/>
          </p:nvSpPr>
          <p:spPr>
            <a:xfrm>
              <a:off x="1066680" y="5641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" name="AutoShape 16"/>
            <p:cNvCxnSpPr>
              <a:stCxn id="244" idx="3"/>
              <a:endCxn id="249" idx="1"/>
            </p:cNvCxnSpPr>
            <p:nvPr/>
          </p:nvCxnSpPr>
          <p:spPr>
            <a:xfrm flipV="1">
              <a:off x="5438520" y="6057720"/>
              <a:ext cx="118188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9" name="AutoShape 17"/>
            <p:cNvSpPr/>
            <p:nvPr/>
          </p:nvSpPr>
          <p:spPr>
            <a:xfrm>
              <a:off x="6620040" y="5676840"/>
              <a:ext cx="1295280" cy="762120"/>
            </a:xfrm>
            <a:prstGeom prst="flowChartAlternateProcess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ver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18"/>
            <p:cNvSpPr/>
            <p:nvPr/>
          </p:nvSpPr>
          <p:spPr>
            <a:xfrm>
              <a:off x="5486400" y="5641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48"/>
            <p:cNvSpPr/>
            <p:nvPr/>
          </p:nvSpPr>
          <p:spPr>
            <a:xfrm>
              <a:off x="6556320" y="2057400"/>
              <a:ext cx="2266920" cy="387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iti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9"/>
            <p:cNvSpPr/>
            <p:nvPr/>
          </p:nvSpPr>
          <p:spPr>
            <a:xfrm>
              <a:off x="6556320" y="2665440"/>
              <a:ext cx="2266920" cy="3873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et block su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50"/>
            <p:cNvSpPr/>
            <p:nvPr/>
          </p:nvSpPr>
          <p:spPr>
            <a:xfrm>
              <a:off x="6556320" y="4491000"/>
              <a:ext cx="2266920" cy="3873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ute block ave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1"/>
            <p:cNvSpPr/>
            <p:nvPr/>
          </p:nvSpPr>
          <p:spPr>
            <a:xfrm>
              <a:off x="6556320" y="5099040"/>
              <a:ext cx="2266920" cy="3873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ute final 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54"/>
            <p:cNvSpPr/>
            <p:nvPr/>
          </p:nvSpPr>
          <p:spPr>
            <a:xfrm>
              <a:off x="7689960" y="427032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55"/>
            <p:cNvSpPr/>
            <p:nvPr/>
          </p:nvSpPr>
          <p:spPr>
            <a:xfrm>
              <a:off x="7689960" y="487836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56"/>
            <p:cNvSpPr/>
            <p:nvPr/>
          </p:nvSpPr>
          <p:spPr>
            <a:xfrm>
              <a:off x="7689960" y="244476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0"/>
            <p:cNvSpPr/>
            <p:nvPr/>
          </p:nvSpPr>
          <p:spPr>
            <a:xfrm>
              <a:off x="7718400" y="4987800"/>
              <a:ext cx="124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1"/>
            <p:cNvSpPr/>
            <p:nvPr/>
          </p:nvSpPr>
          <p:spPr>
            <a:xfrm flipV="1">
              <a:off x="8959680" y="2555640"/>
              <a:ext cx="1800" cy="24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2"/>
            <p:cNvSpPr/>
            <p:nvPr/>
          </p:nvSpPr>
          <p:spPr>
            <a:xfrm flipH="1">
              <a:off x="7772400" y="2556000"/>
              <a:ext cx="11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71"/>
            <p:cNvSpPr/>
            <p:nvPr/>
          </p:nvSpPr>
          <p:spPr>
            <a:xfrm>
              <a:off x="7740720" y="4822920"/>
              <a:ext cx="121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locks per simul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73"/>
            <p:cNvSpPr/>
            <p:nvPr/>
          </p:nvSpPr>
          <p:spPr>
            <a:xfrm>
              <a:off x="6583320" y="16765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ire 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9"/>
            <p:cNvSpPr/>
            <p:nvPr/>
          </p:nvSpPr>
          <p:spPr>
            <a:xfrm>
              <a:off x="6377040" y="1981080"/>
              <a:ext cx="2652840" cy="3575160"/>
            </a:xfrm>
            <a:prstGeom prst="rect">
              <a:avLst/>
            </a:prstGeom>
            <a:solidFill>
              <a:srgbClr val="cec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6611760" y="3605040"/>
              <a:ext cx="105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 move per cyc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2"/>
            <p:cNvSpPr/>
            <p:nvPr/>
          </p:nvSpPr>
          <p:spPr>
            <a:xfrm>
              <a:off x="7689960" y="3052800"/>
              <a:ext cx="14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9"/>
            <p:cNvSpPr/>
            <p:nvPr/>
          </p:nvSpPr>
          <p:spPr>
            <a:xfrm>
              <a:off x="6445080" y="3164040"/>
              <a:ext cx="116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556320" y="3273480"/>
              <a:ext cx="2266920" cy="387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7"/>
            <p:cNvSpPr/>
            <p:nvPr/>
          </p:nvSpPr>
          <p:spPr>
            <a:xfrm flipH="1">
              <a:off x="6445080" y="4379760"/>
              <a:ext cx="117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69"/>
            <p:cNvSpPr/>
            <p:nvPr/>
          </p:nvSpPr>
          <p:spPr>
            <a:xfrm>
              <a:off x="6611760" y="4214880"/>
              <a:ext cx="105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ycles per bl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70"/>
            <p:cNvSpPr/>
            <p:nvPr/>
          </p:nvSpPr>
          <p:spPr>
            <a:xfrm>
              <a:off x="6556320" y="3882960"/>
              <a:ext cx="2266920" cy="387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d to block 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58"/>
            <p:cNvSpPr/>
            <p:nvPr/>
          </p:nvSpPr>
          <p:spPr>
            <a:xfrm flipV="1">
              <a:off x="6445080" y="3163680"/>
              <a:ext cx="1800" cy="12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80"/>
            <p:cNvSpPr/>
            <p:nvPr/>
          </p:nvSpPr>
          <p:spPr>
            <a:xfrm>
              <a:off x="1752480" y="99072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e MD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1"/>
            <p:cNvSpPr/>
            <p:nvPr/>
          </p:nvSpPr>
          <p:spPr>
            <a:xfrm>
              <a:off x="609480" y="251460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Times New Roman"/>
                </a:rPr>
                <a:t>One force evaluation per time st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2"/>
            <p:cNvSpPr/>
            <p:nvPr/>
          </p:nvSpPr>
          <p:spPr>
            <a:xfrm>
              <a:off x="1905120" y="2743200"/>
              <a:ext cx="457200" cy="76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53"/>
            <p:cNvSpPr/>
            <p:nvPr/>
          </p:nvSpPr>
          <p:spPr>
            <a:xfrm>
              <a:off x="7689960" y="3660840"/>
              <a:ext cx="144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5181480" y="2743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iven current position and position at end of previous time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5181480" y="2743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the force at the curren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3395520" y="28195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5181480" y="2743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new position from present and previous positions, and present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3395520" y="2819520"/>
            <a:ext cx="1024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7"/>
          <p:cNvSpPr/>
          <p:nvPr/>
        </p:nvSpPr>
        <p:spPr>
          <a:xfrm flipV="1">
            <a:off x="3352680" y="28954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8"/>
          <p:cNvSpPr/>
          <p:nvPr/>
        </p:nvSpPr>
        <p:spPr>
          <a:xfrm>
            <a:off x="2360520" y="2678040"/>
            <a:ext cx="1905120" cy="162000"/>
          </a:xfrm>
          <a:custGeom>
            <a:avLst/>
            <a:gdLst/>
            <a:ahLst/>
            <a:rect l="l" t="t" r="r" b="b"/>
            <a:pathLst>
              <a:path w="1200" h="102">
                <a:moveTo>
                  <a:pt x="0" y="102"/>
                </a:moveTo>
                <a:cubicBezTo>
                  <a:pt x="66" y="89"/>
                  <a:pt x="248" y="39"/>
                  <a:pt x="398" y="23"/>
                </a:cubicBezTo>
                <a:cubicBezTo>
                  <a:pt x="548" y="7"/>
                  <a:pt x="768" y="0"/>
                  <a:pt x="902" y="7"/>
                </a:cubicBezTo>
                <a:cubicBezTo>
                  <a:pt x="1036" y="14"/>
                  <a:pt x="1138" y="53"/>
                  <a:pt x="1200" y="6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1828800" y="2057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6019920" y="2743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vance to next time ste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48769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48769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48769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289548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 and P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D of hard disk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uitiv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llision detection and impulsive dynam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venient sampling of ensem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dynam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iasing possible to improve perform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dynam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quations of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gration schem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ion of dynamical proper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tensions to other ensem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cus on atomic systems for now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3.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344" name="Object 6"/>
          <p:cNvGraphicFramePr/>
          <p:nvPr/>
        </p:nvGraphicFramePr>
        <p:xfrm>
          <a:off x="87480" y="2220840"/>
          <a:ext cx="891540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2220840"/>
                    <a:ext cx="8915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Relevant Methods in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52280" y="2027160"/>
            <a:ext cx="8839440" cy="449604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83960" y="2049480"/>
            <a:ext cx="8867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Performs one timestep increment in the Verlet algorith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doStep(double tStep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tomIterator.rese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(atomIterator.hasNext()) {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zero forces on al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Agent)atomIterator.next().ia).force.E(0.0);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integratorVerlet.Agent keeps a force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irIterator.allPairs(forceSum);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sum forces on all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 t2 = tStep*tSte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tomIterator.rese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(atomIterator.hasNext()) {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loop over all atoms, moving according to Ver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tom a = atomIterator.n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gent agent = (Agent)a.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ace.Vector r = a.position();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current position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mp.E(r);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sav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.TE(2.0);        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2*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.ME(agent.rLast);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2*r-r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gent.force.TE(a.rm()*t2);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 f/m dt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.PE(agent.force);  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2*r - rLast + f/m dt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gent.rLast.E(temp); 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rLast gets present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28600" y="15699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IntegratorVerlet extends Integra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Relevant Methods in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228600" y="2057400"/>
            <a:ext cx="8686800" cy="449568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91240" y="207972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(anonymous) class for incrementing the sum of the forces on each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ceSum = new AtomPair.Action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Space.Vector f = simulation().space.makeVect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action(AtomPair pair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tentialSoft potential = (PotentialSoft)simulation().getPotential(pair)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identify pot’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.E(potential.force(pair));          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compute force of atom1 on ato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Agent)pair.atom1().ia).force.PE(f);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increment atom1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(Agent)pair.atom2().ia).force.ME(f);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increment atom2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Agent class for IntegratorVerlet; stores useful quantities in each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final static class Agent implements Integrator.Agent {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Atom ato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Space.Vector force;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 //used to accumulate the force o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Space.Vector rLast; 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//holds the position of the atom at the last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Agent(Atom a) {</a:t>
            </a:r>
            <a:r>
              <a:rPr b="1" lang="en-US" sz="1200" spc="-1" strike="noStrike">
                <a:solidFill>
                  <a:srgbClr val="00ae00"/>
                </a:solidFill>
                <a:latin typeface="Courier New"/>
              </a:rPr>
              <a:t>     //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tom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ce = atom.parentMolecule().parentPhase().parentSimulation.space.makeVect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Last = atom.parentMolecule().parentPhase().parentSimulation.space.makeVect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28600" y="1600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IntegratorVerlet extends Integra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s 1. Formalis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 is the gradient of the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857160" y="1981080"/>
          <a:ext cx="323856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981080"/>
                    <a:ext cx="323856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Group 20"/>
          <p:cNvGrpSpPr/>
          <p:nvPr/>
        </p:nvGrpSpPr>
        <p:grpSpPr>
          <a:xfrm>
            <a:off x="5867280" y="914400"/>
            <a:ext cx="1828800" cy="1676520"/>
            <a:chOff x="5867280" y="914400"/>
            <a:chExt cx="1828800" cy="1676520"/>
          </a:xfrm>
        </p:grpSpPr>
        <p:sp>
          <p:nvSpPr>
            <p:cNvPr id="359" name="Oval 6"/>
            <p:cNvSpPr/>
            <p:nvPr/>
          </p:nvSpPr>
          <p:spPr>
            <a:xfrm>
              <a:off x="5943600" y="1828800"/>
              <a:ext cx="762120" cy="7621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7"/>
            <p:cNvSpPr/>
            <p:nvPr/>
          </p:nvSpPr>
          <p:spPr>
            <a:xfrm>
              <a:off x="6934320" y="990720"/>
              <a:ext cx="761760" cy="7617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"/>
            <p:cNvSpPr/>
            <p:nvPr/>
          </p:nvSpPr>
          <p:spPr>
            <a:xfrm flipV="1">
              <a:off x="6400800" y="1436400"/>
              <a:ext cx="83808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9"/>
            <p:cNvSpPr/>
            <p:nvPr/>
          </p:nvSpPr>
          <p:spPr>
            <a:xfrm>
              <a:off x="678168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0"/>
            <p:cNvSpPr/>
            <p:nvPr/>
          </p:nvSpPr>
          <p:spPr>
            <a:xfrm flipV="1">
              <a:off x="6324480" y="13712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1"/>
            <p:cNvSpPr/>
            <p:nvPr/>
          </p:nvSpPr>
          <p:spPr>
            <a:xfrm flipH="1">
              <a:off x="6324480" y="1371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6477120" y="9144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5867280" y="137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Picture 15" descr=""/>
          <p:cNvPicPr/>
          <p:nvPr/>
        </p:nvPicPr>
        <p:blipFill>
          <a:blip r:embed="rId3"/>
          <a:stretch/>
        </p:blipFill>
        <p:spPr>
          <a:xfrm>
            <a:off x="4344840" y="3124080"/>
            <a:ext cx="5027760" cy="34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Object 16"/>
          <p:cNvGraphicFramePr/>
          <p:nvPr/>
        </p:nvGraphicFramePr>
        <p:xfrm>
          <a:off x="6019920" y="2590920"/>
          <a:ext cx="298440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9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2590920"/>
                    <a:ext cx="298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17"/>
          <p:cNvSpPr/>
          <p:nvPr/>
        </p:nvSpPr>
        <p:spPr>
          <a:xfrm>
            <a:off x="152280" y="243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orce on 1, due t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8"/>
          <p:cNvSpPr/>
          <p:nvPr/>
        </p:nvSpPr>
        <p:spPr>
          <a:xfrm flipV="1">
            <a:off x="609480" y="2209320"/>
            <a:ext cx="22860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Object 19"/>
          <p:cNvGraphicFramePr/>
          <p:nvPr/>
        </p:nvGraphicFramePr>
        <p:xfrm>
          <a:off x="838080" y="4876920"/>
          <a:ext cx="1320840" cy="29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3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876920"/>
                    <a:ext cx="13208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s 2. LJ Mode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 is the gradient of the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376" name="Object 4"/>
          <p:cNvGraphicFramePr/>
          <p:nvPr/>
        </p:nvGraphicFramePr>
        <p:xfrm>
          <a:off x="914400" y="1752480"/>
          <a:ext cx="29084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2908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Oval 5"/>
          <p:cNvSpPr/>
          <p:nvPr/>
        </p:nvSpPr>
        <p:spPr>
          <a:xfrm>
            <a:off x="5943600" y="1828800"/>
            <a:ext cx="762120" cy="7621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6934320" y="990720"/>
            <a:ext cx="761760" cy="761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7"/>
          <p:cNvSpPr/>
          <p:nvPr/>
        </p:nvSpPr>
        <p:spPr>
          <a:xfrm flipV="1">
            <a:off x="6400800" y="1436400"/>
            <a:ext cx="83808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781680" y="1676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 flipV="1">
            <a:off x="6324480" y="1371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 flipH="1">
            <a:off x="6324480" y="1371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6477120" y="914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5867280" y="1371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3" descr=""/>
          <p:cNvPicPr/>
          <p:nvPr/>
        </p:nvPicPr>
        <p:blipFill>
          <a:blip r:embed="rId3"/>
          <a:stretch/>
        </p:blipFill>
        <p:spPr>
          <a:xfrm>
            <a:off x="4344840" y="3124080"/>
            <a:ext cx="5027760" cy="34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Object 14"/>
          <p:cNvGraphicFramePr/>
          <p:nvPr/>
        </p:nvGraphicFramePr>
        <p:xfrm>
          <a:off x="6019920" y="2590920"/>
          <a:ext cx="298440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2590920"/>
                    <a:ext cx="298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15"/>
          <p:cNvSpPr/>
          <p:nvPr/>
        </p:nvSpPr>
        <p:spPr>
          <a:xfrm>
            <a:off x="152280" y="2362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.g., 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ennard-Jone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18"/>
          <p:cNvGraphicFramePr/>
          <p:nvPr/>
        </p:nvGraphicFramePr>
        <p:xfrm>
          <a:off x="279360" y="2819520"/>
          <a:ext cx="4559400" cy="306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9360" y="2819520"/>
                    <a:ext cx="45594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s 3.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127080" y="2230560"/>
          <a:ext cx="8834400" cy="16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230560"/>
                    <a:ext cx="88344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s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. Relevant Methods from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228600" y="2286000"/>
            <a:ext cx="8763120" cy="358128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228600" y="1828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PotentialLJ implements PotentialSof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217440" y="2652840"/>
            <a:ext cx="8822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Space.Vector used to compute and return a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 Space.Vector force = Simulation.space.makeVec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pace.Vector force(AtomPair pai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2 = pair.r2();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squared distance between pair of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r2 &gt; cutoffDiameterSquared) {force.E(0.0);}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outside cutoff; no inte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s2 = sigmaSquared/r2;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// (sigma/r)^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s6 = s2*s2*s2;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 (sigma/r)^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ce.E(pair.dr()); 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 f = (x12 ex + y12 ey)  (vec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ce.TE(-48*s2*s6*(s6-0.5)/sigmaSquared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 f *= -48*(sigma/r)^8 * [(sigma/r)^6 - 1/2] / sigma^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for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.  4. Loose End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itial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w to get position at “previous time step” when starting out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ple approxim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btaining the veloc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evaluated during normal course of algorith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eded to compute some properties, e.g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emperatur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iffusion constan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nite differ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4"/>
          <p:cNvGraphicFramePr/>
          <p:nvPr/>
        </p:nvGraphicFramePr>
        <p:xfrm>
          <a:off x="1765440" y="3035160"/>
          <a:ext cx="243828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3035160"/>
                    <a:ext cx="24382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5"/>
          <p:cNvGraphicFramePr/>
          <p:nvPr/>
        </p:nvGraphicFramePr>
        <p:xfrm>
          <a:off x="1682640" y="5918040"/>
          <a:ext cx="37465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5918040"/>
                    <a:ext cx="37465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rlet Algorithm 5. Performance Issu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ime rever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ward time ste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 with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l-GR" sz="2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e algorithm, with same positions and forces, moves system backward in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umerical imprecision of adding large/small number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07" name="Object 4"/>
          <p:cNvGraphicFramePr/>
          <p:nvPr/>
        </p:nvGraphicFramePr>
        <p:xfrm>
          <a:off x="2190600" y="2209680"/>
          <a:ext cx="354348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209680"/>
                    <a:ext cx="35434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5"/>
          <p:cNvGraphicFramePr/>
          <p:nvPr/>
        </p:nvGraphicFramePr>
        <p:xfrm>
          <a:off x="2209680" y="2971800"/>
          <a:ext cx="439416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971800"/>
                    <a:ext cx="43941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1955880" y="5410080"/>
          <a:ext cx="39751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5880" y="5410080"/>
                    <a:ext cx="39751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7"/>
          <p:cNvSpPr/>
          <p:nvPr/>
        </p:nvSpPr>
        <p:spPr>
          <a:xfrm>
            <a:off x="3403440" y="61117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O(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3530520" y="5416560"/>
            <a:ext cx="3301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AutoShape 9"/>
          <p:cNvCxnSpPr>
            <a:stCxn id="413" idx="0"/>
            <a:endCxn id="414" idx="2"/>
          </p:cNvCxnSpPr>
          <p:nvPr/>
        </p:nvCxnSpPr>
        <p:spPr>
          <a:xfrm flipV="1">
            <a:off x="3631680" y="5824080"/>
            <a:ext cx="64440" cy="28800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416" name="Text Box 10"/>
          <p:cNvSpPr/>
          <p:nvPr/>
        </p:nvSpPr>
        <p:spPr>
          <a:xfrm>
            <a:off x="4089240" y="61117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O(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4038480" y="5416560"/>
            <a:ext cx="8035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AutoShape 12"/>
          <p:cNvCxnSpPr>
            <a:stCxn id="416" idx="0"/>
            <a:endCxn id="417" idx="2"/>
          </p:cNvCxnSpPr>
          <p:nvPr/>
        </p:nvCxnSpPr>
        <p:spPr>
          <a:xfrm flipV="1">
            <a:off x="4317840" y="5824080"/>
            <a:ext cx="123120" cy="28800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419" name="Text Box 13"/>
          <p:cNvSpPr/>
          <p:nvPr/>
        </p:nvSpPr>
        <p:spPr>
          <a:xfrm>
            <a:off x="4165560" y="48769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O(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479760" y="5334120"/>
            <a:ext cx="1393920" cy="5490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AutoShape 15"/>
          <p:cNvCxnSpPr>
            <a:stCxn id="419" idx="2"/>
            <a:endCxn id="420" idx="0"/>
          </p:cNvCxnSpPr>
          <p:nvPr/>
        </p:nvCxnSpPr>
        <p:spPr>
          <a:xfrm flipH="1">
            <a:off x="4176360" y="5092200"/>
            <a:ext cx="218160" cy="2422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422" name="Text Box 16"/>
          <p:cNvSpPr/>
          <p:nvPr/>
        </p:nvSpPr>
        <p:spPr>
          <a:xfrm>
            <a:off x="5079960" y="609588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O(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5003640" y="5410080"/>
            <a:ext cx="939960" cy="40824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18"/>
          <p:cNvCxnSpPr>
            <a:stCxn id="422" idx="0"/>
            <a:endCxn id="423" idx="2"/>
          </p:cNvCxnSpPr>
          <p:nvPr/>
        </p:nvCxnSpPr>
        <p:spPr>
          <a:xfrm flipV="1">
            <a:off x="5308200" y="5817600"/>
            <a:ext cx="165960" cy="2782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425" name="Text Box 19"/>
          <p:cNvSpPr/>
          <p:nvPr/>
        </p:nvSpPr>
        <p:spPr>
          <a:xfrm>
            <a:off x="2641680" y="4876920"/>
            <a:ext cx="4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O(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1955880" y="5334120"/>
            <a:ext cx="1393920" cy="5490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21"/>
          <p:cNvCxnSpPr>
            <a:stCxn id="425" idx="2"/>
            <a:endCxn id="426" idx="0"/>
          </p:cNvCxnSpPr>
          <p:nvPr/>
        </p:nvCxnSpPr>
        <p:spPr>
          <a:xfrm flipH="1">
            <a:off x="2652480" y="5092200"/>
            <a:ext cx="218160" cy="2422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itial Velocities</a:t>
            </a:r>
            <a:br>
              <a:rPr sz="3600"/>
            </a:b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(from Lecture 3)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andom dire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ndomize each component independent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andomize direction by choosing point on spherical surf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gnitude consistent with desired temperature.  Choices: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xwell-Boltzmann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form over (-1/2,+1/2), then scale so that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tant at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e for y, z compone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 sure to shift so center-of-mass momentum is zer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30" name="Object 4"/>
          <p:cNvGraphicFramePr/>
          <p:nvPr/>
        </p:nvGraphicFramePr>
        <p:xfrm>
          <a:off x="3895560" y="2851200"/>
          <a:ext cx="271800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5560" y="2851200"/>
                    <a:ext cx="27180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5"/>
          <p:cNvGraphicFramePr/>
          <p:nvPr/>
        </p:nvGraphicFramePr>
        <p:xfrm>
          <a:off x="2870280" y="3657600"/>
          <a:ext cx="132084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3657600"/>
                    <a:ext cx="1320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6400800" y="3213000"/>
          <a:ext cx="167652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213000"/>
                    <a:ext cx="16765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7"/>
          <p:cNvGraphicFramePr/>
          <p:nvPr/>
        </p:nvGraphicFramePr>
        <p:xfrm>
          <a:off x="1625760" y="4954680"/>
          <a:ext cx="165096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5760" y="4954680"/>
                    <a:ext cx="16509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assical Equations of Mo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formulations are in u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grangia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amiltonia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dvantages of non-Newtonian formu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re general, no need for “fictitious” for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tter suited for multiparticle syste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tter handling of constraint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be formulated from more basic postul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ssume conservative for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1606680" y="6089760"/>
          <a:ext cx="888840" cy="27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6089760"/>
                    <a:ext cx="88884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6"/>
          <p:cNvSpPr/>
          <p:nvPr/>
        </p:nvSpPr>
        <p:spPr>
          <a:xfrm>
            <a:off x="291924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Gradient of a scalar potenti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iminates addition of small number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to differences in large one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2336760" y="2743200"/>
          <a:ext cx="30988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2743200"/>
                    <a:ext cx="3098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iminates addition of small number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to differences in large one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thematically equivalent to Verlet algorithm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2336760" y="2743200"/>
          <a:ext cx="30988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2743200"/>
                    <a:ext cx="3098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5"/>
          <p:cNvGraphicFramePr/>
          <p:nvPr/>
        </p:nvGraphicFramePr>
        <p:xfrm>
          <a:off x="2355840" y="4343400"/>
          <a:ext cx="42418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5840" y="4343400"/>
                    <a:ext cx="4241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6"/>
          <p:cNvSpPr/>
          <p:nvPr/>
        </p:nvSpPr>
        <p:spPr>
          <a:xfrm>
            <a:off x="3505320" y="3124080"/>
            <a:ext cx="20574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>
            <a:off x="4419720" y="3581280"/>
            <a:ext cx="30456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iminates addition of small number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to differences in large one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thematically equivalent to Verlet algorithm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2336760" y="2743200"/>
          <a:ext cx="30988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2743200"/>
                    <a:ext cx="3098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2355840" y="4343400"/>
          <a:ext cx="42418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5840" y="4343400"/>
                    <a:ext cx="4241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6"/>
          <p:cNvSpPr/>
          <p:nvPr/>
        </p:nvSpPr>
        <p:spPr>
          <a:xfrm>
            <a:off x="3505320" y="3124080"/>
            <a:ext cx="20574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4419720" y="3581280"/>
            <a:ext cx="30456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Object 8"/>
          <p:cNvGraphicFramePr/>
          <p:nvPr/>
        </p:nvGraphicFramePr>
        <p:xfrm>
          <a:off x="2362320" y="5270400"/>
          <a:ext cx="3035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270400"/>
                    <a:ext cx="3035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9"/>
          <p:cNvSpPr/>
          <p:nvPr/>
        </p:nvSpPr>
        <p:spPr>
          <a:xfrm>
            <a:off x="228600" y="5165640"/>
            <a:ext cx="2209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t) as evaluated from previous time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0"/>
          <p:cNvSpPr/>
          <p:nvPr/>
        </p:nvSpPr>
        <p:spPr>
          <a:xfrm rot="5400000">
            <a:off x="2933640" y="453384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AutoShape 11"/>
          <p:cNvCxnSpPr>
            <a:stCxn id="461" idx="1"/>
          </p:cNvCxnSpPr>
          <p:nvPr/>
        </p:nvCxnSpPr>
        <p:spPr>
          <a:xfrm flipH="1" flipV="1" rot="5400000">
            <a:off x="3576600" y="4204080"/>
            <a:ext cx="369000" cy="1430640"/>
          </a:xfrm>
          <a:prstGeom prst="bentConnector3">
            <a:avLst>
              <a:gd name="adj1" fmla="val 49511"/>
            </a:avLst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iminates addition of small number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to differences in large one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thematically equivalent to Verlet algorithm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2336760" y="2743200"/>
          <a:ext cx="30988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2743200"/>
                    <a:ext cx="3098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5"/>
          <p:cNvGraphicFramePr/>
          <p:nvPr/>
        </p:nvGraphicFramePr>
        <p:xfrm>
          <a:off x="2355840" y="4343400"/>
          <a:ext cx="42418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5840" y="4343400"/>
                    <a:ext cx="4241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6"/>
          <p:cNvSpPr/>
          <p:nvPr/>
        </p:nvSpPr>
        <p:spPr>
          <a:xfrm>
            <a:off x="3505320" y="3124080"/>
            <a:ext cx="20574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7"/>
          <p:cNvSpPr/>
          <p:nvPr/>
        </p:nvSpPr>
        <p:spPr>
          <a:xfrm>
            <a:off x="4419720" y="3581280"/>
            <a:ext cx="30456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Object 8"/>
          <p:cNvGraphicFramePr/>
          <p:nvPr/>
        </p:nvGraphicFramePr>
        <p:xfrm>
          <a:off x="2362320" y="5270400"/>
          <a:ext cx="3035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270400"/>
                    <a:ext cx="3035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Text Box 9"/>
          <p:cNvSpPr/>
          <p:nvPr/>
        </p:nvSpPr>
        <p:spPr>
          <a:xfrm>
            <a:off x="228600" y="5165640"/>
            <a:ext cx="2209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t) as evaluated from previous time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10"/>
          <p:cNvSpPr/>
          <p:nvPr/>
        </p:nvSpPr>
        <p:spPr>
          <a:xfrm rot="5400000">
            <a:off x="2933640" y="453384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1"/>
          <p:cNvCxnSpPr>
            <a:stCxn id="474" idx="1"/>
          </p:cNvCxnSpPr>
          <p:nvPr/>
        </p:nvCxnSpPr>
        <p:spPr>
          <a:xfrm flipH="1" flipV="1" rot="5400000">
            <a:off x="3576600" y="4204080"/>
            <a:ext cx="369000" cy="1430640"/>
          </a:xfrm>
          <a:prstGeom prst="bentConnector3">
            <a:avLst>
              <a:gd name="adj1" fmla="val 49511"/>
            </a:avLst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graphicFrame>
        <p:nvGraphicFramePr>
          <p:cNvPr id="476" name="Object 12"/>
          <p:cNvGraphicFramePr/>
          <p:nvPr/>
        </p:nvGraphicFramePr>
        <p:xfrm>
          <a:off x="2362320" y="5715000"/>
          <a:ext cx="46861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715000"/>
                    <a:ext cx="46861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iminates addition of small number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to differences in large ones O(</a:t>
            </a:r>
            <a:r>
              <a:rPr b="0" lang="el-GR" sz="2400" spc="-1" strike="noStrike">
                <a:solidFill>
                  <a:srgbClr val="618ffd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thematically equivalent to Verlet algorithm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2336760" y="2743200"/>
          <a:ext cx="30988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2743200"/>
                    <a:ext cx="3098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"/>
          <p:cNvGraphicFramePr/>
          <p:nvPr/>
        </p:nvGraphicFramePr>
        <p:xfrm>
          <a:off x="2355840" y="4343400"/>
          <a:ext cx="424188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5840" y="4343400"/>
                    <a:ext cx="42418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6"/>
          <p:cNvSpPr/>
          <p:nvPr/>
        </p:nvSpPr>
        <p:spPr>
          <a:xfrm>
            <a:off x="3505320" y="3124080"/>
            <a:ext cx="2057400" cy="457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4419720" y="3581280"/>
            <a:ext cx="30456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2362320" y="5270400"/>
          <a:ext cx="3035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270400"/>
                    <a:ext cx="3035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9"/>
          <p:cNvSpPr/>
          <p:nvPr/>
        </p:nvSpPr>
        <p:spPr>
          <a:xfrm>
            <a:off x="228600" y="5165640"/>
            <a:ext cx="2209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t) as evaluated from previous time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10"/>
          <p:cNvSpPr/>
          <p:nvPr/>
        </p:nvSpPr>
        <p:spPr>
          <a:xfrm rot="5400000">
            <a:off x="2933640" y="453384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75"/>
                </a:lnTo>
                <a:cubicBezTo>
                  <a:pt x="10800" y="10175"/>
                  <a:pt x="5400" y="11075"/>
                  <a:pt x="0" y="11075"/>
                </a:cubicBezTo>
                <a:cubicBezTo>
                  <a:pt x="5400" y="11075"/>
                  <a:pt x="10800" y="11975"/>
                  <a:pt x="10800" y="128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AutoShape 11"/>
          <p:cNvCxnSpPr>
            <a:stCxn id="489" idx="1"/>
          </p:cNvCxnSpPr>
          <p:nvPr/>
        </p:nvCxnSpPr>
        <p:spPr>
          <a:xfrm flipH="1" flipV="1" rot="5400000">
            <a:off x="3576600" y="4204080"/>
            <a:ext cx="369000" cy="1430640"/>
          </a:xfrm>
          <a:prstGeom prst="bentConnector3">
            <a:avLst>
              <a:gd name="adj1" fmla="val 49511"/>
            </a:avLst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graphicFrame>
        <p:nvGraphicFramePr>
          <p:cNvPr id="491" name="Object 12"/>
          <p:cNvGraphicFramePr/>
          <p:nvPr/>
        </p:nvGraphicFramePr>
        <p:xfrm>
          <a:off x="2362320" y="5715000"/>
          <a:ext cx="4686120" cy="4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715000"/>
                    <a:ext cx="46861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13"/>
          <p:cNvGraphicFramePr/>
          <p:nvPr/>
        </p:nvGraphicFramePr>
        <p:xfrm>
          <a:off x="2362320" y="6248520"/>
          <a:ext cx="354312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6248520"/>
                    <a:ext cx="3543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Text Box 14"/>
          <p:cNvSpPr/>
          <p:nvPr/>
        </p:nvSpPr>
        <p:spPr>
          <a:xfrm>
            <a:off x="6172200" y="624852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original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2405160" y="3124080"/>
            <a:ext cx="99036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39552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5181480" y="2743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iven current position, and velocity at last half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2405160" y="3124080"/>
            <a:ext cx="99036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39552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5181480" y="2743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current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6"/>
          <p:cNvSpPr/>
          <p:nvPr/>
        </p:nvSpPr>
        <p:spPr>
          <a:xfrm>
            <a:off x="342900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40516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39552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51814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velocity at next half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6"/>
          <p:cNvSpPr/>
          <p:nvPr/>
        </p:nvSpPr>
        <p:spPr>
          <a:xfrm>
            <a:off x="2895480" y="3429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7"/>
          <p:cNvSpPr/>
          <p:nvPr/>
        </p:nvSpPr>
        <p:spPr>
          <a:xfrm flipV="1">
            <a:off x="3429000" y="35053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240516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39552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518148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nex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5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>
            <a:off x="342900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 flipV="1">
            <a:off x="3962520" y="28954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  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240516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39552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38624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1828800" y="2057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4"/>
          <p:cNvSpPr/>
          <p:nvPr/>
        </p:nvSpPr>
        <p:spPr>
          <a:xfrm>
            <a:off x="6019920" y="2743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vance to next time ste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48769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8"/>
          <p:cNvSpPr/>
          <p:nvPr/>
        </p:nvSpPr>
        <p:spPr>
          <a:xfrm>
            <a:off x="48769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9"/>
          <p:cNvSpPr/>
          <p:nvPr/>
        </p:nvSpPr>
        <p:spPr>
          <a:xfrm>
            <a:off x="289548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7"/>
          <p:cNvSpPr/>
          <p:nvPr/>
        </p:nvSpPr>
        <p:spPr>
          <a:xfrm>
            <a:off x="1305000" y="5888160"/>
            <a:ext cx="1904760" cy="761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1312920" y="5504040"/>
            <a:ext cx="1049400" cy="33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Newtonian For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rtesian spatial coordinates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= (x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,z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are primary varia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N atoms, system of N 2nd-order differential equ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ample application:  2D motion in central force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lar coordinates are more natural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conven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1473120" y="2343240"/>
          <a:ext cx="1587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343240"/>
                    <a:ext cx="1587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6"/>
          <p:cNvGrpSpPr/>
          <p:nvPr/>
        </p:nvGrpSpPr>
        <p:grpSpPr>
          <a:xfrm>
            <a:off x="6172200" y="3429000"/>
            <a:ext cx="2895480" cy="2819160"/>
            <a:chOff x="6172200" y="3429000"/>
            <a:chExt cx="2895480" cy="2819160"/>
          </a:xfrm>
        </p:grpSpPr>
        <p:sp>
          <p:nvSpPr>
            <p:cNvPr id="56" name="Oval 7"/>
            <p:cNvSpPr/>
            <p:nvPr/>
          </p:nvSpPr>
          <p:spPr>
            <a:xfrm>
              <a:off x="6400800" y="3657600"/>
              <a:ext cx="2438280" cy="2438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7619760" y="342900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6172200" y="487656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7315200" y="45720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8229600" y="37335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 flipV="1">
              <a:off x="7467480" y="3809880"/>
              <a:ext cx="838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3"/>
            <p:cNvSpPr/>
            <p:nvPr/>
          </p:nvSpPr>
          <p:spPr>
            <a:xfrm flipV="1">
              <a:off x="7924680" y="4038120"/>
              <a:ext cx="6094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58200" y="3962160"/>
              <a:ext cx="152280" cy="1526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7543800" y="4800600"/>
              <a:ext cx="152280" cy="15228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6"/>
            <p:cNvSpPr/>
            <p:nvPr/>
          </p:nvSpPr>
          <p:spPr>
            <a:xfrm>
              <a:off x="88390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7621560" y="38098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" name="Object 18"/>
          <p:cNvGraphicFramePr/>
          <p:nvPr/>
        </p:nvGraphicFramePr>
        <p:xfrm>
          <a:off x="7759800" y="4648320"/>
          <a:ext cx="107928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9800" y="4648320"/>
                    <a:ext cx="1079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9"/>
          <p:cNvGraphicFramePr/>
          <p:nvPr/>
        </p:nvGraphicFramePr>
        <p:xfrm>
          <a:off x="1371600" y="3549600"/>
          <a:ext cx="397512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549600"/>
                    <a:ext cx="39751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20"/>
          <p:cNvGraphicFramePr/>
          <p:nvPr/>
        </p:nvGraphicFramePr>
        <p:xfrm>
          <a:off x="1378080" y="5500800"/>
          <a:ext cx="17143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8080" y="5500800"/>
                    <a:ext cx="1714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21"/>
          <p:cNvSpPr/>
          <p:nvPr/>
        </p:nvSpPr>
        <p:spPr>
          <a:xfrm>
            <a:off x="2362320" y="5486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constant angular 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3429000" y="6172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ictitious (centrifugal)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2619360" y="5923080"/>
            <a:ext cx="495360" cy="6858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AutoShape 25"/>
          <p:cNvCxnSpPr>
            <a:stCxn id="74" idx="1"/>
            <a:endCxn id="75" idx="3"/>
          </p:cNvCxnSpPr>
          <p:nvPr/>
        </p:nvCxnSpPr>
        <p:spPr>
          <a:xfrm flipH="1" flipV="1">
            <a:off x="3114000" y="6265440"/>
            <a:ext cx="315000" cy="914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eapfrog Algorithm.  3. Loose End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itial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w to get velocity at “previous time step” when starting out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ple approxim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btaining the veloc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pol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Object 4"/>
          <p:cNvGraphicFramePr/>
          <p:nvPr/>
        </p:nvGraphicFramePr>
        <p:xfrm>
          <a:off x="1498680" y="2997360"/>
          <a:ext cx="29718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997360"/>
                    <a:ext cx="29718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5"/>
          <p:cNvGraphicFramePr/>
          <p:nvPr/>
        </p:nvGraphicFramePr>
        <p:xfrm>
          <a:off x="2019240" y="4730760"/>
          <a:ext cx="307332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9240" y="4730760"/>
                    <a:ext cx="307332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oundoff advantage of leapfrog, but better treatment of veloc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mplemented in st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iven current for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t new tim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dd current-force term to velocity (give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t half-time step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mpute new for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dd new-force term to veloc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so mathematically equivalent to Verlet algorithm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in giving values of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1905120" y="2514600"/>
          <a:ext cx="36828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3682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5181480" y="2743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Given current position, velocity, and 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5181480" y="2743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new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3352680" y="2895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8"/>
          <p:cNvSpPr/>
          <p:nvPr/>
        </p:nvSpPr>
        <p:spPr>
          <a:xfrm flipV="1">
            <a:off x="3429000" y="297180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9"/>
          <p:cNvSpPr/>
          <p:nvPr/>
        </p:nvSpPr>
        <p:spPr>
          <a:xfrm flipV="1">
            <a:off x="3429000" y="3048120"/>
            <a:ext cx="7621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4"/>
          <p:cNvSpPr/>
          <p:nvPr/>
        </p:nvSpPr>
        <p:spPr>
          <a:xfrm>
            <a:off x="5181480" y="2743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velocity at half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6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342900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3352680" y="3429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3429000" y="35053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8288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5181480" y="2743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force at new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6"/>
          <p:cNvSpPr/>
          <p:nvPr/>
        </p:nvSpPr>
        <p:spPr>
          <a:xfrm>
            <a:off x="190512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342900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9"/>
          <p:cNvSpPr/>
          <p:nvPr/>
        </p:nvSpPr>
        <p:spPr>
          <a:xfrm>
            <a:off x="4343400" y="2895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53" name="Rectangle 14"/>
          <p:cNvSpPr/>
          <p:nvPr/>
        </p:nvSpPr>
        <p:spPr>
          <a:xfrm>
            <a:off x="5181480" y="2743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ute velocity at full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20"/>
          <p:cNvGrpSpPr/>
          <p:nvPr/>
        </p:nvGrpSpPr>
        <p:grpSpPr>
          <a:xfrm>
            <a:off x="1447920" y="2057400"/>
            <a:ext cx="3429000" cy="2133720"/>
            <a:chOff x="1447920" y="2057400"/>
            <a:chExt cx="3429000" cy="2133720"/>
          </a:xfrm>
        </p:grpSpPr>
        <p:sp>
          <p:nvSpPr>
            <p:cNvPr id="656" name="Rectangle 3"/>
            <p:cNvSpPr/>
            <p:nvPr/>
          </p:nvSpPr>
          <p:spPr>
            <a:xfrm>
              <a:off x="1905120" y="2590920"/>
              <a:ext cx="990360" cy="53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"/>
            <p:cNvSpPr/>
            <p:nvPr/>
          </p:nvSpPr>
          <p:spPr>
            <a:xfrm>
              <a:off x="2895480" y="2590920"/>
              <a:ext cx="990720" cy="533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5"/>
            <p:cNvSpPr/>
            <p:nvPr/>
          </p:nvSpPr>
          <p:spPr>
            <a:xfrm>
              <a:off x="3886200" y="2590920"/>
              <a:ext cx="990720" cy="533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1905120" y="3124080"/>
              <a:ext cx="990360" cy="533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2895480" y="3124080"/>
              <a:ext cx="990720" cy="533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3886200" y="3124080"/>
              <a:ext cx="990720" cy="533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1905120" y="3657600"/>
              <a:ext cx="990360" cy="533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895480" y="3657600"/>
              <a:ext cx="990720" cy="533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3886200" y="3657600"/>
              <a:ext cx="990720" cy="533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12"/>
            <p:cNvSpPr/>
            <p:nvPr/>
          </p:nvSpPr>
          <p:spPr>
            <a:xfrm>
              <a:off x="1447920" y="2590920"/>
              <a:ext cx="457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3"/>
            <p:cNvSpPr/>
            <p:nvPr/>
          </p:nvSpPr>
          <p:spPr>
            <a:xfrm>
              <a:off x="1828800" y="2057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-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        t          t+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16"/>
            <p:cNvSpPr/>
            <p:nvPr/>
          </p:nvSpPr>
          <p:spPr>
            <a:xfrm>
              <a:off x="1905120" y="2590920"/>
              <a:ext cx="2971800" cy="160020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7"/>
            <p:cNvSpPr/>
            <p:nvPr/>
          </p:nvSpPr>
          <p:spPr>
            <a:xfrm>
              <a:off x="3429000" y="3124080"/>
              <a:ext cx="990720" cy="533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8"/>
            <p:cNvSpPr/>
            <p:nvPr/>
          </p:nvSpPr>
          <p:spPr>
            <a:xfrm flipV="1">
              <a:off x="4343400" y="33526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9"/>
            <p:cNvSpPr/>
            <p:nvPr/>
          </p:nvSpPr>
          <p:spPr>
            <a:xfrm>
              <a:off x="3886200" y="3352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elocity Verlet Algorithm 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2. Flow Diagra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19051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895480" y="2590920"/>
            <a:ext cx="9907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886200" y="2590920"/>
            <a:ext cx="99072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19051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2895480" y="312408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886200" y="312408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19051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2895480" y="3657600"/>
            <a:ext cx="99072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886200" y="3657600"/>
            <a:ext cx="990720" cy="5335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1447920" y="25909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3"/>
          <p:cNvSpPr/>
          <p:nvPr/>
        </p:nvSpPr>
        <p:spPr>
          <a:xfrm>
            <a:off x="1828800" y="2057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t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t          t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4"/>
          <p:cNvSpPr/>
          <p:nvPr/>
        </p:nvSpPr>
        <p:spPr>
          <a:xfrm>
            <a:off x="6019920" y="2743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dvance to next time ste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3962520" y="6477120"/>
            <a:ext cx="51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18ffd"/>
                </a:solidFill>
                <a:latin typeface="Times New Roman"/>
              </a:rPr>
              <a:t>Schematic from Allen &amp; Tildesley, </a:t>
            </a:r>
            <a:r>
              <a:rPr b="0" i="1" lang="en-US" sz="1400" spc="-1" strike="noStrike" u="sng">
                <a:solidFill>
                  <a:srgbClr val="618ffd"/>
                </a:solidFill>
                <a:uFillTx/>
                <a:latin typeface="Times New Roman"/>
              </a:rPr>
              <a:t>Computer Simulation of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6"/>
          <p:cNvSpPr/>
          <p:nvPr/>
        </p:nvSpPr>
        <p:spPr>
          <a:xfrm>
            <a:off x="4876920" y="2590920"/>
            <a:ext cx="99036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7"/>
          <p:cNvSpPr/>
          <p:nvPr/>
        </p:nvSpPr>
        <p:spPr>
          <a:xfrm>
            <a:off x="4876920" y="312408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8"/>
          <p:cNvSpPr/>
          <p:nvPr/>
        </p:nvSpPr>
        <p:spPr>
          <a:xfrm>
            <a:off x="4876920" y="3657600"/>
            <a:ext cx="99036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9"/>
          <p:cNvSpPr/>
          <p:nvPr/>
        </p:nvSpPr>
        <p:spPr>
          <a:xfrm>
            <a:off x="2895480" y="2590920"/>
            <a:ext cx="2971800" cy="16002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ther Algorithm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redictor-Correct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time reversi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sier to apply in some instan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igid rotation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em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tter treatment of veloci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locity-corrected Verle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ral formulations of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amiltonian preferred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dependence of choice of coordinat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mphasis on phase spac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gration algorith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lculation of for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ple Verlet algorith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erlet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eapfrog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elocity Verle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xt up:  Calculation of dynamical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Generalized Coordinat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y convenient coordinates for description of particular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q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 symbol for general coordinat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01080" indent="-18972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iatomic {q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…,q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} = {x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com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y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com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z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com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r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θ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01080" indent="-18972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2-D motion in central field {q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, q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} = {r,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θ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inetic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l quadratic form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01080" indent="-18972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otating diatomic</a:t>
            </a:r>
            <a:br>
              <a:rPr sz="1800"/>
            </a:b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01080" indent="-189720">
              <a:spcBef>
                <a:spcPts val="451"/>
              </a:spcBef>
              <a:buClr>
                <a:srgbClr val="00ae00"/>
              </a:buClr>
              <a:buFont typeface="Zapf Dingbat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2-D central motion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79" name="Group 22"/>
          <p:cNvGrpSpPr/>
          <p:nvPr/>
        </p:nvGrpSpPr>
        <p:grpSpPr>
          <a:xfrm>
            <a:off x="6781680" y="2289240"/>
            <a:ext cx="1741680" cy="1977480"/>
            <a:chOff x="6781680" y="2289240"/>
            <a:chExt cx="1741680" cy="1977480"/>
          </a:xfrm>
        </p:grpSpPr>
        <p:sp>
          <p:nvSpPr>
            <p:cNvPr id="80" name="Line 16"/>
            <p:cNvSpPr/>
            <p:nvPr/>
          </p:nvSpPr>
          <p:spPr>
            <a:xfrm>
              <a:off x="8001000" y="2517480"/>
              <a:ext cx="0" cy="12189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5"/>
            <p:cNvSpPr/>
            <p:nvPr/>
          </p:nvSpPr>
          <p:spPr>
            <a:xfrm>
              <a:off x="78487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2d42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"/>
            <p:cNvSpPr/>
            <p:nvPr/>
          </p:nvSpPr>
          <p:spPr>
            <a:xfrm flipV="1">
              <a:off x="7543800" y="251748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7772400" y="2670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7512120" y="2514600"/>
              <a:ext cx="0" cy="17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6923160" y="33112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 flipV="1">
              <a:off x="6781680" y="2669760"/>
              <a:ext cx="1524240" cy="121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6"/>
            <p:cNvSpPr/>
            <p:nvPr/>
          </p:nvSpPr>
          <p:spPr>
            <a:xfrm>
              <a:off x="7315200" y="3127320"/>
              <a:ext cx="380880" cy="38052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2d42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V="1">
              <a:off x="7086600" y="3355560"/>
              <a:ext cx="38088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>
              <a:off x="7543800" y="2593800"/>
              <a:ext cx="304920" cy="22824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cubicBezTo>
                    <a:pt x="32" y="12"/>
                    <a:pt x="64" y="24"/>
                    <a:pt x="96" y="48"/>
                  </a:cubicBezTo>
                  <a:cubicBezTo>
                    <a:pt x="128" y="72"/>
                    <a:pt x="160" y="108"/>
                    <a:pt x="19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7467480" y="25938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7"/>
            <p:cNvSpPr/>
            <p:nvPr/>
          </p:nvSpPr>
          <p:spPr>
            <a:xfrm>
              <a:off x="7620120" y="3431880"/>
              <a:ext cx="380880" cy="3045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924680" y="3300120"/>
              <a:ext cx="327240" cy="36000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202" y="0"/>
                  </a:moveTo>
                  <a:cubicBezTo>
                    <a:pt x="201" y="9"/>
                    <a:pt x="206" y="31"/>
                    <a:pt x="196" y="53"/>
                  </a:cubicBezTo>
                  <a:cubicBezTo>
                    <a:pt x="186" y="75"/>
                    <a:pt x="177" y="102"/>
                    <a:pt x="144" y="131"/>
                  </a:cubicBezTo>
                  <a:cubicBezTo>
                    <a:pt x="111" y="160"/>
                    <a:pt x="56" y="195"/>
                    <a:pt x="0" y="22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9"/>
            <p:cNvSpPr/>
            <p:nvPr/>
          </p:nvSpPr>
          <p:spPr>
            <a:xfrm>
              <a:off x="7696080" y="3203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ae00"/>
                  </a:solidFill>
                  <a:latin typeface="Symbol"/>
                  <a:ea typeface="Symbol"/>
                </a:rPr>
                <a:t>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Object 20"/>
          <p:cNvGraphicFramePr/>
          <p:nvPr/>
        </p:nvGraphicFramePr>
        <p:xfrm>
          <a:off x="2133720" y="4513320"/>
          <a:ext cx="439416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513320"/>
                    <a:ext cx="4394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1"/>
          <p:cNvGraphicFramePr/>
          <p:nvPr/>
        </p:nvGraphicFramePr>
        <p:xfrm>
          <a:off x="3898800" y="5487840"/>
          <a:ext cx="487692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8800" y="5487840"/>
                    <a:ext cx="4876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23"/>
          <p:cNvGraphicFramePr/>
          <p:nvPr/>
        </p:nvGraphicFramePr>
        <p:xfrm>
          <a:off x="3816360" y="6097680"/>
          <a:ext cx="18032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6360" y="6097680"/>
                    <a:ext cx="18032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AutoShape 24"/>
          <p:cNvSpPr/>
          <p:nvPr/>
        </p:nvSpPr>
        <p:spPr>
          <a:xfrm rot="16200000">
            <a:off x="3429000" y="3962160"/>
            <a:ext cx="228600" cy="1904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048120" y="5029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usually va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934320" y="5678640"/>
            <a:ext cx="144756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590920" y="5754600"/>
            <a:ext cx="1904760" cy="457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Lagrangian For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58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dependent of coordinate syst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 the Lagrang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of mo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 second-order differential equ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entral-force example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454040" y="2243160"/>
          <a:ext cx="224784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2243160"/>
                    <a:ext cx="22478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1752480" y="3144960"/>
          <a:ext cx="288288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144960"/>
                    <a:ext cx="2882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"/>
          <p:cNvGraphicFramePr/>
          <p:nvPr/>
        </p:nvGraphicFramePr>
        <p:xfrm>
          <a:off x="692280" y="5589720"/>
          <a:ext cx="386064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2280" y="5589720"/>
                    <a:ext cx="3860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7"/>
          <p:cNvGraphicFramePr/>
          <p:nvPr/>
        </p:nvGraphicFramePr>
        <p:xfrm>
          <a:off x="3448080" y="4979880"/>
          <a:ext cx="241308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8080" y="4979880"/>
                    <a:ext cx="2413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8"/>
          <p:cNvGraphicFramePr/>
          <p:nvPr/>
        </p:nvGraphicFramePr>
        <p:xfrm>
          <a:off x="4991040" y="5589720"/>
          <a:ext cx="344160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91040" y="5589720"/>
                    <a:ext cx="3441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9"/>
          <p:cNvGraphicFramePr/>
          <p:nvPr/>
        </p:nvGraphicFramePr>
        <p:xfrm>
          <a:off x="3429000" y="6275520"/>
          <a:ext cx="1434960" cy="29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6275520"/>
                    <a:ext cx="143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miltonian Formulation 1. Motiv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priate for application to statistical mechanics and quantum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wtonian and Lagrangian viewpoints take th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s the fundamental variab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-variable configuration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ears only as a convenient shorthand for dq/d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orking formulas are 2nd-order differential equ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amiltonian formulation seeks to work with 1st-order differential eq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N varia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eat the coordinate and its time derivative as independent varia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ropriate quantum-mechanically         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1219320" y="3417840"/>
          <a:ext cx="22860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17840"/>
                    <a:ext cx="228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5715000" y="2362320"/>
            <a:ext cx="1143000" cy="74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miltonian Formulation 2. Prepar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thematically, Lagrangian treats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   as distinc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dentify the generalized momentum a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grangian equations of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would like a formulation in which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an independent varia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the derivative of the Lagrangian with respect to    , and we’re looking to replace     with p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need …?  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6108840" y="1425600"/>
          <a:ext cx="18864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8840" y="1425600"/>
                    <a:ext cx="1886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1454040" y="1784520"/>
          <a:ext cx="10033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784520"/>
                    <a:ext cx="1003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5797440" y="2413080"/>
          <a:ext cx="87624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7440" y="2413080"/>
                    <a:ext cx="876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8"/>
          <p:cNvGraphicFramePr/>
          <p:nvPr/>
        </p:nvGraphicFramePr>
        <p:xfrm>
          <a:off x="7162920" y="5283360"/>
          <a:ext cx="22860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5283360"/>
                    <a:ext cx="228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9"/>
          <p:cNvGraphicFramePr/>
          <p:nvPr/>
        </p:nvGraphicFramePr>
        <p:xfrm>
          <a:off x="3505320" y="5613480"/>
          <a:ext cx="22860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613480"/>
                    <a:ext cx="228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0"/>
          <p:cNvGraphicFramePr/>
          <p:nvPr/>
        </p:nvGraphicFramePr>
        <p:xfrm>
          <a:off x="1974960" y="3328920"/>
          <a:ext cx="4330440" cy="417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4960" y="3328920"/>
                    <a:ext cx="43304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2"/>
          <p:cNvGraphicFramePr/>
          <p:nvPr/>
        </p:nvGraphicFramePr>
        <p:xfrm>
          <a:off x="5105520" y="3886200"/>
          <a:ext cx="990360" cy="68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05520" y="3886200"/>
                    <a:ext cx="990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Hamiltonian Formulation 3. Defin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Legendre transform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 the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Hamiltonian, H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 equals the total energy (kinetic plus potential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1486080" y="2832120"/>
          <a:ext cx="44701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2832120"/>
                    <a:ext cx="44701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20:54:12Z</dcterms:created>
  <dc:creator>David A. Kofke</dc:creator>
  <dc:description/>
  <dc:language>en-US</dc:language>
  <cp:lastModifiedBy>David Kofke</cp:lastModifiedBy>
  <cp:lastPrinted>2014-03-27T16:17:26Z</cp:lastPrinted>
  <dcterms:modified xsi:type="dcterms:W3CDTF">2014-03-28T20:04:32Z</dcterms:modified>
  <cp:revision>157</cp:revision>
  <dc:subject/>
  <dc:title>Molecular Dynamics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