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21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25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77.wmf" ContentType="image/x-wmf"/>
  <Override PartName="/ppt/media/image65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image14.wmf" ContentType="image/x-wmf"/>
  <Override PartName="/ppt/media/image2.wmf" ContentType="image/x-wmf"/>
  <Override PartName="/ppt/media/image32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31.wmf" ContentType="image/x-wmf"/>
  <Override PartName="/ppt/media/image13.wmf" ContentType="image/x-wmf"/>
  <Override PartName="/ppt/media/image1.wmf" ContentType="image/x-wmf"/>
  <Override PartName="/ppt/media/image67.wmf" ContentType="image/x-wmf"/>
  <Override PartName="/ppt/media/image66.wmf" ContentType="image/x-wmf"/>
  <Override PartName="/ppt/media/image26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512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908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62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908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962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8739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512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ae00"/>
              </a:buClr>
              <a:buFont typeface="Zapf Dingba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8920" y="88920"/>
            <a:ext cx="8966160" cy="6680160"/>
          </a:xfrm>
          <a:prstGeom prst="rect">
            <a:avLst/>
          </a:prstGeom>
          <a:noFill/>
          <a:ln w="255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8530560" y="152280"/>
            <a:ext cx="611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1F2B-903A-4CFF-ADBC-9C8B0E1FACB8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4.wmf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4.wmf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3.wmf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9.wmf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4.wm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2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6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7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8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9.wmf"/><Relationship Id="rId3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3.wmf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7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38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9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37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38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39.wmf"/><Relationship Id="rId4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11360" y="228564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E 530 Molecular Simul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4223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Lecture 17</a:t>
            </a:r>
            <a:br>
              <a:rPr sz="2400"/>
            </a:b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Beyond Atoms:  Simulating Molecul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avid A. Kofke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epartment of Chemical Engineering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UNY Buffalo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ofke@eng.buffalo.edu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3D Rotation Matrix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Rotation matrix expressed in terms of Euler angl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o get space-fixed coordinate, multiply molecule-fixed vector by A</a:t>
            </a:r>
            <a:r>
              <a:rPr b="0" lang="en-US" sz="2400" spc="-1" strike="noStrike" baseline="30000">
                <a:solidFill>
                  <a:srgbClr val="618ffd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gain, A</a:t>
            </a:r>
            <a:r>
              <a:rPr b="0" i="1" lang="en-US" sz="21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= A</a:t>
            </a:r>
            <a:r>
              <a:rPr b="0" i="1" lang="en-US" sz="21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1" name="Object 4"/>
          <p:cNvGraphicFramePr/>
          <p:nvPr/>
        </p:nvGraphicFramePr>
        <p:xfrm>
          <a:off x="1461960" y="2590920"/>
          <a:ext cx="6221520" cy="82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1960" y="2590920"/>
                    <a:ext cx="6221520" cy="82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3" name="Object 5"/>
          <p:cNvGraphicFramePr/>
          <p:nvPr/>
        </p:nvGraphicFramePr>
        <p:xfrm>
          <a:off x="7620120" y="2133720"/>
          <a:ext cx="698400" cy="22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0120" y="2133720"/>
                    <a:ext cx="6984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5" name="Object 6"/>
          <p:cNvGraphicFramePr/>
          <p:nvPr/>
        </p:nvGraphicFramePr>
        <p:xfrm>
          <a:off x="4172040" y="4572000"/>
          <a:ext cx="799920" cy="29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72040" y="4572000"/>
                    <a:ext cx="79992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Oval 11"/>
          <p:cNvSpPr/>
          <p:nvPr/>
        </p:nvSpPr>
        <p:spPr>
          <a:xfrm>
            <a:off x="6553080" y="3352680"/>
            <a:ext cx="609840" cy="6098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Transforming Coordinates 1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nsider a simple diatomic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ositions of two atoms described b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an instead describe by molecule COM</a:t>
            </a:r>
            <a:br>
              <a:rPr sz="2100"/>
            </a:b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nd stretch/orientation coordinat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n molecule frame, each atom position is given b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0" name="Object 5"/>
          <p:cNvGraphicFramePr/>
          <p:nvPr/>
        </p:nvGraphicFramePr>
        <p:xfrm>
          <a:off x="6324480" y="3886200"/>
          <a:ext cx="163800" cy="17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3886200"/>
                    <a:ext cx="163800" cy="17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2" name="Object 6"/>
          <p:cNvGraphicFramePr/>
          <p:nvPr/>
        </p:nvGraphicFramePr>
        <p:xfrm>
          <a:off x="8147160" y="3029040"/>
          <a:ext cx="176040" cy="21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47160" y="3029040"/>
                    <a:ext cx="176040" cy="21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4" name="Object 7"/>
          <p:cNvGraphicFramePr/>
          <p:nvPr/>
        </p:nvGraphicFramePr>
        <p:xfrm>
          <a:off x="6864480" y="1841400"/>
          <a:ext cx="150840" cy="15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64480" y="1841400"/>
                    <a:ext cx="150840" cy="1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6" name="Line 8"/>
          <p:cNvSpPr/>
          <p:nvPr/>
        </p:nvSpPr>
        <p:spPr>
          <a:xfrm>
            <a:off x="6858000" y="198108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67" name="Line 9"/>
          <p:cNvSpPr/>
          <p:nvPr/>
        </p:nvSpPr>
        <p:spPr>
          <a:xfrm flipH="1">
            <a:off x="6400800" y="3124080"/>
            <a:ext cx="45720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68" name="Line 10"/>
          <p:cNvSpPr/>
          <p:nvPr/>
        </p:nvSpPr>
        <p:spPr>
          <a:xfrm>
            <a:off x="6858000" y="312408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69" name="Oval 4"/>
          <p:cNvSpPr/>
          <p:nvPr/>
        </p:nvSpPr>
        <p:spPr>
          <a:xfrm>
            <a:off x="6553080" y="2209680"/>
            <a:ext cx="609840" cy="6098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70" name="Line 12"/>
          <p:cNvSpPr/>
          <p:nvPr/>
        </p:nvSpPr>
        <p:spPr>
          <a:xfrm>
            <a:off x="6095880" y="25146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71" name="Text Box 13"/>
          <p:cNvSpPr/>
          <p:nvPr/>
        </p:nvSpPr>
        <p:spPr>
          <a:xfrm>
            <a:off x="6019920" y="2743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L</a:t>
            </a: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graphicFrame>
        <p:nvGraphicFramePr>
          <p:cNvPr id="772" name="Object 14"/>
          <p:cNvGraphicFramePr/>
          <p:nvPr/>
        </p:nvGraphicFramePr>
        <p:xfrm>
          <a:off x="2057400" y="2895480"/>
          <a:ext cx="1638360" cy="290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73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7400" y="2895480"/>
                    <a:ext cx="163836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4" name="Object 15"/>
          <p:cNvGraphicFramePr/>
          <p:nvPr/>
        </p:nvGraphicFramePr>
        <p:xfrm>
          <a:off x="2057400" y="4419720"/>
          <a:ext cx="1320840" cy="264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75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7400" y="4419720"/>
                    <a:ext cx="132084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6" name="Object 16"/>
          <p:cNvGraphicFramePr/>
          <p:nvPr/>
        </p:nvGraphicFramePr>
        <p:xfrm>
          <a:off x="2133720" y="5486400"/>
          <a:ext cx="927000" cy="647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77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33720" y="5486400"/>
                    <a:ext cx="9270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8" name="Line 17"/>
          <p:cNvSpPr/>
          <p:nvPr/>
        </p:nvSpPr>
        <p:spPr>
          <a:xfrm>
            <a:off x="6858000" y="2819520"/>
            <a:ext cx="0" cy="609480"/>
          </a:xfrm>
          <a:prstGeom prst="line">
            <a:avLst/>
          </a:prstGeom>
          <a:ln w="381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Oval 2"/>
          <p:cNvSpPr/>
          <p:nvPr/>
        </p:nvSpPr>
        <p:spPr>
          <a:xfrm>
            <a:off x="6553080" y="3352680"/>
            <a:ext cx="609840" cy="6098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Transforming Coordinates 2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o get space-fixed coordinates, use rotation matrix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he result i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2" name="Object 5"/>
          <p:cNvGraphicFramePr/>
          <p:nvPr/>
        </p:nvGraphicFramePr>
        <p:xfrm>
          <a:off x="6324480" y="3886200"/>
          <a:ext cx="163800" cy="17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3886200"/>
                    <a:ext cx="163800" cy="17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4" name="Object 6"/>
          <p:cNvGraphicFramePr/>
          <p:nvPr/>
        </p:nvGraphicFramePr>
        <p:xfrm>
          <a:off x="8147160" y="3029040"/>
          <a:ext cx="176040" cy="21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47160" y="3029040"/>
                    <a:ext cx="176040" cy="21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6" name="Object 7"/>
          <p:cNvGraphicFramePr/>
          <p:nvPr/>
        </p:nvGraphicFramePr>
        <p:xfrm>
          <a:off x="6864480" y="1841400"/>
          <a:ext cx="150840" cy="15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7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64480" y="1841400"/>
                    <a:ext cx="150840" cy="1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8" name="Line 8"/>
          <p:cNvSpPr/>
          <p:nvPr/>
        </p:nvSpPr>
        <p:spPr>
          <a:xfrm>
            <a:off x="6858000" y="198108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89" name="Line 9"/>
          <p:cNvSpPr/>
          <p:nvPr/>
        </p:nvSpPr>
        <p:spPr>
          <a:xfrm flipH="1">
            <a:off x="6400800" y="3124080"/>
            <a:ext cx="45720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90" name="Line 10"/>
          <p:cNvSpPr/>
          <p:nvPr/>
        </p:nvSpPr>
        <p:spPr>
          <a:xfrm>
            <a:off x="6858000" y="312408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91" name="Oval 11"/>
          <p:cNvSpPr/>
          <p:nvPr/>
        </p:nvSpPr>
        <p:spPr>
          <a:xfrm>
            <a:off x="6553080" y="2209680"/>
            <a:ext cx="609840" cy="6098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92" name="Line 12"/>
          <p:cNvSpPr/>
          <p:nvPr/>
        </p:nvSpPr>
        <p:spPr>
          <a:xfrm>
            <a:off x="6095880" y="25146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93" name="Text Box 13"/>
          <p:cNvSpPr/>
          <p:nvPr/>
        </p:nvSpPr>
        <p:spPr>
          <a:xfrm>
            <a:off x="6019920" y="2743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L</a:t>
            </a: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graphicFrame>
        <p:nvGraphicFramePr>
          <p:cNvPr id="794" name="Object 16"/>
          <p:cNvGraphicFramePr/>
          <p:nvPr/>
        </p:nvGraphicFramePr>
        <p:xfrm>
          <a:off x="2158920" y="2463840"/>
          <a:ext cx="1295640" cy="74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95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58920" y="2463840"/>
                    <a:ext cx="129564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6" name="Line 17"/>
          <p:cNvSpPr/>
          <p:nvPr/>
        </p:nvSpPr>
        <p:spPr>
          <a:xfrm>
            <a:off x="6858000" y="2819520"/>
            <a:ext cx="0" cy="609480"/>
          </a:xfrm>
          <a:prstGeom prst="line">
            <a:avLst/>
          </a:prstGeom>
          <a:ln w="381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graphicFrame>
        <p:nvGraphicFramePr>
          <p:cNvPr id="797" name="Object 18"/>
          <p:cNvGraphicFramePr/>
          <p:nvPr/>
        </p:nvGraphicFramePr>
        <p:xfrm>
          <a:off x="4038480" y="2514600"/>
          <a:ext cx="1257480" cy="264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98" name="Object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38480" y="2514600"/>
                    <a:ext cx="12574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9" name="Object 20"/>
          <p:cNvGraphicFramePr/>
          <p:nvPr/>
        </p:nvGraphicFramePr>
        <p:xfrm>
          <a:off x="1447920" y="4191120"/>
          <a:ext cx="3554280" cy="820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00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47920" y="4191120"/>
                    <a:ext cx="3554280" cy="82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1" name="Object 22"/>
          <p:cNvGraphicFramePr/>
          <p:nvPr/>
        </p:nvGraphicFramePr>
        <p:xfrm>
          <a:off x="3276720" y="5486400"/>
          <a:ext cx="4012920" cy="977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02" name="Object 2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76720" y="5486400"/>
                    <a:ext cx="401292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3" name="Object 23"/>
          <p:cNvGraphicFramePr/>
          <p:nvPr/>
        </p:nvGraphicFramePr>
        <p:xfrm>
          <a:off x="4038480" y="2857680"/>
          <a:ext cx="927360" cy="647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04" name="Object 2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038480" y="2857680"/>
                    <a:ext cx="927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Transforming Coordinates 3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85440" y="838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243360" indent="-243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e ensemble distribution for the transformed coordinates is obtained via the Jacobia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27400" indent="-2026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he elements of J are the derivativ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27400" indent="-2026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For this transforma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But we also need to transform the momenta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274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7" name="Object 20"/>
          <p:cNvGraphicFramePr/>
          <p:nvPr/>
        </p:nvGraphicFramePr>
        <p:xfrm>
          <a:off x="1924200" y="1727280"/>
          <a:ext cx="3848040" cy="113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8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4200" y="1727280"/>
                    <a:ext cx="384804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9" name="Object 21"/>
          <p:cNvGraphicFramePr/>
          <p:nvPr/>
        </p:nvGraphicFramePr>
        <p:xfrm>
          <a:off x="5568840" y="2787480"/>
          <a:ext cx="101628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0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8840" y="2787480"/>
                    <a:ext cx="10162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1" name="Object 23"/>
          <p:cNvGraphicFramePr/>
          <p:nvPr/>
        </p:nvGraphicFramePr>
        <p:xfrm>
          <a:off x="4267080" y="5867280"/>
          <a:ext cx="1244880" cy="36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2" name="Object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5867280"/>
                    <a:ext cx="12448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13" name="Group 3"/>
          <p:cNvGrpSpPr/>
          <p:nvPr/>
        </p:nvGrpSpPr>
        <p:grpSpPr>
          <a:xfrm>
            <a:off x="609480" y="3276720"/>
            <a:ext cx="7620120" cy="13690800"/>
            <a:chOff x="609480" y="3276720"/>
            <a:chExt cx="7620120" cy="13690800"/>
          </a:xfrm>
        </p:grpSpPr>
        <p:graphicFrame>
          <p:nvGraphicFramePr>
            <p:cNvPr id="814" name="Object 22"/>
            <p:cNvGraphicFramePr/>
            <p:nvPr/>
          </p:nvGraphicFramePr>
          <p:xfrm>
            <a:off x="1066680" y="3657600"/>
            <a:ext cx="5335920" cy="2133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15" name="Object 2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066680" y="3657600"/>
                      <a:ext cx="5335920" cy="213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16" name="TextBox 1"/>
            <p:cNvSpPr/>
            <p:nvPr/>
          </p:nvSpPr>
          <p:spPr>
            <a:xfrm>
              <a:off x="609480" y="3699720"/>
              <a:ext cx="457200" cy="1326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Times New Roman"/>
                </a:rPr>
                <a:t>x</a:t>
              </a:r>
              <a:r>
                <a:rPr b="1" lang="en-US" sz="2000" spc="-1" strike="noStrike" baseline="-25000">
                  <a:solidFill>
                    <a:srgbClr val="fc0128"/>
                  </a:solidFill>
                  <a:latin typeface="Times New Roman"/>
                </a:rPr>
                <a:t>1                            </a:t>
              </a:r>
              <a:r>
                <a:rPr b="1" lang="en-US" sz="2000" spc="-1" strike="noStrike">
                  <a:solidFill>
                    <a:srgbClr val="fc0128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fc0128"/>
                  </a:solidFill>
                  <a:latin typeface="Times New Roman"/>
                </a:rPr>
                <a:t>1                       </a:t>
              </a:r>
              <a:r>
                <a:rPr b="1" lang="en-US" sz="2000" spc="-1" strike="noStrike">
                  <a:solidFill>
                    <a:srgbClr val="fc0128"/>
                  </a:solidFill>
                  <a:latin typeface="Times New Roman"/>
                </a:rPr>
                <a:t>z</a:t>
              </a:r>
              <a:r>
                <a:rPr b="1" lang="en-US" sz="2000" spc="-1" strike="noStrike" baseline="-25000">
                  <a:solidFill>
                    <a:srgbClr val="fc0128"/>
                  </a:solidFill>
                  <a:latin typeface="Times New Roman"/>
                </a:rPr>
                <a:t>1                      </a:t>
              </a:r>
              <a:r>
                <a:rPr b="1" lang="en-US" sz="2000" spc="-1" strike="noStrike">
                  <a:solidFill>
                    <a:srgbClr val="fc0128"/>
                  </a:solidFill>
                  <a:latin typeface="Times New Roman"/>
                </a:rPr>
                <a:t>x</a:t>
              </a:r>
              <a:r>
                <a:rPr b="1" lang="en-US" sz="2000" spc="-1" strike="noStrike" baseline="-25000">
                  <a:solidFill>
                    <a:srgbClr val="fc0128"/>
                  </a:solidFill>
                  <a:latin typeface="Times New Roman"/>
                </a:rPr>
                <a:t>2                            </a:t>
              </a:r>
              <a:r>
                <a:rPr b="1" lang="en-US" sz="2000" spc="-1" strike="noStrike">
                  <a:solidFill>
                    <a:srgbClr val="fc0128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fc0128"/>
                  </a:solidFill>
                  <a:latin typeface="Times New Roman"/>
                </a:rPr>
                <a:t>2                      </a:t>
              </a:r>
              <a:r>
                <a:rPr b="1" lang="en-US" sz="2000" spc="-1" strike="noStrike">
                  <a:solidFill>
                    <a:srgbClr val="fc0128"/>
                  </a:solidFill>
                  <a:latin typeface="Times New Roman"/>
                </a:rPr>
                <a:t>z</a:t>
              </a:r>
              <a:r>
                <a:rPr b="1" lang="en-US" sz="2000" spc="-1" strike="noStrike" baseline="-25000">
                  <a:solidFill>
                    <a:srgbClr val="fc0128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817" name="TextBox 8"/>
            <p:cNvSpPr/>
            <p:nvPr/>
          </p:nvSpPr>
          <p:spPr>
            <a:xfrm>
              <a:off x="761760" y="3276720"/>
              <a:ext cx="746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Times New Roman"/>
                </a:rPr>
                <a:t>       </a:t>
              </a:r>
              <a:r>
                <a:rPr b="1" lang="en-US" sz="2000" spc="-1" strike="noStrike">
                  <a:solidFill>
                    <a:srgbClr val="fc0128"/>
                  </a:solidFill>
                  <a:latin typeface="Times New Roman"/>
                </a:rPr>
                <a:t>X  Y  Z          L                  </a:t>
              </a:r>
              <a:r>
                <a:rPr b="1" lang="el-GR" sz="2000" spc="-1" strike="noStrike">
                  <a:solidFill>
                    <a:srgbClr val="fc0128"/>
                  </a:solidFill>
                  <a:latin typeface="Times New Roman"/>
                </a:rPr>
                <a:t>φ</a:t>
              </a:r>
              <a:r>
                <a:rPr b="1" lang="en-US" sz="2000" spc="-1" strike="noStrike">
                  <a:solidFill>
                    <a:srgbClr val="fc0128"/>
                  </a:solidFill>
                  <a:latin typeface="Times New Roman"/>
                </a:rPr>
                <a:t>                     </a:t>
              </a:r>
              <a:r>
                <a:rPr b="1" lang="el-GR" sz="2000" spc="-1" strike="noStrike">
                  <a:solidFill>
                    <a:srgbClr val="fc0128"/>
                  </a:solidFill>
                  <a:latin typeface="Times New Roman"/>
                </a:rPr>
                <a:t>θ</a:t>
              </a:r>
              <a:endParaRPr b="1" lang="en-US" sz="2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aphicFrame>
        <p:nvGraphicFramePr>
          <p:cNvPr id="818" name="Object 22"/>
          <p:cNvGraphicFramePr/>
          <p:nvPr/>
        </p:nvGraphicFramePr>
        <p:xfrm>
          <a:off x="7315200" y="3657600"/>
          <a:ext cx="1582560" cy="1787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19" name="Object 2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15200" y="3657600"/>
                    <a:ext cx="1582560" cy="17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Transforming Coordinates 4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440" y="838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Begin with the Lagrangia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27920" indent="-2800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n the original coordinate system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ransform to new coordinat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n general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279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279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279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2" name="Object 8"/>
          <p:cNvGraphicFramePr/>
          <p:nvPr/>
        </p:nvGraphicFramePr>
        <p:xfrm>
          <a:off x="1936800" y="1670040"/>
          <a:ext cx="5272200" cy="11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6800" y="1670040"/>
                    <a:ext cx="527220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4" name="Text Box 9"/>
          <p:cNvSpPr/>
          <p:nvPr/>
        </p:nvSpPr>
        <p:spPr>
          <a:xfrm>
            <a:off x="7238880" y="22096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ssume m=1</a:t>
            </a:r>
            <a:endParaRPr b="1" lang="en-US" sz="1800" spc="-1" strike="noStrike">
              <a:solidFill>
                <a:srgbClr val="fc0128"/>
              </a:solidFill>
              <a:latin typeface="Times New Roman"/>
            </a:endParaRPr>
          </a:p>
        </p:txBody>
      </p:sp>
      <p:graphicFrame>
        <p:nvGraphicFramePr>
          <p:cNvPr id="825" name="Object 10"/>
          <p:cNvGraphicFramePr/>
          <p:nvPr/>
        </p:nvGraphicFramePr>
        <p:xfrm>
          <a:off x="1873080" y="3206880"/>
          <a:ext cx="4496040" cy="101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6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73080" y="3206880"/>
                    <a:ext cx="449604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7" name="Object 11"/>
          <p:cNvGraphicFramePr/>
          <p:nvPr/>
        </p:nvGraphicFramePr>
        <p:xfrm>
          <a:off x="2673360" y="4222800"/>
          <a:ext cx="2603520" cy="241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8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73360" y="4222800"/>
                    <a:ext cx="2603520" cy="24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9" name="Object 1"/>
          <p:cNvGraphicFramePr/>
          <p:nvPr/>
        </p:nvGraphicFramePr>
        <p:xfrm>
          <a:off x="5867280" y="3657600"/>
          <a:ext cx="127080" cy="190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30" name="Object 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67280" y="3657600"/>
                    <a:ext cx="12708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1" name="Object 3"/>
          <p:cNvGraphicFramePr/>
          <p:nvPr/>
        </p:nvGraphicFramePr>
        <p:xfrm>
          <a:off x="6324480" y="4267080"/>
          <a:ext cx="924120" cy="2057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32" name="Object 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324480" y="4267080"/>
                    <a:ext cx="9241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3" name="Object 4"/>
          <p:cNvGraphicFramePr/>
          <p:nvPr/>
        </p:nvGraphicFramePr>
        <p:xfrm>
          <a:off x="7391520" y="4343400"/>
          <a:ext cx="1388880" cy="1905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34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391520" y="4343400"/>
                    <a:ext cx="138888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5" name="Rectangle 5"/>
          <p:cNvSpPr/>
          <p:nvPr/>
        </p:nvSpPr>
        <p:spPr>
          <a:xfrm>
            <a:off x="6095880" y="4038480"/>
            <a:ext cx="2895840" cy="2590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87428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Transforming Coordinates 5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10"/>
          <p:cNvSpPr/>
          <p:nvPr/>
        </p:nvSpPr>
        <p:spPr>
          <a:xfrm>
            <a:off x="609480" y="137160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erive momenta</a:t>
            </a: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e Hamiltonian is</a:t>
            </a: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e Jacobian for the momentum transformation is the reciprocal of the Jacobian for the coordinate transformation</a:t>
            </a: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e don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 have to worry about the Jacobian with the full transform</a:t>
            </a:r>
            <a:endParaRPr b="1" lang="en-US" sz="2100" spc="-1" strike="noStrike">
              <a:solidFill>
                <a:srgbClr val="fc012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c012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graphicFrame>
        <p:nvGraphicFramePr>
          <p:cNvPr id="839" name="Object 11"/>
          <p:cNvGraphicFramePr/>
          <p:nvPr/>
        </p:nvGraphicFramePr>
        <p:xfrm>
          <a:off x="2070000" y="2495520"/>
          <a:ext cx="2044800" cy="70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0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0000" y="2495520"/>
                    <a:ext cx="204480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1" name="Object 12"/>
          <p:cNvGraphicFramePr/>
          <p:nvPr/>
        </p:nvGraphicFramePr>
        <p:xfrm>
          <a:off x="2019240" y="3733920"/>
          <a:ext cx="2158920" cy="72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2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19240" y="3733920"/>
                    <a:ext cx="215892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3" name="Object 7"/>
          <p:cNvGraphicFramePr/>
          <p:nvPr/>
        </p:nvGraphicFramePr>
        <p:xfrm>
          <a:off x="2076480" y="1892160"/>
          <a:ext cx="1854000" cy="39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76480" y="1892160"/>
                    <a:ext cx="185400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5" name="Object 13"/>
          <p:cNvGraphicFramePr/>
          <p:nvPr/>
        </p:nvGraphicFramePr>
        <p:xfrm>
          <a:off x="2000160" y="5303880"/>
          <a:ext cx="4368960" cy="596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6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00160" y="5303880"/>
                    <a:ext cx="43689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7" name="Object 1"/>
          <p:cNvGraphicFramePr/>
          <p:nvPr/>
        </p:nvGraphicFramePr>
        <p:xfrm>
          <a:off x="5410080" y="2057400"/>
          <a:ext cx="1817640" cy="1077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8" name="Object 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10080" y="2057400"/>
                    <a:ext cx="181764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9" name="TextBox 2"/>
          <p:cNvSpPr/>
          <p:nvPr/>
        </p:nvSpPr>
        <p:spPr>
          <a:xfrm>
            <a:off x="7467480" y="2286000"/>
            <a:ext cx="144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Times New Roman"/>
              </a:rPr>
              <a:t>Uses </a:t>
            </a:r>
            <a:r>
              <a:rPr b="0" i="1" lang="en-US" sz="1200" spc="-1" strike="noStrike">
                <a:solidFill>
                  <a:srgbClr val="fc0128"/>
                </a:solidFill>
                <a:latin typeface="Times New Roman"/>
              </a:rPr>
              <a:t>G</a:t>
            </a:r>
            <a:r>
              <a:rPr b="0" lang="en-US" sz="1200" spc="-1" strike="noStrike">
                <a:solidFill>
                  <a:srgbClr val="fc0128"/>
                </a:solidFill>
                <a:latin typeface="Times New Roman"/>
              </a:rPr>
              <a:t> and thus </a:t>
            </a:r>
            <a:r>
              <a:rPr b="0" i="1" lang="en-US" sz="1200" spc="-1" strike="noStrike">
                <a:solidFill>
                  <a:srgbClr val="fc0128"/>
                </a:solidFill>
                <a:latin typeface="Times New Roman"/>
              </a:rPr>
              <a:t>G</a:t>
            </a:r>
            <a:r>
              <a:rPr b="0" lang="en-US" sz="1200" spc="-1" strike="noStrike" baseline="30000">
                <a:solidFill>
                  <a:srgbClr val="fc0128"/>
                </a:solidFill>
                <a:latin typeface="Times New Roman"/>
              </a:rPr>
              <a:t>-1</a:t>
            </a:r>
            <a:r>
              <a:rPr b="0" lang="en-US" sz="1200" spc="-1" strike="noStrike">
                <a:solidFill>
                  <a:srgbClr val="fc0128"/>
                </a:solidFill>
                <a:latin typeface="Times New Roman"/>
              </a:rPr>
              <a:t> are symmetric</a:t>
            </a:r>
            <a:endParaRPr b="1" lang="en-US" sz="12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87428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Integrating Over Momenta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4"/>
          <p:cNvSpPr/>
          <p:nvPr/>
        </p:nvSpPr>
        <p:spPr>
          <a:xfrm>
            <a:off x="609480" y="137160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f we integrate out the momentum coordinates, the Jacobian again arises</a:t>
            </a: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or the diatomic, this term is</a:t>
            </a: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n MC simulation, the terms must be included in the construction of the transition-probability matrix</a:t>
            </a: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c012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graphicFrame>
        <p:nvGraphicFramePr>
          <p:cNvPr id="853" name="Object 9"/>
          <p:cNvGraphicFramePr/>
          <p:nvPr/>
        </p:nvGraphicFramePr>
        <p:xfrm>
          <a:off x="1523880" y="2171880"/>
          <a:ext cx="4165560" cy="179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171880"/>
                    <a:ext cx="4165560" cy="17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5" name="Object 10"/>
          <p:cNvGraphicFramePr/>
          <p:nvPr/>
        </p:nvGraphicFramePr>
        <p:xfrm>
          <a:off x="1689120" y="4565520"/>
          <a:ext cx="1968480" cy="3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6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89120" y="4565520"/>
                    <a:ext cx="19684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7" name="Text Box 11"/>
          <p:cNvSpPr/>
          <p:nvPr/>
        </p:nvSpPr>
        <p:spPr>
          <a:xfrm>
            <a:off x="4876920" y="4495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c = constant</a:t>
            </a:r>
            <a:endParaRPr b="1" lang="en-US" sz="18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87428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Averages with Constraints 1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4"/>
          <p:cNvSpPr/>
          <p:nvPr/>
        </p:nvSpPr>
        <p:spPr>
          <a:xfrm>
            <a:off x="609480" y="137160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Very stiff coordinates are sometimes treated as rigidly constrained</a:t>
            </a: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.g., the bond length L in the diatomic may be held at a constant value</a:t>
            </a:r>
            <a:endParaRPr b="1" lang="en-US" sz="2100" spc="-1" strike="noStrike">
              <a:solidFill>
                <a:srgbClr val="fc012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C and MD have different ways to enforce this constraint</a:t>
            </a: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Regardless of simulation technique, the constrained-system ensemble average may differ from the unconstrained value</a:t>
            </a: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ven when compared to the limit of an infinitely stiff bond!</a:t>
            </a:r>
            <a:endParaRPr b="1" lang="en-US" sz="2100" spc="-1" strike="noStrike">
              <a:solidFill>
                <a:srgbClr val="fc012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Why the difference?</a:t>
            </a: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 rigid constraint implies no kinetic energy in vibration</a:t>
            </a:r>
            <a:endParaRPr b="1" lang="en-US" sz="2100" spc="-1" strike="noStrike">
              <a:solidFill>
                <a:srgbClr val="fc0128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xamine the Lagrangian</a:t>
            </a:r>
            <a:endParaRPr b="1" lang="en-US" sz="2100" spc="-1" strike="noStrike">
              <a:solidFill>
                <a:srgbClr val="fc0128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c0128"/>
              </a:solidFill>
              <a:latin typeface="Times New Roman"/>
            </a:endParaRPr>
          </a:p>
        </p:txBody>
      </p:sp>
      <p:graphicFrame>
        <p:nvGraphicFramePr>
          <p:cNvPr id="861" name="Object 8"/>
          <p:cNvGraphicFramePr/>
          <p:nvPr/>
        </p:nvGraphicFramePr>
        <p:xfrm>
          <a:off x="4788000" y="5442120"/>
          <a:ext cx="3568680" cy="116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5442120"/>
                    <a:ext cx="3568680" cy="11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3" name="Text Box 9"/>
          <p:cNvSpPr/>
          <p:nvPr/>
        </p:nvSpPr>
        <p:spPr>
          <a:xfrm>
            <a:off x="2514600" y="6172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s = </a:t>
            </a:r>
            <a:r>
              <a:rPr b="0" lang="ja-JP" sz="1800" spc="-1" strike="noStrike">
                <a:solidFill>
                  <a:srgbClr val="00ae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soft</a:t>
            </a:r>
            <a:r>
              <a:rPr b="0" lang="ja-JP" sz="1800" spc="-1" strike="noStrike">
                <a:solidFill>
                  <a:srgbClr val="00ae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coordinate</a:t>
            </a:r>
            <a:endParaRPr b="1" lang="en-US" sz="18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87428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Averages with Constraints 2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4"/>
          <p:cNvSpPr/>
          <p:nvPr/>
        </p:nvSpPr>
        <p:spPr>
          <a:xfrm>
            <a:off x="609480" y="137160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e Jacobian for the coordinate transform is the same as for the unconstrained average</a:t>
            </a: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But the momentum Jacobian no longer has the term for the constrained coordinate</a:t>
            </a: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us, in general, the distribution of unconstrained coordinates differs</a:t>
            </a: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e difference is</a:t>
            </a: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graphicFrame>
        <p:nvGraphicFramePr>
          <p:cNvPr id="867" name="Object 9"/>
          <p:cNvGraphicFramePr/>
          <p:nvPr/>
        </p:nvGraphicFramePr>
        <p:xfrm>
          <a:off x="1415880" y="3759120"/>
          <a:ext cx="5054760" cy="18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5880" y="3759120"/>
                    <a:ext cx="505476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9" name="Object 10"/>
          <p:cNvGraphicFramePr/>
          <p:nvPr/>
        </p:nvGraphicFramePr>
        <p:xfrm>
          <a:off x="3270240" y="5892840"/>
          <a:ext cx="1549440" cy="71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0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0240" y="5892840"/>
                    <a:ext cx="154944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87428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Averages with Constraints 3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4"/>
          <p:cNvSpPr/>
          <p:nvPr/>
        </p:nvSpPr>
        <p:spPr>
          <a:xfrm>
            <a:off x="609480" y="137160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o get correct (unconstrained-system) averages from a simulation using constraints, averages should be multiplied by this factor</a:t>
            </a: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valuating this quantity could be tedious</a:t>
            </a: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ut there is a simplification</a:t>
            </a:r>
            <a:endParaRPr b="1" lang="en-US" sz="2100" spc="-1" strike="noStrike">
              <a:solidFill>
                <a:srgbClr val="fc0128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ratio of determinants (of N-by-N and (N-l)-by-(N-l) matrices) can be given in terms of the determinant of an l-by-l matrix</a:t>
            </a:r>
            <a:endParaRPr b="1" lang="en-US" sz="2100" spc="-1" strike="noStrike">
              <a:solidFill>
                <a:srgbClr val="fc0128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c0128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c0128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the diatomic with L constrained, H = 1</a:t>
            </a:r>
            <a:endParaRPr b="1" lang="en-US" sz="2100" spc="-1" strike="noStrike">
              <a:solidFill>
                <a:srgbClr val="fc0128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c0128"/>
              </a:solidFill>
              <a:latin typeface="Times New Roman"/>
            </a:endParaRPr>
          </a:p>
        </p:txBody>
      </p:sp>
      <p:graphicFrame>
        <p:nvGraphicFramePr>
          <p:cNvPr id="874" name="Object 7"/>
          <p:cNvGraphicFramePr/>
          <p:nvPr/>
        </p:nvGraphicFramePr>
        <p:xfrm>
          <a:off x="2743200" y="2590920"/>
          <a:ext cx="35053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590920"/>
                    <a:ext cx="35053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6" name="Object 8"/>
          <p:cNvGraphicFramePr/>
          <p:nvPr/>
        </p:nvGraphicFramePr>
        <p:xfrm>
          <a:off x="2666880" y="5029200"/>
          <a:ext cx="88920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7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5029200"/>
                    <a:ext cx="8892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8" name="Object 9"/>
          <p:cNvGraphicFramePr/>
          <p:nvPr/>
        </p:nvGraphicFramePr>
        <p:xfrm>
          <a:off x="4343400" y="5029200"/>
          <a:ext cx="1854360" cy="671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9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3400" y="5029200"/>
                    <a:ext cx="185436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Review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undamental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83280" indent="-2628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units, properties, statistical mechanic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onte Carlo and molecular dynamics as applied to atomic system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83280" indent="-2628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imulating in various ensembl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biasing methods for MC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olecular models for realistic (multiatomic) system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83280" indent="-2628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nter- and intra- atomic potential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lectrostatic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Now examine differences between simulations of monatomic and multiatomic molecul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Rotational Dynamic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or completely rigid molecules, only translation and rotation are performed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ranslational dynamics uses methods described previously, but now applied to the COM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Rotational dynamics must consider angular velocities and acceleration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an treat via rotation of the molecule-frame coordinates in the spaced-fixed fram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76080" indent="-2599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hanges in angular velocity are given via torque on molecul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2" name="Object 4"/>
          <p:cNvGraphicFramePr/>
          <p:nvPr/>
        </p:nvGraphicFramePr>
        <p:xfrm>
          <a:off x="2197080" y="4794120"/>
          <a:ext cx="1027080" cy="3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7080" y="4794120"/>
                    <a:ext cx="102708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4" name="Text Box 5"/>
          <p:cNvSpPr/>
          <p:nvPr/>
        </p:nvSpPr>
        <p:spPr>
          <a:xfrm>
            <a:off x="3276720" y="5181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ngular velocity</a:t>
            </a:r>
            <a:endParaRPr b="1" lang="en-US" sz="1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85" name="Line 6"/>
          <p:cNvSpPr/>
          <p:nvPr/>
        </p:nvSpPr>
        <p:spPr>
          <a:xfrm flipH="1" flipV="1">
            <a:off x="2819520" y="5105520"/>
            <a:ext cx="457200" cy="30456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Quaternion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Rate of change of the Euler angles looks like thi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 problem arises when </a:t>
            </a:r>
            <a:r>
              <a:rPr b="0" lang="el-GR" sz="2400" spc="-1" strike="noStrike">
                <a:solidFill>
                  <a:srgbClr val="618ffd"/>
                </a:solidFill>
                <a:latin typeface="Symbol"/>
                <a:ea typeface="Symbol"/>
              </a:rPr>
              <a:t>θ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is near 0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90840" indent="-2656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no physical significance, but very inconvenient to integration of equations of mo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Quaternions can be used to circumvent the problem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90840" indent="-2656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escribe orientation with 4 (non-independent) variabl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rotation matrix, equations of motion simply </a:t>
            </a:r>
            <a:br>
              <a:rPr sz="2100"/>
            </a:b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xpressed in terms of these quantiti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</p:txBody>
      </p:sp>
      <p:graphicFrame>
        <p:nvGraphicFramePr>
          <p:cNvPr id="888" name="Object 7"/>
          <p:cNvGraphicFramePr/>
          <p:nvPr/>
        </p:nvGraphicFramePr>
        <p:xfrm>
          <a:off x="2006640" y="2044800"/>
          <a:ext cx="361944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6640" y="2044800"/>
                    <a:ext cx="36194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0" name="Object 8"/>
          <p:cNvGraphicFramePr/>
          <p:nvPr/>
        </p:nvGraphicFramePr>
        <p:xfrm>
          <a:off x="6400800" y="4800600"/>
          <a:ext cx="1663560" cy="179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4800600"/>
                    <a:ext cx="1663560" cy="17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2" name="Object 9"/>
          <p:cNvGraphicFramePr/>
          <p:nvPr/>
        </p:nvGraphicFramePr>
        <p:xfrm>
          <a:off x="2184480" y="5513400"/>
          <a:ext cx="1930320" cy="35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93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84480" y="5513400"/>
                    <a:ext cx="193032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Monte Carlo Rotation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C simulations of molecules include rotation mov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09120" indent="-2343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ust do this to sample orientations of rigid molecul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not strictly necessary for non-rigid molecules, but very helpful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very easy to do this incorrectl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rial rotation of a linear molecul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09120" indent="-2343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Let present orientation be given by vector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Generate a unit vector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with random orienta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Let new trial orientation be given by </a:t>
            </a:r>
            <a:br>
              <a:rPr sz="2100"/>
            </a:br>
            <a:br>
              <a:rPr sz="2100"/>
            </a:br>
            <a:br>
              <a:rPr sz="2100"/>
            </a:b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γ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is a fixed scale factor that sets the size of the perturba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Nonlinear molecul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09120" indent="-2343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ame procedure, but do perturbation on the 4-dimensional vector of quaternion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896" name="Object 6"/>
          <p:cNvGraphicFramePr/>
          <p:nvPr/>
        </p:nvGraphicFramePr>
        <p:xfrm>
          <a:off x="2209680" y="4495680"/>
          <a:ext cx="1549440" cy="34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4495680"/>
                    <a:ext cx="15494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Random Vector on a Spher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cceptance-rejection method of von Neuman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terat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(a) Generate 3 uniform random variates, r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on (0,1)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(b) Calculate z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= 1-2r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, i=1,3, so that the vector 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s distributed uniformly in a cube of side 2, centered on the origi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(c) Form the sum z</a:t>
            </a:r>
            <a:r>
              <a:rPr b="0" i="1" lang="en-US" sz="21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= z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1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+ z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1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+ z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1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(d) If z</a:t>
            </a:r>
            <a:r>
              <a:rPr b="0" i="1" lang="en-US" sz="21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&lt; 1, take the random vector as (z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/z, z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/z, z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/z) and quit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(e) Otherwise, reject the vector and return to (a)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lternative algorithms are possibl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76"/>
          <p:cNvGrpSpPr/>
          <p:nvPr/>
        </p:nvGrpSpPr>
        <p:grpSpPr>
          <a:xfrm>
            <a:off x="3581280" y="2438280"/>
            <a:ext cx="3200400" cy="2895840"/>
            <a:chOff x="3581280" y="2438280"/>
            <a:chExt cx="3200400" cy="2895840"/>
          </a:xfrm>
        </p:grpSpPr>
        <p:grpSp>
          <p:nvGrpSpPr>
            <p:cNvPr id="45" name="Group 273"/>
            <p:cNvGrpSpPr/>
            <p:nvPr/>
          </p:nvGrpSpPr>
          <p:grpSpPr>
            <a:xfrm>
              <a:off x="3657600" y="2515680"/>
              <a:ext cx="2672640" cy="2665080"/>
              <a:chOff x="3657600" y="2515680"/>
              <a:chExt cx="2672640" cy="2665080"/>
            </a:xfrm>
          </p:grpSpPr>
          <p:sp>
            <p:nvSpPr>
              <p:cNvPr id="46" name="Rectangle 226"/>
              <p:cNvSpPr/>
              <p:nvPr/>
            </p:nvSpPr>
            <p:spPr>
              <a:xfrm>
                <a:off x="3657600" y="2587680"/>
                <a:ext cx="2672640" cy="2593080"/>
              </a:xfrm>
              <a:prstGeom prst="rect">
                <a:avLst/>
              </a:prstGeom>
              <a:solidFill>
                <a:srgbClr val="ffff00">
                  <a:alpha val="50000"/>
                </a:srgbClr>
              </a:solidFill>
              <a:ln w="1260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47" name="Oval 227"/>
              <p:cNvSpPr/>
              <p:nvPr/>
            </p:nvSpPr>
            <p:spPr>
              <a:xfrm>
                <a:off x="3685320" y="2637360"/>
                <a:ext cx="2576880" cy="2501280"/>
              </a:xfrm>
              <a:prstGeom prst="ellipse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grpSp>
            <p:nvGrpSpPr>
              <p:cNvPr id="48" name="Group 233"/>
              <p:cNvGrpSpPr/>
              <p:nvPr/>
            </p:nvGrpSpPr>
            <p:grpSpPr>
              <a:xfrm>
                <a:off x="5383800" y="2515680"/>
                <a:ext cx="814320" cy="821520"/>
                <a:chOff x="5383800" y="2515680"/>
                <a:chExt cx="814320" cy="821520"/>
              </a:xfrm>
            </p:grpSpPr>
            <p:sp>
              <p:nvSpPr>
                <p:cNvPr id="49" name="Oval 234"/>
                <p:cNvSpPr/>
                <p:nvPr/>
              </p:nvSpPr>
              <p:spPr>
                <a:xfrm flipH="1" rot="2298600">
                  <a:off x="5497200" y="2646000"/>
                  <a:ext cx="587160" cy="570240"/>
                </a:xfrm>
                <a:prstGeom prst="ellipse">
                  <a:avLst/>
                </a:prstGeom>
                <a:solidFill>
                  <a:srgbClr val="618ff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Oval 235"/>
                <p:cNvSpPr/>
                <p:nvPr/>
              </p:nvSpPr>
              <p:spPr>
                <a:xfrm flipH="1" rot="2298600">
                  <a:off x="5628600" y="2563560"/>
                  <a:ext cx="234720" cy="2278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ae00"/>
                      </a:solidFill>
                      <a:latin typeface="Times New Roman"/>
                    </a:rPr>
                    <a:t>+</a:t>
                  </a:r>
                  <a:endParaRPr b="1" lang="en-US" sz="18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Oval 236"/>
                <p:cNvSpPr/>
                <p:nvPr/>
              </p:nvSpPr>
              <p:spPr>
                <a:xfrm flipH="1" rot="2298600">
                  <a:off x="5528520" y="2837880"/>
                  <a:ext cx="352440" cy="342360"/>
                </a:xfrm>
                <a:prstGeom prst="ellipse">
                  <a:avLst/>
                </a:prstGeom>
                <a:solidFill>
                  <a:srgbClr val="00ae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1" lang="en-US" sz="18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Oval 237"/>
                <p:cNvSpPr/>
                <p:nvPr/>
              </p:nvSpPr>
              <p:spPr>
                <a:xfrm flipH="1" rot="2298600">
                  <a:off x="5902200" y="2780280"/>
                  <a:ext cx="235080" cy="2278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ae00"/>
                      </a:solidFill>
                      <a:latin typeface="Times New Roman"/>
                    </a:rPr>
                    <a:t>+</a:t>
                  </a:r>
                  <a:endParaRPr b="1" lang="en-US" sz="18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" name="Rectangle 274"/>
            <p:cNvSpPr/>
            <p:nvPr/>
          </p:nvSpPr>
          <p:spPr>
            <a:xfrm>
              <a:off x="3581280" y="2438280"/>
              <a:ext cx="1676520" cy="2895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54" name="Rectangle 275"/>
            <p:cNvSpPr/>
            <p:nvPr/>
          </p:nvSpPr>
          <p:spPr>
            <a:xfrm>
              <a:off x="5105520" y="3429000"/>
              <a:ext cx="1676160" cy="1828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Truncating the Potential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any molecular models employ point charges for electrostatic interaction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otential-truncation schemes must be careful not to split the charg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or a 9Å truncation distance, using water-like charges, the interaction energy for a molecule with bare charge is (huge)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lways use cutoff based on molecule separation, not atom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31440" indent="-2426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for large molecules, OK to split molecule but do not split subgroup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4"/>
          <p:cNvGrpSpPr/>
          <p:nvPr/>
        </p:nvGrpSpPr>
        <p:grpSpPr>
          <a:xfrm>
            <a:off x="4343040" y="1523880"/>
            <a:ext cx="393840" cy="380880"/>
            <a:chOff x="4343040" y="1523880"/>
            <a:chExt cx="393840" cy="380880"/>
          </a:xfrm>
        </p:grpSpPr>
        <p:sp>
          <p:nvSpPr>
            <p:cNvPr id="58" name="Oval 5"/>
            <p:cNvSpPr/>
            <p:nvPr/>
          </p:nvSpPr>
          <p:spPr>
            <a:xfrm flipH="1">
              <a:off x="4356000" y="1523880"/>
              <a:ext cx="380880" cy="3808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59" name="Oval 6"/>
            <p:cNvSpPr/>
            <p:nvPr/>
          </p:nvSpPr>
          <p:spPr>
            <a:xfrm flipH="1">
              <a:off x="4342680" y="15238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60" name="Oval 7"/>
            <p:cNvSpPr/>
            <p:nvPr/>
          </p:nvSpPr>
          <p:spPr>
            <a:xfrm flipH="1">
              <a:off x="4418640" y="1676160"/>
              <a:ext cx="228600" cy="22860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61" name="Oval 8"/>
            <p:cNvSpPr/>
            <p:nvPr/>
          </p:nvSpPr>
          <p:spPr>
            <a:xfrm flipH="1">
              <a:off x="4571280" y="15238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sp>
        <p:nvSpPr>
          <p:cNvPr id="62" name="Rectangle 9"/>
          <p:cNvSpPr/>
          <p:nvPr/>
        </p:nvSpPr>
        <p:spPr>
          <a:xfrm>
            <a:off x="2570040" y="3484440"/>
            <a:ext cx="1067040" cy="1067040"/>
          </a:xfrm>
          <a:prstGeom prst="rect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3637080" y="3484440"/>
            <a:ext cx="1066680" cy="1067040"/>
          </a:xfrm>
          <a:prstGeom prst="rect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2570040" y="2417760"/>
            <a:ext cx="1067040" cy="1066680"/>
          </a:xfrm>
          <a:prstGeom prst="rect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3637080" y="2417760"/>
            <a:ext cx="1066680" cy="1066680"/>
          </a:xfrm>
          <a:prstGeom prst="rect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6" name="Rectangle 38"/>
          <p:cNvSpPr/>
          <p:nvPr/>
        </p:nvSpPr>
        <p:spPr>
          <a:xfrm>
            <a:off x="3297240" y="3406680"/>
            <a:ext cx="1066680" cy="1067040"/>
          </a:xfrm>
          <a:prstGeom prst="rect">
            <a:avLst/>
          </a:prstGeom>
          <a:solidFill>
            <a:srgbClr val="ffff00">
              <a:alpha val="50000"/>
            </a:srgbClr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7" name="Oval 40"/>
          <p:cNvSpPr/>
          <p:nvPr/>
        </p:nvSpPr>
        <p:spPr>
          <a:xfrm>
            <a:off x="3308400" y="3427560"/>
            <a:ext cx="1028520" cy="10285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68" name="Group 49"/>
          <p:cNvGrpSpPr/>
          <p:nvPr/>
        </p:nvGrpSpPr>
        <p:grpSpPr>
          <a:xfrm>
            <a:off x="3733560" y="3809880"/>
            <a:ext cx="241200" cy="235080"/>
            <a:chOff x="3733560" y="3809880"/>
            <a:chExt cx="241200" cy="235080"/>
          </a:xfrm>
        </p:grpSpPr>
        <p:sp>
          <p:nvSpPr>
            <p:cNvPr id="69" name="Oval 50"/>
            <p:cNvSpPr/>
            <p:nvPr/>
          </p:nvSpPr>
          <p:spPr>
            <a:xfrm flipH="1">
              <a:off x="3741480" y="3809880"/>
              <a:ext cx="233280" cy="2350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70" name="Oval 51"/>
            <p:cNvSpPr/>
            <p:nvPr/>
          </p:nvSpPr>
          <p:spPr>
            <a:xfrm flipH="1">
              <a:off x="3733200" y="3809880"/>
              <a:ext cx="93240" cy="93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71" name="Oval 52"/>
            <p:cNvSpPr/>
            <p:nvPr/>
          </p:nvSpPr>
          <p:spPr>
            <a:xfrm flipH="1">
              <a:off x="3778560" y="3903840"/>
              <a:ext cx="140760" cy="14112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72" name="Oval 53"/>
            <p:cNvSpPr/>
            <p:nvPr/>
          </p:nvSpPr>
          <p:spPr>
            <a:xfrm flipH="1">
              <a:off x="3873240" y="3809880"/>
              <a:ext cx="93240" cy="93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pSp>
        <p:nvGrpSpPr>
          <p:cNvPr id="73" name="Group 54"/>
          <p:cNvGrpSpPr/>
          <p:nvPr/>
        </p:nvGrpSpPr>
        <p:grpSpPr>
          <a:xfrm>
            <a:off x="3985920" y="3380040"/>
            <a:ext cx="326880" cy="331920"/>
            <a:chOff x="3985920" y="3380040"/>
            <a:chExt cx="326880" cy="331920"/>
          </a:xfrm>
        </p:grpSpPr>
        <p:sp>
          <p:nvSpPr>
            <p:cNvPr id="74" name="Oval 55"/>
            <p:cNvSpPr/>
            <p:nvPr/>
          </p:nvSpPr>
          <p:spPr>
            <a:xfrm flipH="1" rot="2298600">
              <a:off x="4033080" y="3431880"/>
              <a:ext cx="232200" cy="2332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75" name="Oval 56"/>
            <p:cNvSpPr/>
            <p:nvPr/>
          </p:nvSpPr>
          <p:spPr>
            <a:xfrm flipH="1" rot="2298600">
              <a:off x="4084560" y="3398760"/>
              <a:ext cx="92880" cy="93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76" name="Oval 57"/>
            <p:cNvSpPr/>
            <p:nvPr/>
          </p:nvSpPr>
          <p:spPr>
            <a:xfrm flipH="1" rot="2298600">
              <a:off x="4042080" y="3510720"/>
              <a:ext cx="140400" cy="13968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77" name="Oval 58"/>
            <p:cNvSpPr/>
            <p:nvPr/>
          </p:nvSpPr>
          <p:spPr>
            <a:xfrm flipH="1" rot="2298600">
              <a:off x="4193640" y="3484080"/>
              <a:ext cx="92880" cy="93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pSp>
        <p:nvGrpSpPr>
          <p:cNvPr id="78" name="Group 59"/>
          <p:cNvGrpSpPr/>
          <p:nvPr/>
        </p:nvGrpSpPr>
        <p:grpSpPr>
          <a:xfrm>
            <a:off x="3920760" y="3912840"/>
            <a:ext cx="324360" cy="318240"/>
            <a:chOff x="3920760" y="3912840"/>
            <a:chExt cx="324360" cy="318240"/>
          </a:xfrm>
        </p:grpSpPr>
        <p:sp>
          <p:nvSpPr>
            <p:cNvPr id="79" name="Oval 60"/>
            <p:cNvSpPr/>
            <p:nvPr/>
          </p:nvSpPr>
          <p:spPr>
            <a:xfrm flipH="1" rot="19877400">
              <a:off x="3969720" y="3954240"/>
              <a:ext cx="233280" cy="2350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80" name="Oval 61"/>
            <p:cNvSpPr/>
            <p:nvPr/>
          </p:nvSpPr>
          <p:spPr>
            <a:xfrm flipH="1" rot="19877400">
              <a:off x="3937680" y="3999960"/>
              <a:ext cx="93240" cy="95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81" name="Oval 62"/>
            <p:cNvSpPr/>
            <p:nvPr/>
          </p:nvSpPr>
          <p:spPr>
            <a:xfrm flipH="1" rot="19877400">
              <a:off x="4030560" y="4046400"/>
              <a:ext cx="141120" cy="14112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82" name="Oval 63"/>
            <p:cNvSpPr/>
            <p:nvPr/>
          </p:nvSpPr>
          <p:spPr>
            <a:xfrm flipH="1" rot="19877400">
              <a:off x="4059000" y="3933720"/>
              <a:ext cx="92160" cy="95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pSp>
        <p:nvGrpSpPr>
          <p:cNvPr id="83" name="Group 64"/>
          <p:cNvGrpSpPr/>
          <p:nvPr/>
        </p:nvGrpSpPr>
        <p:grpSpPr>
          <a:xfrm>
            <a:off x="3623760" y="4151880"/>
            <a:ext cx="307080" cy="307080"/>
            <a:chOff x="3623760" y="4151880"/>
            <a:chExt cx="307080" cy="307080"/>
          </a:xfrm>
        </p:grpSpPr>
        <p:sp>
          <p:nvSpPr>
            <p:cNvPr id="84" name="Oval 65"/>
            <p:cNvSpPr/>
            <p:nvPr/>
          </p:nvSpPr>
          <p:spPr>
            <a:xfrm flipH="1" rot="6804600">
              <a:off x="3660120" y="4188600"/>
              <a:ext cx="233280" cy="2336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85" name="Oval 66"/>
            <p:cNvSpPr/>
            <p:nvPr/>
          </p:nvSpPr>
          <p:spPr>
            <a:xfrm flipH="1" rot="6804600">
              <a:off x="3821760" y="4213800"/>
              <a:ext cx="93240" cy="93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86" name="Oval 67"/>
            <p:cNvSpPr/>
            <p:nvPr/>
          </p:nvSpPr>
          <p:spPr>
            <a:xfrm flipH="1" rot="6804600">
              <a:off x="3666600" y="4208400"/>
              <a:ext cx="140760" cy="1400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87" name="Oval 68"/>
            <p:cNvSpPr/>
            <p:nvPr/>
          </p:nvSpPr>
          <p:spPr>
            <a:xfrm flipH="1" rot="6804600">
              <a:off x="3765960" y="4342320"/>
              <a:ext cx="93240" cy="93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pSp>
        <p:nvGrpSpPr>
          <p:cNvPr id="88" name="Group 69"/>
          <p:cNvGrpSpPr/>
          <p:nvPr/>
        </p:nvGrpSpPr>
        <p:grpSpPr>
          <a:xfrm>
            <a:off x="4254120" y="4260960"/>
            <a:ext cx="241200" cy="234720"/>
            <a:chOff x="4254120" y="4260960"/>
            <a:chExt cx="241200" cy="234720"/>
          </a:xfrm>
        </p:grpSpPr>
        <p:sp>
          <p:nvSpPr>
            <p:cNvPr id="89" name="Oval 70"/>
            <p:cNvSpPr/>
            <p:nvPr/>
          </p:nvSpPr>
          <p:spPr>
            <a:xfrm flipH="1">
              <a:off x="4262040" y="4260960"/>
              <a:ext cx="233280" cy="2347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90" name="Oval 71"/>
            <p:cNvSpPr/>
            <p:nvPr/>
          </p:nvSpPr>
          <p:spPr>
            <a:xfrm flipH="1">
              <a:off x="4253760" y="4260960"/>
              <a:ext cx="93240" cy="93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91" name="Oval 72"/>
            <p:cNvSpPr/>
            <p:nvPr/>
          </p:nvSpPr>
          <p:spPr>
            <a:xfrm flipH="1">
              <a:off x="4299120" y="4354560"/>
              <a:ext cx="140760" cy="14076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92" name="Oval 73"/>
            <p:cNvSpPr/>
            <p:nvPr/>
          </p:nvSpPr>
          <p:spPr>
            <a:xfrm flipH="1">
              <a:off x="4393800" y="4260960"/>
              <a:ext cx="93240" cy="93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pSp>
        <p:nvGrpSpPr>
          <p:cNvPr id="93" name="Group 74"/>
          <p:cNvGrpSpPr/>
          <p:nvPr/>
        </p:nvGrpSpPr>
        <p:grpSpPr>
          <a:xfrm>
            <a:off x="3631680" y="3468960"/>
            <a:ext cx="299880" cy="307440"/>
            <a:chOff x="3631680" y="3468960"/>
            <a:chExt cx="299880" cy="307440"/>
          </a:xfrm>
        </p:grpSpPr>
        <p:sp>
          <p:nvSpPr>
            <p:cNvPr id="94" name="Oval 75"/>
            <p:cNvSpPr/>
            <p:nvPr/>
          </p:nvSpPr>
          <p:spPr>
            <a:xfrm flipH="1" rot="4117800">
              <a:off x="3664440" y="3510000"/>
              <a:ext cx="233280" cy="2307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95" name="Oval 76"/>
            <p:cNvSpPr/>
            <p:nvPr/>
          </p:nvSpPr>
          <p:spPr>
            <a:xfrm flipH="1" rot="4117800">
              <a:off x="3766320" y="3483000"/>
              <a:ext cx="9324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96" name="Oval 77"/>
            <p:cNvSpPr/>
            <p:nvPr/>
          </p:nvSpPr>
          <p:spPr>
            <a:xfrm flipH="1" rot="4117800">
              <a:off x="3661560" y="3567960"/>
              <a:ext cx="140760" cy="13860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97" name="Oval 78"/>
            <p:cNvSpPr/>
            <p:nvPr/>
          </p:nvSpPr>
          <p:spPr>
            <a:xfrm flipH="1" rot="4117800">
              <a:off x="3817800" y="3614040"/>
              <a:ext cx="9216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pSp>
        <p:nvGrpSpPr>
          <p:cNvPr id="98" name="Group 79"/>
          <p:cNvGrpSpPr/>
          <p:nvPr/>
        </p:nvGrpSpPr>
        <p:grpSpPr>
          <a:xfrm>
            <a:off x="4362480" y="3609720"/>
            <a:ext cx="329400" cy="322560"/>
            <a:chOff x="4362480" y="3609720"/>
            <a:chExt cx="329400" cy="322560"/>
          </a:xfrm>
        </p:grpSpPr>
        <p:sp>
          <p:nvSpPr>
            <p:cNvPr id="99" name="Oval 80"/>
            <p:cNvSpPr/>
            <p:nvPr/>
          </p:nvSpPr>
          <p:spPr>
            <a:xfrm flipH="1" rot="18232800">
              <a:off x="4414320" y="3653280"/>
              <a:ext cx="230760" cy="2350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00" name="Oval 81"/>
            <p:cNvSpPr/>
            <p:nvPr/>
          </p:nvSpPr>
          <p:spPr>
            <a:xfrm flipH="1" rot="18232800">
              <a:off x="4381200" y="3751200"/>
              <a:ext cx="91080" cy="93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01" name="Oval 82"/>
            <p:cNvSpPr/>
            <p:nvPr/>
          </p:nvSpPr>
          <p:spPr>
            <a:xfrm flipH="1" rot="18232800">
              <a:off x="4493160" y="3733560"/>
              <a:ext cx="138960" cy="14112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02" name="Oval 83"/>
            <p:cNvSpPr/>
            <p:nvPr/>
          </p:nvSpPr>
          <p:spPr>
            <a:xfrm flipH="1" rot="18232800">
              <a:off x="4458600" y="3633840"/>
              <a:ext cx="92160" cy="93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pSp>
        <p:nvGrpSpPr>
          <p:cNvPr id="103" name="Group 120"/>
          <p:cNvGrpSpPr/>
          <p:nvPr/>
        </p:nvGrpSpPr>
        <p:grpSpPr>
          <a:xfrm>
            <a:off x="3730320" y="2743200"/>
            <a:ext cx="241200" cy="235080"/>
            <a:chOff x="3730320" y="2743200"/>
            <a:chExt cx="241200" cy="235080"/>
          </a:xfrm>
        </p:grpSpPr>
        <p:sp>
          <p:nvSpPr>
            <p:cNvPr id="104" name="Oval 121"/>
            <p:cNvSpPr/>
            <p:nvPr/>
          </p:nvSpPr>
          <p:spPr>
            <a:xfrm flipH="1">
              <a:off x="3738240" y="2743200"/>
              <a:ext cx="233280" cy="2350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05" name="Oval 122"/>
            <p:cNvSpPr/>
            <p:nvPr/>
          </p:nvSpPr>
          <p:spPr>
            <a:xfrm flipH="1">
              <a:off x="3729960" y="2743200"/>
              <a:ext cx="93240" cy="93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06" name="Oval 123"/>
            <p:cNvSpPr/>
            <p:nvPr/>
          </p:nvSpPr>
          <p:spPr>
            <a:xfrm flipH="1">
              <a:off x="3775320" y="2837160"/>
              <a:ext cx="140760" cy="14112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07" name="Oval 124"/>
            <p:cNvSpPr/>
            <p:nvPr/>
          </p:nvSpPr>
          <p:spPr>
            <a:xfrm flipH="1">
              <a:off x="3870000" y="2743200"/>
              <a:ext cx="93240" cy="93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pSp>
        <p:nvGrpSpPr>
          <p:cNvPr id="108" name="Group 125"/>
          <p:cNvGrpSpPr/>
          <p:nvPr/>
        </p:nvGrpSpPr>
        <p:grpSpPr>
          <a:xfrm>
            <a:off x="3983400" y="2313000"/>
            <a:ext cx="326880" cy="332640"/>
            <a:chOff x="3983400" y="2313000"/>
            <a:chExt cx="326880" cy="332640"/>
          </a:xfrm>
        </p:grpSpPr>
        <p:sp>
          <p:nvSpPr>
            <p:cNvPr id="109" name="Oval 126"/>
            <p:cNvSpPr/>
            <p:nvPr/>
          </p:nvSpPr>
          <p:spPr>
            <a:xfrm flipH="1" rot="2298600">
              <a:off x="4030200" y="2365560"/>
              <a:ext cx="232560" cy="2329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10" name="Oval 127"/>
            <p:cNvSpPr/>
            <p:nvPr/>
          </p:nvSpPr>
          <p:spPr>
            <a:xfrm flipH="1" rot="2298600">
              <a:off x="4081320" y="2331720"/>
              <a:ext cx="93240" cy="93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11" name="Oval 128"/>
            <p:cNvSpPr/>
            <p:nvPr/>
          </p:nvSpPr>
          <p:spPr>
            <a:xfrm flipH="1" rot="2298600">
              <a:off x="4039200" y="2444040"/>
              <a:ext cx="140400" cy="13968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12" name="Oval 129"/>
            <p:cNvSpPr/>
            <p:nvPr/>
          </p:nvSpPr>
          <p:spPr>
            <a:xfrm flipH="1" rot="2298600">
              <a:off x="4191120" y="2417400"/>
              <a:ext cx="92880" cy="92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pSp>
        <p:nvGrpSpPr>
          <p:cNvPr id="113" name="Group 130"/>
          <p:cNvGrpSpPr/>
          <p:nvPr/>
        </p:nvGrpSpPr>
        <p:grpSpPr>
          <a:xfrm>
            <a:off x="3917520" y="2846160"/>
            <a:ext cx="324360" cy="317880"/>
            <a:chOff x="3917520" y="2846160"/>
            <a:chExt cx="324360" cy="317880"/>
          </a:xfrm>
        </p:grpSpPr>
        <p:sp>
          <p:nvSpPr>
            <p:cNvPr id="114" name="Oval 131"/>
            <p:cNvSpPr/>
            <p:nvPr/>
          </p:nvSpPr>
          <p:spPr>
            <a:xfrm flipH="1" rot="19877400">
              <a:off x="3966480" y="2887560"/>
              <a:ext cx="233280" cy="2347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15" name="Oval 132"/>
            <p:cNvSpPr/>
            <p:nvPr/>
          </p:nvSpPr>
          <p:spPr>
            <a:xfrm flipH="1" rot="19877400">
              <a:off x="3933720" y="2933640"/>
              <a:ext cx="93240" cy="94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16" name="Oval 133"/>
            <p:cNvSpPr/>
            <p:nvPr/>
          </p:nvSpPr>
          <p:spPr>
            <a:xfrm flipH="1" rot="19877400">
              <a:off x="4027320" y="2979720"/>
              <a:ext cx="141120" cy="14076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17" name="Oval 134"/>
            <p:cNvSpPr/>
            <p:nvPr/>
          </p:nvSpPr>
          <p:spPr>
            <a:xfrm flipH="1" rot="19877400">
              <a:off x="4056120" y="2867040"/>
              <a:ext cx="92160" cy="94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pSp>
        <p:nvGrpSpPr>
          <p:cNvPr id="118" name="Group 135"/>
          <p:cNvGrpSpPr/>
          <p:nvPr/>
        </p:nvGrpSpPr>
        <p:grpSpPr>
          <a:xfrm>
            <a:off x="3620160" y="3085200"/>
            <a:ext cx="307440" cy="307080"/>
            <a:chOff x="3620160" y="3085200"/>
            <a:chExt cx="307440" cy="307080"/>
          </a:xfrm>
        </p:grpSpPr>
        <p:sp>
          <p:nvSpPr>
            <p:cNvPr id="119" name="Oval 136"/>
            <p:cNvSpPr/>
            <p:nvPr/>
          </p:nvSpPr>
          <p:spPr>
            <a:xfrm flipH="1" rot="6804600">
              <a:off x="3657240" y="3121560"/>
              <a:ext cx="233280" cy="23400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20" name="Oval 137"/>
            <p:cNvSpPr/>
            <p:nvPr/>
          </p:nvSpPr>
          <p:spPr>
            <a:xfrm flipH="1" rot="6804600">
              <a:off x="3818880" y="3146760"/>
              <a:ext cx="93240" cy="93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21" name="Oval 138"/>
            <p:cNvSpPr/>
            <p:nvPr/>
          </p:nvSpPr>
          <p:spPr>
            <a:xfrm flipH="1" rot="6804600">
              <a:off x="3662280" y="3141360"/>
              <a:ext cx="140760" cy="14040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22" name="Oval 139"/>
            <p:cNvSpPr/>
            <p:nvPr/>
          </p:nvSpPr>
          <p:spPr>
            <a:xfrm flipH="1" rot="6804600">
              <a:off x="3763080" y="3275280"/>
              <a:ext cx="93240" cy="93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pSp>
        <p:nvGrpSpPr>
          <p:cNvPr id="123" name="Group 140"/>
          <p:cNvGrpSpPr/>
          <p:nvPr/>
        </p:nvGrpSpPr>
        <p:grpSpPr>
          <a:xfrm>
            <a:off x="4250880" y="3193920"/>
            <a:ext cx="241200" cy="235080"/>
            <a:chOff x="4250880" y="3193920"/>
            <a:chExt cx="241200" cy="235080"/>
          </a:xfrm>
        </p:grpSpPr>
        <p:sp>
          <p:nvSpPr>
            <p:cNvPr id="124" name="Oval 141"/>
            <p:cNvSpPr/>
            <p:nvPr/>
          </p:nvSpPr>
          <p:spPr>
            <a:xfrm flipH="1">
              <a:off x="4258080" y="3193920"/>
              <a:ext cx="233640" cy="2350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25" name="Oval 142"/>
            <p:cNvSpPr/>
            <p:nvPr/>
          </p:nvSpPr>
          <p:spPr>
            <a:xfrm flipH="1">
              <a:off x="4250520" y="3193920"/>
              <a:ext cx="93240" cy="93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26" name="Oval 143"/>
            <p:cNvSpPr/>
            <p:nvPr/>
          </p:nvSpPr>
          <p:spPr>
            <a:xfrm flipH="1">
              <a:off x="4296960" y="3287880"/>
              <a:ext cx="141120" cy="14112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27" name="Oval 144"/>
            <p:cNvSpPr/>
            <p:nvPr/>
          </p:nvSpPr>
          <p:spPr>
            <a:xfrm flipH="1">
              <a:off x="4390920" y="3193920"/>
              <a:ext cx="93240" cy="93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pSp>
        <p:nvGrpSpPr>
          <p:cNvPr id="128" name="Group 145"/>
          <p:cNvGrpSpPr/>
          <p:nvPr/>
        </p:nvGrpSpPr>
        <p:grpSpPr>
          <a:xfrm>
            <a:off x="3628080" y="2402280"/>
            <a:ext cx="300240" cy="307440"/>
            <a:chOff x="3628080" y="2402280"/>
            <a:chExt cx="300240" cy="307440"/>
          </a:xfrm>
        </p:grpSpPr>
        <p:sp>
          <p:nvSpPr>
            <p:cNvPr id="129" name="Oval 146"/>
            <p:cNvSpPr/>
            <p:nvPr/>
          </p:nvSpPr>
          <p:spPr>
            <a:xfrm flipH="1" rot="4117800">
              <a:off x="3661200" y="2443320"/>
              <a:ext cx="233280" cy="2311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30" name="Oval 147"/>
            <p:cNvSpPr/>
            <p:nvPr/>
          </p:nvSpPr>
          <p:spPr>
            <a:xfrm flipH="1" rot="4117800">
              <a:off x="3763080" y="2416320"/>
              <a:ext cx="9324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31" name="Oval 148"/>
            <p:cNvSpPr/>
            <p:nvPr/>
          </p:nvSpPr>
          <p:spPr>
            <a:xfrm flipH="1" rot="4117800">
              <a:off x="3658320" y="2501280"/>
              <a:ext cx="140760" cy="13860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32" name="Oval 149"/>
            <p:cNvSpPr/>
            <p:nvPr/>
          </p:nvSpPr>
          <p:spPr>
            <a:xfrm flipH="1" rot="4117800">
              <a:off x="3814560" y="2547360"/>
              <a:ext cx="9216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pSp>
        <p:nvGrpSpPr>
          <p:cNvPr id="133" name="Group 150"/>
          <p:cNvGrpSpPr/>
          <p:nvPr/>
        </p:nvGrpSpPr>
        <p:grpSpPr>
          <a:xfrm>
            <a:off x="4359240" y="2543040"/>
            <a:ext cx="329400" cy="322560"/>
            <a:chOff x="4359240" y="2543040"/>
            <a:chExt cx="329400" cy="322560"/>
          </a:xfrm>
        </p:grpSpPr>
        <p:sp>
          <p:nvSpPr>
            <p:cNvPr id="134" name="Oval 151"/>
            <p:cNvSpPr/>
            <p:nvPr/>
          </p:nvSpPr>
          <p:spPr>
            <a:xfrm flipH="1" rot="18232800">
              <a:off x="4411080" y="2586600"/>
              <a:ext cx="230760" cy="2350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35" name="Oval 152"/>
            <p:cNvSpPr/>
            <p:nvPr/>
          </p:nvSpPr>
          <p:spPr>
            <a:xfrm flipH="1" rot="18232800">
              <a:off x="4377960" y="2684520"/>
              <a:ext cx="91080" cy="93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36" name="Oval 153"/>
            <p:cNvSpPr/>
            <p:nvPr/>
          </p:nvSpPr>
          <p:spPr>
            <a:xfrm flipH="1" rot="18232800">
              <a:off x="4489920" y="2666880"/>
              <a:ext cx="138960" cy="14112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37" name="Oval 154"/>
            <p:cNvSpPr/>
            <p:nvPr/>
          </p:nvSpPr>
          <p:spPr>
            <a:xfrm flipH="1" rot="18232800">
              <a:off x="4455360" y="2567160"/>
              <a:ext cx="92160" cy="93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pSp>
        <p:nvGrpSpPr>
          <p:cNvPr id="138" name="Group 155"/>
          <p:cNvGrpSpPr/>
          <p:nvPr/>
        </p:nvGrpSpPr>
        <p:grpSpPr>
          <a:xfrm>
            <a:off x="2739600" y="3809880"/>
            <a:ext cx="241200" cy="235080"/>
            <a:chOff x="2739600" y="3809880"/>
            <a:chExt cx="241200" cy="235080"/>
          </a:xfrm>
        </p:grpSpPr>
        <p:sp>
          <p:nvSpPr>
            <p:cNvPr id="139" name="Oval 156"/>
            <p:cNvSpPr/>
            <p:nvPr/>
          </p:nvSpPr>
          <p:spPr>
            <a:xfrm flipH="1">
              <a:off x="2747520" y="3809880"/>
              <a:ext cx="233280" cy="2350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40" name="Oval 157"/>
            <p:cNvSpPr/>
            <p:nvPr/>
          </p:nvSpPr>
          <p:spPr>
            <a:xfrm flipH="1">
              <a:off x="2739240" y="3809880"/>
              <a:ext cx="93240" cy="93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41" name="Oval 158"/>
            <p:cNvSpPr/>
            <p:nvPr/>
          </p:nvSpPr>
          <p:spPr>
            <a:xfrm flipH="1">
              <a:off x="2784600" y="3903840"/>
              <a:ext cx="140760" cy="14112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42" name="Oval 159"/>
            <p:cNvSpPr/>
            <p:nvPr/>
          </p:nvSpPr>
          <p:spPr>
            <a:xfrm flipH="1">
              <a:off x="2879280" y="3809880"/>
              <a:ext cx="93240" cy="93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pSp>
        <p:nvGrpSpPr>
          <p:cNvPr id="143" name="Group 160"/>
          <p:cNvGrpSpPr/>
          <p:nvPr/>
        </p:nvGrpSpPr>
        <p:grpSpPr>
          <a:xfrm>
            <a:off x="2992320" y="3380040"/>
            <a:ext cx="326880" cy="331920"/>
            <a:chOff x="2992320" y="3380040"/>
            <a:chExt cx="326880" cy="331920"/>
          </a:xfrm>
        </p:grpSpPr>
        <p:sp>
          <p:nvSpPr>
            <p:cNvPr id="144" name="Oval 161"/>
            <p:cNvSpPr/>
            <p:nvPr/>
          </p:nvSpPr>
          <p:spPr>
            <a:xfrm flipH="1" rot="2298600">
              <a:off x="3039480" y="3431880"/>
              <a:ext cx="232200" cy="2332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45" name="Oval 162"/>
            <p:cNvSpPr/>
            <p:nvPr/>
          </p:nvSpPr>
          <p:spPr>
            <a:xfrm flipH="1" rot="2298600">
              <a:off x="3090960" y="3398760"/>
              <a:ext cx="92880" cy="93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46" name="Oval 163"/>
            <p:cNvSpPr/>
            <p:nvPr/>
          </p:nvSpPr>
          <p:spPr>
            <a:xfrm flipH="1" rot="2298600">
              <a:off x="3048480" y="3510720"/>
              <a:ext cx="140400" cy="13968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47" name="Oval 164"/>
            <p:cNvSpPr/>
            <p:nvPr/>
          </p:nvSpPr>
          <p:spPr>
            <a:xfrm flipH="1" rot="2298600">
              <a:off x="3200040" y="3484080"/>
              <a:ext cx="92880" cy="93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pSp>
        <p:nvGrpSpPr>
          <p:cNvPr id="148" name="Group 165"/>
          <p:cNvGrpSpPr/>
          <p:nvPr/>
        </p:nvGrpSpPr>
        <p:grpSpPr>
          <a:xfrm>
            <a:off x="2926800" y="3912840"/>
            <a:ext cx="324360" cy="318240"/>
            <a:chOff x="2926800" y="3912840"/>
            <a:chExt cx="324360" cy="318240"/>
          </a:xfrm>
        </p:grpSpPr>
        <p:sp>
          <p:nvSpPr>
            <p:cNvPr id="149" name="Oval 166"/>
            <p:cNvSpPr/>
            <p:nvPr/>
          </p:nvSpPr>
          <p:spPr>
            <a:xfrm flipH="1" rot="19877400">
              <a:off x="2975760" y="3954240"/>
              <a:ext cx="233280" cy="2350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50" name="Oval 167"/>
            <p:cNvSpPr/>
            <p:nvPr/>
          </p:nvSpPr>
          <p:spPr>
            <a:xfrm flipH="1" rot="19877400">
              <a:off x="2943720" y="3999960"/>
              <a:ext cx="93240" cy="95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51" name="Oval 168"/>
            <p:cNvSpPr/>
            <p:nvPr/>
          </p:nvSpPr>
          <p:spPr>
            <a:xfrm flipH="1" rot="19877400">
              <a:off x="3036600" y="4046400"/>
              <a:ext cx="141120" cy="14112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52" name="Oval 169"/>
            <p:cNvSpPr/>
            <p:nvPr/>
          </p:nvSpPr>
          <p:spPr>
            <a:xfrm flipH="1" rot="19877400">
              <a:off x="3065040" y="3933720"/>
              <a:ext cx="92160" cy="95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pSp>
        <p:nvGrpSpPr>
          <p:cNvPr id="153" name="Group 170"/>
          <p:cNvGrpSpPr/>
          <p:nvPr/>
        </p:nvGrpSpPr>
        <p:grpSpPr>
          <a:xfrm>
            <a:off x="2629440" y="4151880"/>
            <a:ext cx="307440" cy="307080"/>
            <a:chOff x="2629440" y="4151880"/>
            <a:chExt cx="307440" cy="307080"/>
          </a:xfrm>
        </p:grpSpPr>
        <p:sp>
          <p:nvSpPr>
            <p:cNvPr id="154" name="Oval 171"/>
            <p:cNvSpPr/>
            <p:nvPr/>
          </p:nvSpPr>
          <p:spPr>
            <a:xfrm flipH="1" rot="6804600">
              <a:off x="2666520" y="4188240"/>
              <a:ext cx="233280" cy="23400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55" name="Oval 172"/>
            <p:cNvSpPr/>
            <p:nvPr/>
          </p:nvSpPr>
          <p:spPr>
            <a:xfrm flipH="1" rot="6804600">
              <a:off x="2828160" y="4213440"/>
              <a:ext cx="93240" cy="93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56" name="Oval 173"/>
            <p:cNvSpPr/>
            <p:nvPr/>
          </p:nvSpPr>
          <p:spPr>
            <a:xfrm flipH="1" rot="6804600">
              <a:off x="2671560" y="4208040"/>
              <a:ext cx="140760" cy="14040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57" name="Oval 174"/>
            <p:cNvSpPr/>
            <p:nvPr/>
          </p:nvSpPr>
          <p:spPr>
            <a:xfrm flipH="1" rot="6804600">
              <a:off x="2772360" y="4341960"/>
              <a:ext cx="93240" cy="93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pSp>
        <p:nvGrpSpPr>
          <p:cNvPr id="158" name="Group 175"/>
          <p:cNvGrpSpPr/>
          <p:nvPr/>
        </p:nvGrpSpPr>
        <p:grpSpPr>
          <a:xfrm>
            <a:off x="3260520" y="4260960"/>
            <a:ext cx="241200" cy="234720"/>
            <a:chOff x="3260520" y="4260960"/>
            <a:chExt cx="241200" cy="234720"/>
          </a:xfrm>
        </p:grpSpPr>
        <p:sp>
          <p:nvSpPr>
            <p:cNvPr id="159" name="Oval 176"/>
            <p:cNvSpPr/>
            <p:nvPr/>
          </p:nvSpPr>
          <p:spPr>
            <a:xfrm flipH="1">
              <a:off x="3268440" y="4260960"/>
              <a:ext cx="233280" cy="2347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60" name="Oval 177"/>
            <p:cNvSpPr/>
            <p:nvPr/>
          </p:nvSpPr>
          <p:spPr>
            <a:xfrm flipH="1">
              <a:off x="3260160" y="4260960"/>
              <a:ext cx="93240" cy="93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61" name="Oval 178"/>
            <p:cNvSpPr/>
            <p:nvPr/>
          </p:nvSpPr>
          <p:spPr>
            <a:xfrm flipH="1">
              <a:off x="3305520" y="4354560"/>
              <a:ext cx="140760" cy="14076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62" name="Oval 179"/>
            <p:cNvSpPr/>
            <p:nvPr/>
          </p:nvSpPr>
          <p:spPr>
            <a:xfrm flipH="1">
              <a:off x="3400200" y="4260960"/>
              <a:ext cx="93240" cy="93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pSp>
        <p:nvGrpSpPr>
          <p:cNvPr id="163" name="Group 180"/>
          <p:cNvGrpSpPr/>
          <p:nvPr/>
        </p:nvGrpSpPr>
        <p:grpSpPr>
          <a:xfrm>
            <a:off x="2637360" y="3468960"/>
            <a:ext cx="300240" cy="307440"/>
            <a:chOff x="2637360" y="3468960"/>
            <a:chExt cx="300240" cy="307440"/>
          </a:xfrm>
        </p:grpSpPr>
        <p:sp>
          <p:nvSpPr>
            <p:cNvPr id="164" name="Oval 181"/>
            <p:cNvSpPr/>
            <p:nvPr/>
          </p:nvSpPr>
          <p:spPr>
            <a:xfrm flipH="1" rot="4117800">
              <a:off x="2670480" y="3510000"/>
              <a:ext cx="233280" cy="2311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65" name="Oval 182"/>
            <p:cNvSpPr/>
            <p:nvPr/>
          </p:nvSpPr>
          <p:spPr>
            <a:xfrm flipH="1" rot="4117800">
              <a:off x="2772360" y="3483000"/>
              <a:ext cx="9324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66" name="Oval 183"/>
            <p:cNvSpPr/>
            <p:nvPr/>
          </p:nvSpPr>
          <p:spPr>
            <a:xfrm flipH="1" rot="4117800">
              <a:off x="2667600" y="3567960"/>
              <a:ext cx="140760" cy="13860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67" name="Oval 184"/>
            <p:cNvSpPr/>
            <p:nvPr/>
          </p:nvSpPr>
          <p:spPr>
            <a:xfrm flipH="1" rot="4117800">
              <a:off x="2823840" y="3614040"/>
              <a:ext cx="9216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pSp>
        <p:nvGrpSpPr>
          <p:cNvPr id="168" name="Group 185"/>
          <p:cNvGrpSpPr/>
          <p:nvPr/>
        </p:nvGrpSpPr>
        <p:grpSpPr>
          <a:xfrm>
            <a:off x="3368880" y="3609720"/>
            <a:ext cx="329400" cy="322200"/>
            <a:chOff x="3368880" y="3609720"/>
            <a:chExt cx="329400" cy="322200"/>
          </a:xfrm>
        </p:grpSpPr>
        <p:sp>
          <p:nvSpPr>
            <p:cNvPr id="169" name="Oval 186"/>
            <p:cNvSpPr/>
            <p:nvPr/>
          </p:nvSpPr>
          <p:spPr>
            <a:xfrm flipH="1" rot="18232800">
              <a:off x="3420720" y="3653280"/>
              <a:ext cx="230760" cy="2347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70" name="Oval 187"/>
            <p:cNvSpPr/>
            <p:nvPr/>
          </p:nvSpPr>
          <p:spPr>
            <a:xfrm flipH="1" rot="18232800">
              <a:off x="3387240" y="3751200"/>
              <a:ext cx="91080" cy="93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71" name="Oval 188"/>
            <p:cNvSpPr/>
            <p:nvPr/>
          </p:nvSpPr>
          <p:spPr>
            <a:xfrm flipH="1" rot="18232800">
              <a:off x="3499920" y="3733560"/>
              <a:ext cx="138960" cy="14076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72" name="Oval 189"/>
            <p:cNvSpPr/>
            <p:nvPr/>
          </p:nvSpPr>
          <p:spPr>
            <a:xfrm flipH="1" rot="18232800">
              <a:off x="3465000" y="3633840"/>
              <a:ext cx="92160" cy="93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pSp>
        <p:nvGrpSpPr>
          <p:cNvPr id="173" name="Group 190"/>
          <p:cNvGrpSpPr/>
          <p:nvPr/>
        </p:nvGrpSpPr>
        <p:grpSpPr>
          <a:xfrm>
            <a:off x="2663640" y="2743200"/>
            <a:ext cx="241200" cy="235080"/>
            <a:chOff x="2663640" y="2743200"/>
            <a:chExt cx="241200" cy="235080"/>
          </a:xfrm>
        </p:grpSpPr>
        <p:sp>
          <p:nvSpPr>
            <p:cNvPr id="174" name="Oval 191"/>
            <p:cNvSpPr/>
            <p:nvPr/>
          </p:nvSpPr>
          <p:spPr>
            <a:xfrm flipH="1">
              <a:off x="2671560" y="2743200"/>
              <a:ext cx="233280" cy="2350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75" name="Oval 192"/>
            <p:cNvSpPr/>
            <p:nvPr/>
          </p:nvSpPr>
          <p:spPr>
            <a:xfrm flipH="1">
              <a:off x="2663280" y="2743200"/>
              <a:ext cx="93240" cy="93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76" name="Oval 193"/>
            <p:cNvSpPr/>
            <p:nvPr/>
          </p:nvSpPr>
          <p:spPr>
            <a:xfrm flipH="1">
              <a:off x="2708640" y="2837160"/>
              <a:ext cx="140760" cy="14112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77" name="Oval 194"/>
            <p:cNvSpPr/>
            <p:nvPr/>
          </p:nvSpPr>
          <p:spPr>
            <a:xfrm flipH="1">
              <a:off x="2803320" y="2743200"/>
              <a:ext cx="93240" cy="93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pSp>
        <p:nvGrpSpPr>
          <p:cNvPr id="178" name="Group 195"/>
          <p:cNvGrpSpPr/>
          <p:nvPr/>
        </p:nvGrpSpPr>
        <p:grpSpPr>
          <a:xfrm>
            <a:off x="2916360" y="2313360"/>
            <a:ext cx="326520" cy="331920"/>
            <a:chOff x="2916360" y="2313360"/>
            <a:chExt cx="326520" cy="331920"/>
          </a:xfrm>
        </p:grpSpPr>
        <p:sp>
          <p:nvSpPr>
            <p:cNvPr id="179" name="Oval 196"/>
            <p:cNvSpPr/>
            <p:nvPr/>
          </p:nvSpPr>
          <p:spPr>
            <a:xfrm flipH="1" rot="2298600">
              <a:off x="2963160" y="2365200"/>
              <a:ext cx="232200" cy="2329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0" name="Oval 197"/>
            <p:cNvSpPr/>
            <p:nvPr/>
          </p:nvSpPr>
          <p:spPr>
            <a:xfrm flipH="1" rot="2298600">
              <a:off x="3014640" y="2332080"/>
              <a:ext cx="92880" cy="93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1" name="Oval 198"/>
            <p:cNvSpPr/>
            <p:nvPr/>
          </p:nvSpPr>
          <p:spPr>
            <a:xfrm flipH="1" rot="2298600">
              <a:off x="2972160" y="2444040"/>
              <a:ext cx="140400" cy="13968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2" name="Oval 199"/>
            <p:cNvSpPr/>
            <p:nvPr/>
          </p:nvSpPr>
          <p:spPr>
            <a:xfrm flipH="1" rot="2298600">
              <a:off x="3124440" y="2417400"/>
              <a:ext cx="92880" cy="92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pSp>
        <p:nvGrpSpPr>
          <p:cNvPr id="183" name="Group 200"/>
          <p:cNvGrpSpPr/>
          <p:nvPr/>
        </p:nvGrpSpPr>
        <p:grpSpPr>
          <a:xfrm>
            <a:off x="2850840" y="2846160"/>
            <a:ext cx="324360" cy="317880"/>
            <a:chOff x="2850840" y="2846160"/>
            <a:chExt cx="324360" cy="317880"/>
          </a:xfrm>
        </p:grpSpPr>
        <p:sp>
          <p:nvSpPr>
            <p:cNvPr id="184" name="Oval 201"/>
            <p:cNvSpPr/>
            <p:nvPr/>
          </p:nvSpPr>
          <p:spPr>
            <a:xfrm flipH="1" rot="19877400">
              <a:off x="2899800" y="2887560"/>
              <a:ext cx="233280" cy="2347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5" name="Oval 202"/>
            <p:cNvSpPr/>
            <p:nvPr/>
          </p:nvSpPr>
          <p:spPr>
            <a:xfrm flipH="1" rot="19877400">
              <a:off x="2867040" y="2933640"/>
              <a:ext cx="93240" cy="94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6" name="Oval 203"/>
            <p:cNvSpPr/>
            <p:nvPr/>
          </p:nvSpPr>
          <p:spPr>
            <a:xfrm flipH="1" rot="19877400">
              <a:off x="2960640" y="2979720"/>
              <a:ext cx="141120" cy="14076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7" name="Oval 204"/>
            <p:cNvSpPr/>
            <p:nvPr/>
          </p:nvSpPr>
          <p:spPr>
            <a:xfrm flipH="1" rot="19877400">
              <a:off x="2989440" y="2867040"/>
              <a:ext cx="92160" cy="94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pSp>
        <p:nvGrpSpPr>
          <p:cNvPr id="188" name="Group 205"/>
          <p:cNvGrpSpPr/>
          <p:nvPr/>
        </p:nvGrpSpPr>
        <p:grpSpPr>
          <a:xfrm>
            <a:off x="2553840" y="3085200"/>
            <a:ext cx="307080" cy="307080"/>
            <a:chOff x="2553840" y="3085200"/>
            <a:chExt cx="307080" cy="307080"/>
          </a:xfrm>
        </p:grpSpPr>
        <p:sp>
          <p:nvSpPr>
            <p:cNvPr id="189" name="Oval 206"/>
            <p:cNvSpPr/>
            <p:nvPr/>
          </p:nvSpPr>
          <p:spPr>
            <a:xfrm flipH="1" rot="6804600">
              <a:off x="2590200" y="3121920"/>
              <a:ext cx="233280" cy="2336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0" name="Oval 207"/>
            <p:cNvSpPr/>
            <p:nvPr/>
          </p:nvSpPr>
          <p:spPr>
            <a:xfrm flipH="1" rot="6804600">
              <a:off x="2751840" y="3147120"/>
              <a:ext cx="93240" cy="93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1" name="Oval 208"/>
            <p:cNvSpPr/>
            <p:nvPr/>
          </p:nvSpPr>
          <p:spPr>
            <a:xfrm flipH="1" rot="6804600">
              <a:off x="2596680" y="3141720"/>
              <a:ext cx="140760" cy="14004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2" name="Oval 209"/>
            <p:cNvSpPr/>
            <p:nvPr/>
          </p:nvSpPr>
          <p:spPr>
            <a:xfrm flipH="1" rot="6804600">
              <a:off x="2696040" y="3275640"/>
              <a:ext cx="93240" cy="93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pSp>
        <p:nvGrpSpPr>
          <p:cNvPr id="193" name="Group 210"/>
          <p:cNvGrpSpPr/>
          <p:nvPr/>
        </p:nvGrpSpPr>
        <p:grpSpPr>
          <a:xfrm>
            <a:off x="3184200" y="3193920"/>
            <a:ext cx="241200" cy="235080"/>
            <a:chOff x="3184200" y="3193920"/>
            <a:chExt cx="241200" cy="235080"/>
          </a:xfrm>
        </p:grpSpPr>
        <p:sp>
          <p:nvSpPr>
            <p:cNvPr id="194" name="Oval 211"/>
            <p:cNvSpPr/>
            <p:nvPr/>
          </p:nvSpPr>
          <p:spPr>
            <a:xfrm flipH="1">
              <a:off x="3192120" y="3193920"/>
              <a:ext cx="233280" cy="2350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5" name="Oval 212"/>
            <p:cNvSpPr/>
            <p:nvPr/>
          </p:nvSpPr>
          <p:spPr>
            <a:xfrm flipH="1">
              <a:off x="3183840" y="3193920"/>
              <a:ext cx="93240" cy="93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6" name="Oval 213"/>
            <p:cNvSpPr/>
            <p:nvPr/>
          </p:nvSpPr>
          <p:spPr>
            <a:xfrm flipH="1">
              <a:off x="3229200" y="3287880"/>
              <a:ext cx="140760" cy="14112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7" name="Oval 214"/>
            <p:cNvSpPr/>
            <p:nvPr/>
          </p:nvSpPr>
          <p:spPr>
            <a:xfrm flipH="1">
              <a:off x="3323880" y="3193920"/>
              <a:ext cx="93240" cy="93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pSp>
        <p:nvGrpSpPr>
          <p:cNvPr id="198" name="Group 215"/>
          <p:cNvGrpSpPr/>
          <p:nvPr/>
        </p:nvGrpSpPr>
        <p:grpSpPr>
          <a:xfrm>
            <a:off x="2561760" y="2402280"/>
            <a:ext cx="299880" cy="307440"/>
            <a:chOff x="2561760" y="2402280"/>
            <a:chExt cx="299880" cy="307440"/>
          </a:xfrm>
        </p:grpSpPr>
        <p:sp>
          <p:nvSpPr>
            <p:cNvPr id="199" name="Oval 216"/>
            <p:cNvSpPr/>
            <p:nvPr/>
          </p:nvSpPr>
          <p:spPr>
            <a:xfrm flipH="1" rot="4117800">
              <a:off x="2594520" y="2443320"/>
              <a:ext cx="233280" cy="2307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0" name="Oval 217"/>
            <p:cNvSpPr/>
            <p:nvPr/>
          </p:nvSpPr>
          <p:spPr>
            <a:xfrm flipH="1" rot="4117800">
              <a:off x="2696400" y="2416320"/>
              <a:ext cx="9324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1" name="Oval 218"/>
            <p:cNvSpPr/>
            <p:nvPr/>
          </p:nvSpPr>
          <p:spPr>
            <a:xfrm flipH="1" rot="4117800">
              <a:off x="2591640" y="2501280"/>
              <a:ext cx="140760" cy="13860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2" name="Oval 219"/>
            <p:cNvSpPr/>
            <p:nvPr/>
          </p:nvSpPr>
          <p:spPr>
            <a:xfrm flipH="1" rot="4117800">
              <a:off x="2747880" y="2547360"/>
              <a:ext cx="9216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pSp>
        <p:nvGrpSpPr>
          <p:cNvPr id="203" name="Group 220"/>
          <p:cNvGrpSpPr/>
          <p:nvPr/>
        </p:nvGrpSpPr>
        <p:grpSpPr>
          <a:xfrm>
            <a:off x="3292560" y="2543040"/>
            <a:ext cx="329400" cy="322560"/>
            <a:chOff x="3292560" y="2543040"/>
            <a:chExt cx="329400" cy="322560"/>
          </a:xfrm>
        </p:grpSpPr>
        <p:sp>
          <p:nvSpPr>
            <p:cNvPr id="204" name="Oval 221"/>
            <p:cNvSpPr/>
            <p:nvPr/>
          </p:nvSpPr>
          <p:spPr>
            <a:xfrm flipH="1" rot="18232800">
              <a:off x="3344400" y="2586600"/>
              <a:ext cx="230760" cy="2350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5" name="Oval 222"/>
            <p:cNvSpPr/>
            <p:nvPr/>
          </p:nvSpPr>
          <p:spPr>
            <a:xfrm flipH="1" rot="18232800">
              <a:off x="3311280" y="2684520"/>
              <a:ext cx="91080" cy="93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6" name="Oval 223"/>
            <p:cNvSpPr/>
            <p:nvPr/>
          </p:nvSpPr>
          <p:spPr>
            <a:xfrm flipH="1" rot="18232800">
              <a:off x="3423240" y="2666880"/>
              <a:ext cx="138960" cy="14112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7" name="Oval 224"/>
            <p:cNvSpPr/>
            <p:nvPr/>
          </p:nvSpPr>
          <p:spPr>
            <a:xfrm flipH="1" rot="18232800">
              <a:off x="3388680" y="2567160"/>
              <a:ext cx="92160" cy="93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ae00"/>
                  </a:solidFill>
                  <a:latin typeface="Times New Roman"/>
                </a:rPr>
                <a:t>+</a:t>
              </a:r>
              <a:endParaRPr b="1" lang="en-US" sz="1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sp>
        <p:nvSpPr>
          <p:cNvPr id="208" name="Line 277"/>
          <p:cNvSpPr/>
          <p:nvPr/>
        </p:nvSpPr>
        <p:spPr>
          <a:xfrm flipV="1">
            <a:off x="4114800" y="2590920"/>
            <a:ext cx="114300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09" name="Line 278"/>
          <p:cNvSpPr/>
          <p:nvPr/>
        </p:nvSpPr>
        <p:spPr>
          <a:xfrm flipV="1">
            <a:off x="4191120" y="3504960"/>
            <a:ext cx="167616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10" name="Arc 279"/>
          <p:cNvSpPr/>
          <p:nvPr/>
        </p:nvSpPr>
        <p:spPr>
          <a:xfrm>
            <a:off x="5029200" y="2655720"/>
            <a:ext cx="1143000" cy="1006560"/>
          </a:xfrm>
          <a:custGeom>
            <a:avLst/>
            <a:gdLst/>
            <a:ahLst/>
            <a:rect l="l" t="t" r="r" b="b"/>
            <a:pathLst>
              <a:path fill="none" w="21138" h="21225">
                <a:moveTo>
                  <a:pt x="4009" y="0"/>
                </a:moveTo>
                <a:cubicBezTo>
                  <a:pt x="12585" y="1620"/>
                  <a:pt x="19343" y="8241"/>
                  <a:pt x="21138" y="16781"/>
                </a:cubicBezTo>
              </a:path>
              <a:path stroke="0" w="21138" h="21225">
                <a:moveTo>
                  <a:pt x="4009" y="0"/>
                </a:moveTo>
                <a:cubicBezTo>
                  <a:pt x="12585" y="1620"/>
                  <a:pt x="19343" y="8241"/>
                  <a:pt x="21138" y="16781"/>
                </a:cubicBezTo>
                <a:lnTo>
                  <a:pt x="0" y="21225"/>
                </a:lnTo>
                <a:lnTo>
                  <a:pt x="4009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350"/>
          <p:cNvGrpSpPr/>
          <p:nvPr/>
        </p:nvGrpSpPr>
        <p:grpSpPr>
          <a:xfrm>
            <a:off x="7467480" y="3864240"/>
            <a:ext cx="1371240" cy="1428480"/>
            <a:chOff x="7467480" y="3864240"/>
            <a:chExt cx="1371240" cy="1428480"/>
          </a:xfrm>
        </p:grpSpPr>
        <p:grpSp>
          <p:nvGrpSpPr>
            <p:cNvPr id="212" name="Group 351"/>
            <p:cNvGrpSpPr/>
            <p:nvPr/>
          </p:nvGrpSpPr>
          <p:grpSpPr>
            <a:xfrm>
              <a:off x="7467480" y="3962520"/>
              <a:ext cx="533520" cy="227880"/>
              <a:chOff x="7467480" y="3962520"/>
              <a:chExt cx="533520" cy="227880"/>
            </a:xfrm>
          </p:grpSpPr>
          <p:sp>
            <p:nvSpPr>
              <p:cNvPr id="213" name="Oval 352"/>
              <p:cNvSpPr/>
              <p:nvPr/>
            </p:nvSpPr>
            <p:spPr>
              <a:xfrm>
                <a:off x="7467480" y="3962520"/>
                <a:ext cx="152640" cy="152280"/>
              </a:xfrm>
              <a:prstGeom prst="ellipse">
                <a:avLst/>
              </a:prstGeom>
              <a:solidFill>
                <a:srgbClr val="cecec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14" name="Oval 353"/>
              <p:cNvSpPr/>
              <p:nvPr/>
            </p:nvSpPr>
            <p:spPr>
              <a:xfrm>
                <a:off x="7543800" y="4038480"/>
                <a:ext cx="152280" cy="151920"/>
              </a:xfrm>
              <a:prstGeom prst="ellipse">
                <a:avLst/>
              </a:prstGeom>
              <a:solidFill>
                <a:srgbClr val="cecec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15" name="Oval 354"/>
              <p:cNvSpPr/>
              <p:nvPr/>
            </p:nvSpPr>
            <p:spPr>
              <a:xfrm>
                <a:off x="7620120" y="3962520"/>
                <a:ext cx="152280" cy="152280"/>
              </a:xfrm>
              <a:prstGeom prst="ellipse">
                <a:avLst/>
              </a:prstGeom>
              <a:solidFill>
                <a:srgbClr val="cecec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16" name="Oval 355"/>
              <p:cNvSpPr/>
              <p:nvPr/>
            </p:nvSpPr>
            <p:spPr>
              <a:xfrm>
                <a:off x="7696080" y="4038480"/>
                <a:ext cx="152640" cy="151920"/>
              </a:xfrm>
              <a:prstGeom prst="ellipse">
                <a:avLst/>
              </a:prstGeom>
              <a:solidFill>
                <a:srgbClr val="cecec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17" name="Oval 356"/>
              <p:cNvSpPr/>
              <p:nvPr/>
            </p:nvSpPr>
            <p:spPr>
              <a:xfrm>
                <a:off x="7772400" y="3962520"/>
                <a:ext cx="152280" cy="152280"/>
              </a:xfrm>
              <a:prstGeom prst="ellipse">
                <a:avLst/>
              </a:prstGeom>
              <a:solidFill>
                <a:srgbClr val="cecec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18" name="Oval 357"/>
              <p:cNvSpPr/>
              <p:nvPr/>
            </p:nvSpPr>
            <p:spPr>
              <a:xfrm>
                <a:off x="7848720" y="4038480"/>
                <a:ext cx="152280" cy="151920"/>
              </a:xfrm>
              <a:prstGeom prst="ellipse">
                <a:avLst/>
              </a:prstGeom>
              <a:solidFill>
                <a:srgbClr val="cecec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19" name="Line 358"/>
              <p:cNvSpPr/>
              <p:nvPr/>
            </p:nvSpPr>
            <p:spPr>
              <a:xfrm>
                <a:off x="7543800" y="4038480"/>
                <a:ext cx="7632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20" name="Line 359"/>
              <p:cNvSpPr/>
              <p:nvPr/>
            </p:nvSpPr>
            <p:spPr>
              <a:xfrm flipV="1">
                <a:off x="7620120" y="4038120"/>
                <a:ext cx="7596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21" name="Line 360"/>
              <p:cNvSpPr/>
              <p:nvPr/>
            </p:nvSpPr>
            <p:spPr>
              <a:xfrm>
                <a:off x="7696080" y="4038480"/>
                <a:ext cx="7632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22" name="Line 361"/>
              <p:cNvSpPr/>
              <p:nvPr/>
            </p:nvSpPr>
            <p:spPr>
              <a:xfrm flipV="1">
                <a:off x="7772400" y="4038120"/>
                <a:ext cx="7632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23" name="Line 362"/>
              <p:cNvSpPr/>
              <p:nvPr/>
            </p:nvSpPr>
            <p:spPr>
              <a:xfrm>
                <a:off x="7848720" y="4038480"/>
                <a:ext cx="7596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Group 363"/>
            <p:cNvGrpSpPr/>
            <p:nvPr/>
          </p:nvGrpSpPr>
          <p:grpSpPr>
            <a:xfrm>
              <a:off x="7525440" y="4331160"/>
              <a:ext cx="415440" cy="555840"/>
              <a:chOff x="7525440" y="4331160"/>
              <a:chExt cx="415440" cy="555840"/>
            </a:xfrm>
          </p:grpSpPr>
          <p:sp>
            <p:nvSpPr>
              <p:cNvPr id="225" name="Oval 364"/>
              <p:cNvSpPr/>
              <p:nvPr/>
            </p:nvSpPr>
            <p:spPr>
              <a:xfrm rot="3051600">
                <a:off x="7567920" y="4361760"/>
                <a:ext cx="151560" cy="151200"/>
              </a:xfrm>
              <a:prstGeom prst="ellipse">
                <a:avLst/>
              </a:prstGeom>
              <a:solidFill>
                <a:srgbClr val="cecec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26" name="Oval 365"/>
              <p:cNvSpPr/>
              <p:nvPr/>
            </p:nvSpPr>
            <p:spPr>
              <a:xfrm rot="3051600">
                <a:off x="7556040" y="4469400"/>
                <a:ext cx="151560" cy="151200"/>
              </a:xfrm>
              <a:prstGeom prst="ellipse">
                <a:avLst/>
              </a:prstGeom>
              <a:solidFill>
                <a:srgbClr val="cecec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27" name="Oval 366"/>
              <p:cNvSpPr/>
              <p:nvPr/>
            </p:nvSpPr>
            <p:spPr>
              <a:xfrm rot="3051600">
                <a:off x="7664760" y="4480560"/>
                <a:ext cx="151560" cy="151200"/>
              </a:xfrm>
              <a:prstGeom prst="ellipse">
                <a:avLst/>
              </a:prstGeom>
              <a:solidFill>
                <a:srgbClr val="cecec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28" name="Oval 367"/>
              <p:cNvSpPr/>
              <p:nvPr/>
            </p:nvSpPr>
            <p:spPr>
              <a:xfrm rot="3051600">
                <a:off x="7651800" y="4585320"/>
                <a:ext cx="151560" cy="150840"/>
              </a:xfrm>
              <a:prstGeom prst="ellipse">
                <a:avLst/>
              </a:prstGeom>
              <a:solidFill>
                <a:srgbClr val="cecec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29" name="Oval 368"/>
              <p:cNvSpPr/>
              <p:nvPr/>
            </p:nvSpPr>
            <p:spPr>
              <a:xfrm rot="3051600">
                <a:off x="7758360" y="4596120"/>
                <a:ext cx="151920" cy="151200"/>
              </a:xfrm>
              <a:prstGeom prst="ellipse">
                <a:avLst/>
              </a:prstGeom>
              <a:solidFill>
                <a:srgbClr val="cecec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30" name="Oval 369"/>
              <p:cNvSpPr/>
              <p:nvPr/>
            </p:nvSpPr>
            <p:spPr>
              <a:xfrm rot="3051600">
                <a:off x="7749720" y="4705200"/>
                <a:ext cx="151560" cy="150840"/>
              </a:xfrm>
              <a:prstGeom prst="ellipse">
                <a:avLst/>
              </a:prstGeom>
              <a:solidFill>
                <a:srgbClr val="cecec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31" name="Line 370"/>
              <p:cNvSpPr/>
              <p:nvPr/>
            </p:nvSpPr>
            <p:spPr>
              <a:xfrm flipH="1">
                <a:off x="7632000" y="4436280"/>
                <a:ext cx="10800" cy="10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32" name="Line 371"/>
              <p:cNvSpPr/>
              <p:nvPr/>
            </p:nvSpPr>
            <p:spPr>
              <a:xfrm>
                <a:off x="7633800" y="4541760"/>
                <a:ext cx="106200" cy="1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33" name="Line 372"/>
              <p:cNvSpPr/>
              <p:nvPr/>
            </p:nvSpPr>
            <p:spPr>
              <a:xfrm flipH="1">
                <a:off x="7729920" y="4556520"/>
                <a:ext cx="10440" cy="106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34" name="Line 373"/>
              <p:cNvSpPr/>
              <p:nvPr/>
            </p:nvSpPr>
            <p:spPr>
              <a:xfrm>
                <a:off x="7729920" y="4663080"/>
                <a:ext cx="106560" cy="1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35" name="Line 374"/>
              <p:cNvSpPr/>
              <p:nvPr/>
            </p:nvSpPr>
            <p:spPr>
              <a:xfrm flipH="1">
                <a:off x="7823520" y="4671720"/>
                <a:ext cx="10800" cy="106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Group 375"/>
            <p:cNvGrpSpPr/>
            <p:nvPr/>
          </p:nvGrpSpPr>
          <p:grpSpPr>
            <a:xfrm>
              <a:off x="8191800" y="4273920"/>
              <a:ext cx="457200" cy="517320"/>
              <a:chOff x="8191800" y="4273920"/>
              <a:chExt cx="457200" cy="517320"/>
            </a:xfrm>
          </p:grpSpPr>
          <p:sp>
            <p:nvSpPr>
              <p:cNvPr id="237" name="Oval 376"/>
              <p:cNvSpPr/>
              <p:nvPr/>
            </p:nvSpPr>
            <p:spPr>
              <a:xfrm rot="2413800">
                <a:off x="8222760" y="4304880"/>
                <a:ext cx="152640" cy="152280"/>
              </a:xfrm>
              <a:prstGeom prst="ellipse">
                <a:avLst/>
              </a:prstGeom>
              <a:solidFill>
                <a:srgbClr val="cecec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38" name="Oval 377"/>
              <p:cNvSpPr/>
              <p:nvPr/>
            </p:nvSpPr>
            <p:spPr>
              <a:xfrm rot="2413800">
                <a:off x="8230680" y="4411440"/>
                <a:ext cx="153000" cy="151920"/>
              </a:xfrm>
              <a:prstGeom prst="ellipse">
                <a:avLst/>
              </a:prstGeom>
              <a:solidFill>
                <a:srgbClr val="cecec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39" name="Oval 378"/>
              <p:cNvSpPr/>
              <p:nvPr/>
            </p:nvSpPr>
            <p:spPr>
              <a:xfrm rot="2413800">
                <a:off x="8340840" y="4404600"/>
                <a:ext cx="152640" cy="152280"/>
              </a:xfrm>
              <a:prstGeom prst="ellipse">
                <a:avLst/>
              </a:prstGeom>
              <a:solidFill>
                <a:srgbClr val="cecec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40" name="Oval 379"/>
              <p:cNvSpPr/>
              <p:nvPr/>
            </p:nvSpPr>
            <p:spPr>
              <a:xfrm rot="2413800">
                <a:off x="8348760" y="4511520"/>
                <a:ext cx="152640" cy="151920"/>
              </a:xfrm>
              <a:prstGeom prst="ellipse">
                <a:avLst/>
              </a:prstGeom>
              <a:solidFill>
                <a:srgbClr val="cecec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41" name="Oval 380"/>
              <p:cNvSpPr/>
              <p:nvPr/>
            </p:nvSpPr>
            <p:spPr>
              <a:xfrm rot="2413800">
                <a:off x="8457120" y="4503240"/>
                <a:ext cx="152640" cy="152280"/>
              </a:xfrm>
              <a:prstGeom prst="ellipse">
                <a:avLst/>
              </a:prstGeom>
              <a:solidFill>
                <a:srgbClr val="cecec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42" name="Oval 381"/>
              <p:cNvSpPr/>
              <p:nvPr/>
            </p:nvSpPr>
            <p:spPr>
              <a:xfrm rot="2413800">
                <a:off x="8465040" y="4608000"/>
                <a:ext cx="152640" cy="151920"/>
              </a:xfrm>
              <a:prstGeom prst="ellipse">
                <a:avLst/>
              </a:prstGeom>
              <a:solidFill>
                <a:srgbClr val="cecec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43" name="Line 382"/>
              <p:cNvSpPr/>
              <p:nvPr/>
            </p:nvSpPr>
            <p:spPr>
              <a:xfrm>
                <a:off x="8298000" y="4380120"/>
                <a:ext cx="9000" cy="10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44" name="Line 383"/>
              <p:cNvSpPr/>
              <p:nvPr/>
            </p:nvSpPr>
            <p:spPr>
              <a:xfrm flipV="1">
                <a:off x="8308440" y="4478040"/>
                <a:ext cx="107280" cy="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45" name="Line 384"/>
              <p:cNvSpPr/>
              <p:nvPr/>
            </p:nvSpPr>
            <p:spPr>
              <a:xfrm>
                <a:off x="8417160" y="4480920"/>
                <a:ext cx="9360" cy="10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46" name="Line 385"/>
              <p:cNvSpPr/>
              <p:nvPr/>
            </p:nvSpPr>
            <p:spPr>
              <a:xfrm flipV="1">
                <a:off x="8426520" y="4579560"/>
                <a:ext cx="107280" cy="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47" name="Line 386"/>
              <p:cNvSpPr/>
              <p:nvPr/>
            </p:nvSpPr>
            <p:spPr>
              <a:xfrm>
                <a:off x="8534160" y="4579920"/>
                <a:ext cx="8640" cy="10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Group 387"/>
            <p:cNvGrpSpPr/>
            <p:nvPr/>
          </p:nvGrpSpPr>
          <p:grpSpPr>
            <a:xfrm>
              <a:off x="8305920" y="4952880"/>
              <a:ext cx="532800" cy="227880"/>
              <a:chOff x="8305920" y="4952880"/>
              <a:chExt cx="532800" cy="227880"/>
            </a:xfrm>
          </p:grpSpPr>
          <p:sp>
            <p:nvSpPr>
              <p:cNvPr id="249" name="Oval 388"/>
              <p:cNvSpPr/>
              <p:nvPr/>
            </p:nvSpPr>
            <p:spPr>
              <a:xfrm>
                <a:off x="8305920" y="4952880"/>
                <a:ext cx="152280" cy="152280"/>
              </a:xfrm>
              <a:prstGeom prst="ellipse">
                <a:avLst/>
              </a:prstGeom>
              <a:solidFill>
                <a:srgbClr val="cecec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50" name="Oval 389"/>
              <p:cNvSpPr/>
              <p:nvPr/>
            </p:nvSpPr>
            <p:spPr>
              <a:xfrm>
                <a:off x="8381880" y="5028840"/>
                <a:ext cx="151920" cy="151920"/>
              </a:xfrm>
              <a:prstGeom prst="ellipse">
                <a:avLst/>
              </a:prstGeom>
              <a:solidFill>
                <a:srgbClr val="cecec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51" name="Oval 390"/>
              <p:cNvSpPr/>
              <p:nvPr/>
            </p:nvSpPr>
            <p:spPr>
              <a:xfrm>
                <a:off x="8458200" y="4952880"/>
                <a:ext cx="151920" cy="152280"/>
              </a:xfrm>
              <a:prstGeom prst="ellipse">
                <a:avLst/>
              </a:prstGeom>
              <a:solidFill>
                <a:srgbClr val="cecec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52" name="Oval 391"/>
              <p:cNvSpPr/>
              <p:nvPr/>
            </p:nvSpPr>
            <p:spPr>
              <a:xfrm>
                <a:off x="8534160" y="5028840"/>
                <a:ext cx="152280" cy="151920"/>
              </a:xfrm>
              <a:prstGeom prst="ellipse">
                <a:avLst/>
              </a:prstGeom>
              <a:solidFill>
                <a:srgbClr val="cecec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53" name="Oval 392"/>
              <p:cNvSpPr/>
              <p:nvPr/>
            </p:nvSpPr>
            <p:spPr>
              <a:xfrm>
                <a:off x="8610480" y="4952880"/>
                <a:ext cx="151920" cy="152280"/>
              </a:xfrm>
              <a:prstGeom prst="ellipse">
                <a:avLst/>
              </a:prstGeom>
              <a:solidFill>
                <a:srgbClr val="cecec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54" name="Oval 393"/>
              <p:cNvSpPr/>
              <p:nvPr/>
            </p:nvSpPr>
            <p:spPr>
              <a:xfrm>
                <a:off x="8686800" y="5028840"/>
                <a:ext cx="151920" cy="151920"/>
              </a:xfrm>
              <a:prstGeom prst="ellipse">
                <a:avLst/>
              </a:prstGeom>
              <a:solidFill>
                <a:srgbClr val="cecec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55" name="Line 394"/>
              <p:cNvSpPr/>
              <p:nvPr/>
            </p:nvSpPr>
            <p:spPr>
              <a:xfrm>
                <a:off x="8381880" y="5028840"/>
                <a:ext cx="7596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56" name="Line 395"/>
              <p:cNvSpPr/>
              <p:nvPr/>
            </p:nvSpPr>
            <p:spPr>
              <a:xfrm flipV="1">
                <a:off x="8458200" y="5028480"/>
                <a:ext cx="7560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57" name="Line 396"/>
              <p:cNvSpPr/>
              <p:nvPr/>
            </p:nvSpPr>
            <p:spPr>
              <a:xfrm>
                <a:off x="8534160" y="5028840"/>
                <a:ext cx="7596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58" name="Line 397"/>
              <p:cNvSpPr/>
              <p:nvPr/>
            </p:nvSpPr>
            <p:spPr>
              <a:xfrm flipV="1">
                <a:off x="8610480" y="5028480"/>
                <a:ext cx="7596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59" name="Line 398"/>
              <p:cNvSpPr/>
              <p:nvPr/>
            </p:nvSpPr>
            <p:spPr>
              <a:xfrm>
                <a:off x="8686800" y="5028840"/>
                <a:ext cx="7560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Group 399"/>
            <p:cNvGrpSpPr/>
            <p:nvPr/>
          </p:nvGrpSpPr>
          <p:grpSpPr>
            <a:xfrm>
              <a:off x="8069760" y="3864240"/>
              <a:ext cx="547560" cy="423360"/>
              <a:chOff x="8069760" y="3864240"/>
              <a:chExt cx="547560" cy="423360"/>
            </a:xfrm>
          </p:grpSpPr>
          <p:sp>
            <p:nvSpPr>
              <p:cNvPr id="261" name="Oval 400"/>
              <p:cNvSpPr/>
              <p:nvPr/>
            </p:nvSpPr>
            <p:spPr>
              <a:xfrm rot="19067400">
                <a:off x="8100360" y="4100040"/>
                <a:ext cx="152280" cy="150840"/>
              </a:xfrm>
              <a:prstGeom prst="ellipse">
                <a:avLst/>
              </a:prstGeom>
              <a:solidFill>
                <a:srgbClr val="cecec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62" name="Oval 401"/>
              <p:cNvSpPr/>
              <p:nvPr/>
            </p:nvSpPr>
            <p:spPr>
              <a:xfrm rot="19067400">
                <a:off x="8207640" y="4105080"/>
                <a:ext cx="151920" cy="150840"/>
              </a:xfrm>
              <a:prstGeom prst="ellipse">
                <a:avLst/>
              </a:prstGeom>
              <a:solidFill>
                <a:srgbClr val="cecec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63" name="Oval 402"/>
              <p:cNvSpPr/>
              <p:nvPr/>
            </p:nvSpPr>
            <p:spPr>
              <a:xfrm rot="19067400">
                <a:off x="8214120" y="3998520"/>
                <a:ext cx="151920" cy="151200"/>
              </a:xfrm>
              <a:prstGeom prst="ellipse">
                <a:avLst/>
              </a:prstGeom>
              <a:solidFill>
                <a:srgbClr val="cecec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64" name="Oval 403"/>
              <p:cNvSpPr/>
              <p:nvPr/>
            </p:nvSpPr>
            <p:spPr>
              <a:xfrm rot="19067400">
                <a:off x="8319240" y="4001400"/>
                <a:ext cx="152280" cy="151200"/>
              </a:xfrm>
              <a:prstGeom prst="ellipse">
                <a:avLst/>
              </a:prstGeom>
              <a:solidFill>
                <a:srgbClr val="cecec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65" name="Oval 404"/>
              <p:cNvSpPr/>
              <p:nvPr/>
            </p:nvSpPr>
            <p:spPr>
              <a:xfrm rot="19067400">
                <a:off x="8326440" y="3895560"/>
                <a:ext cx="151920" cy="150840"/>
              </a:xfrm>
              <a:prstGeom prst="ellipse">
                <a:avLst/>
              </a:prstGeom>
              <a:solidFill>
                <a:srgbClr val="cecec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66" name="Oval 405"/>
              <p:cNvSpPr/>
              <p:nvPr/>
            </p:nvSpPr>
            <p:spPr>
              <a:xfrm rot="19067400">
                <a:off x="8434440" y="3901320"/>
                <a:ext cx="151920" cy="150840"/>
              </a:xfrm>
              <a:prstGeom prst="ellipse">
                <a:avLst/>
              </a:prstGeom>
              <a:solidFill>
                <a:srgbClr val="cecec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67" name="Line 406"/>
              <p:cNvSpPr/>
              <p:nvPr/>
            </p:nvSpPr>
            <p:spPr>
              <a:xfrm>
                <a:off x="8175600" y="4174560"/>
                <a:ext cx="10692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68" name="Line 407"/>
              <p:cNvSpPr/>
              <p:nvPr/>
            </p:nvSpPr>
            <p:spPr>
              <a:xfrm flipV="1">
                <a:off x="8285040" y="4075200"/>
                <a:ext cx="5400" cy="106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69" name="Line 408"/>
              <p:cNvSpPr/>
              <p:nvPr/>
            </p:nvSpPr>
            <p:spPr>
              <a:xfrm>
                <a:off x="8290440" y="4074840"/>
                <a:ext cx="1072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70" name="Line 409"/>
              <p:cNvSpPr/>
              <p:nvPr/>
            </p:nvSpPr>
            <p:spPr>
              <a:xfrm flipV="1">
                <a:off x="8394480" y="3971160"/>
                <a:ext cx="5400" cy="10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71" name="Line 410"/>
              <p:cNvSpPr/>
              <p:nvPr/>
            </p:nvSpPr>
            <p:spPr>
              <a:xfrm>
                <a:off x="8403480" y="3972240"/>
                <a:ext cx="106920" cy="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Group 411"/>
            <p:cNvGrpSpPr/>
            <p:nvPr/>
          </p:nvGrpSpPr>
          <p:grpSpPr>
            <a:xfrm>
              <a:off x="7481520" y="4840920"/>
              <a:ext cx="505080" cy="451800"/>
              <a:chOff x="7481520" y="4840920"/>
              <a:chExt cx="505080" cy="451800"/>
            </a:xfrm>
          </p:grpSpPr>
          <p:sp>
            <p:nvSpPr>
              <p:cNvPr id="273" name="Oval 412"/>
              <p:cNvSpPr/>
              <p:nvPr/>
            </p:nvSpPr>
            <p:spPr>
              <a:xfrm rot="1682400">
                <a:off x="7507800" y="4867560"/>
                <a:ext cx="152280" cy="150840"/>
              </a:xfrm>
              <a:prstGeom prst="ellipse">
                <a:avLst/>
              </a:prstGeom>
              <a:solidFill>
                <a:srgbClr val="cecec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74" name="Oval 413"/>
              <p:cNvSpPr/>
              <p:nvPr/>
            </p:nvSpPr>
            <p:spPr>
              <a:xfrm rot="1682400">
                <a:off x="7541640" y="4972680"/>
                <a:ext cx="152280" cy="150840"/>
              </a:xfrm>
              <a:prstGeom prst="ellipse">
                <a:avLst/>
              </a:prstGeom>
              <a:solidFill>
                <a:srgbClr val="cecec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75" name="Oval 414"/>
              <p:cNvSpPr/>
              <p:nvPr/>
            </p:nvSpPr>
            <p:spPr>
              <a:xfrm rot="1682400">
                <a:off x="7644600" y="4941720"/>
                <a:ext cx="152280" cy="151200"/>
              </a:xfrm>
              <a:prstGeom prst="ellipse">
                <a:avLst/>
              </a:prstGeom>
              <a:solidFill>
                <a:srgbClr val="cecec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76" name="Oval 415"/>
              <p:cNvSpPr/>
              <p:nvPr/>
            </p:nvSpPr>
            <p:spPr>
              <a:xfrm rot="1682400">
                <a:off x="7675200" y="5042520"/>
                <a:ext cx="152280" cy="150840"/>
              </a:xfrm>
              <a:prstGeom prst="ellipse">
                <a:avLst/>
              </a:prstGeom>
              <a:solidFill>
                <a:srgbClr val="cecec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77" name="Oval 416"/>
              <p:cNvSpPr/>
              <p:nvPr/>
            </p:nvSpPr>
            <p:spPr>
              <a:xfrm rot="1682400">
                <a:off x="7776000" y="5011920"/>
                <a:ext cx="152640" cy="151200"/>
              </a:xfrm>
              <a:prstGeom prst="ellipse">
                <a:avLst/>
              </a:prstGeom>
              <a:solidFill>
                <a:srgbClr val="cecec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78" name="Oval 417"/>
              <p:cNvSpPr/>
              <p:nvPr/>
            </p:nvSpPr>
            <p:spPr>
              <a:xfrm rot="1682400">
                <a:off x="7807680" y="5114520"/>
                <a:ext cx="152280" cy="150840"/>
              </a:xfrm>
              <a:prstGeom prst="ellipse">
                <a:avLst/>
              </a:prstGeom>
              <a:solidFill>
                <a:srgbClr val="cecec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79" name="Line 418"/>
              <p:cNvSpPr/>
              <p:nvPr/>
            </p:nvSpPr>
            <p:spPr>
              <a:xfrm>
                <a:off x="7584120" y="4943160"/>
                <a:ext cx="31680" cy="10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80" name="Line 419"/>
              <p:cNvSpPr/>
              <p:nvPr/>
            </p:nvSpPr>
            <p:spPr>
              <a:xfrm flipV="1">
                <a:off x="7615080" y="5016240"/>
                <a:ext cx="102960" cy="3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ctr">
                <a:noAutofit/>
              </a:bodyPr>
              <a:p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81" name="Line 420"/>
              <p:cNvSpPr/>
              <p:nvPr/>
            </p:nvSpPr>
            <p:spPr>
              <a:xfrm>
                <a:off x="7720560" y="5017680"/>
                <a:ext cx="31680" cy="10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82" name="Line 421"/>
              <p:cNvSpPr/>
              <p:nvPr/>
            </p:nvSpPr>
            <p:spPr>
              <a:xfrm flipV="1">
                <a:off x="7751160" y="5088600"/>
                <a:ext cx="102600" cy="3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ctr">
                <a:noAutofit/>
              </a:bodyPr>
              <a:p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83" name="Line 422"/>
              <p:cNvSpPr/>
              <p:nvPr/>
            </p:nvSpPr>
            <p:spPr>
              <a:xfrm>
                <a:off x="7852320" y="5087880"/>
                <a:ext cx="32040" cy="10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Volume-Scaling Move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caling atom displacements leads to large strain on intramolecular bonds 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nstead perform volume scaling moves using molecule centers-of-mass (or something similar)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46200" indent="-2484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be COM of molecule i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lvl="1" marL="6462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be position of atom j w.r.t.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For size scaling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,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100" spc="-1" strike="noStrike" baseline="30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= sL</a:t>
            </a:r>
            <a:r>
              <a:rPr b="0" i="1" lang="en-US" sz="2100" spc="-1" strike="noStrike" baseline="30000">
                <a:solidFill>
                  <a:srgbClr val="000000"/>
                </a:solidFill>
                <a:latin typeface="Times New Roman"/>
              </a:rPr>
              <a:t>old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cceptance based on change i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5334120" y="3048120"/>
            <a:ext cx="1447560" cy="144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287" name="Group 79"/>
          <p:cNvGrpSpPr/>
          <p:nvPr/>
        </p:nvGrpSpPr>
        <p:grpSpPr>
          <a:xfrm>
            <a:off x="5410080" y="3124080"/>
            <a:ext cx="533520" cy="228600"/>
            <a:chOff x="5410080" y="3124080"/>
            <a:chExt cx="533520" cy="228600"/>
          </a:xfrm>
        </p:grpSpPr>
        <p:sp>
          <p:nvSpPr>
            <p:cNvPr id="288" name="Oval 5"/>
            <p:cNvSpPr/>
            <p:nvPr/>
          </p:nvSpPr>
          <p:spPr>
            <a:xfrm>
              <a:off x="5410080" y="3124080"/>
              <a:ext cx="152640" cy="15264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89" name="Oval 6"/>
            <p:cNvSpPr/>
            <p:nvPr/>
          </p:nvSpPr>
          <p:spPr>
            <a:xfrm>
              <a:off x="5486400" y="3200400"/>
              <a:ext cx="152280" cy="15228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90" name="Oval 7"/>
            <p:cNvSpPr/>
            <p:nvPr/>
          </p:nvSpPr>
          <p:spPr>
            <a:xfrm>
              <a:off x="5562720" y="3124080"/>
              <a:ext cx="152280" cy="15264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91" name="Oval 8"/>
            <p:cNvSpPr/>
            <p:nvPr/>
          </p:nvSpPr>
          <p:spPr>
            <a:xfrm>
              <a:off x="5638680" y="3200400"/>
              <a:ext cx="152640" cy="15228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92" name="Oval 9"/>
            <p:cNvSpPr/>
            <p:nvPr/>
          </p:nvSpPr>
          <p:spPr>
            <a:xfrm>
              <a:off x="5715000" y="3124080"/>
              <a:ext cx="152280" cy="15264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93" name="Oval 10"/>
            <p:cNvSpPr/>
            <p:nvPr/>
          </p:nvSpPr>
          <p:spPr>
            <a:xfrm>
              <a:off x="5791320" y="3200400"/>
              <a:ext cx="152280" cy="15228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94" name="Line 73"/>
            <p:cNvSpPr/>
            <p:nvPr/>
          </p:nvSpPr>
          <p:spPr>
            <a:xfrm>
              <a:off x="5486400" y="3200400"/>
              <a:ext cx="7632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95" name="Line 74"/>
            <p:cNvSpPr/>
            <p:nvPr/>
          </p:nvSpPr>
          <p:spPr>
            <a:xfrm flipV="1">
              <a:off x="5562720" y="3200400"/>
              <a:ext cx="7596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96" name="Line 75"/>
            <p:cNvSpPr/>
            <p:nvPr/>
          </p:nvSpPr>
          <p:spPr>
            <a:xfrm>
              <a:off x="5638680" y="3200400"/>
              <a:ext cx="7632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97" name="Line 76"/>
            <p:cNvSpPr/>
            <p:nvPr/>
          </p:nvSpPr>
          <p:spPr>
            <a:xfrm flipV="1">
              <a:off x="5715000" y="3200400"/>
              <a:ext cx="7632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98" name="Line 77"/>
            <p:cNvSpPr/>
            <p:nvPr/>
          </p:nvSpPr>
          <p:spPr>
            <a:xfrm>
              <a:off x="5791320" y="3200400"/>
              <a:ext cx="7596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pSp>
        <p:nvGrpSpPr>
          <p:cNvPr id="299" name="Group 80"/>
          <p:cNvGrpSpPr/>
          <p:nvPr/>
        </p:nvGrpSpPr>
        <p:grpSpPr>
          <a:xfrm>
            <a:off x="5468040" y="3493080"/>
            <a:ext cx="415440" cy="556200"/>
            <a:chOff x="5468040" y="3493080"/>
            <a:chExt cx="415440" cy="556200"/>
          </a:xfrm>
        </p:grpSpPr>
        <p:sp>
          <p:nvSpPr>
            <p:cNvPr id="300" name="Oval 81"/>
            <p:cNvSpPr/>
            <p:nvPr/>
          </p:nvSpPr>
          <p:spPr>
            <a:xfrm rot="3051600">
              <a:off x="5510520" y="3523680"/>
              <a:ext cx="151560" cy="15120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01" name="Oval 82"/>
            <p:cNvSpPr/>
            <p:nvPr/>
          </p:nvSpPr>
          <p:spPr>
            <a:xfrm rot="3051600">
              <a:off x="5498640" y="3631320"/>
              <a:ext cx="151560" cy="15120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02" name="Oval 83"/>
            <p:cNvSpPr/>
            <p:nvPr/>
          </p:nvSpPr>
          <p:spPr>
            <a:xfrm rot="3051600">
              <a:off x="5607360" y="3642480"/>
              <a:ext cx="151560" cy="15120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03" name="Oval 84"/>
            <p:cNvSpPr/>
            <p:nvPr/>
          </p:nvSpPr>
          <p:spPr>
            <a:xfrm rot="3051600">
              <a:off x="5594400" y="3747240"/>
              <a:ext cx="151560" cy="15084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04" name="Oval 85"/>
            <p:cNvSpPr/>
            <p:nvPr/>
          </p:nvSpPr>
          <p:spPr>
            <a:xfrm rot="3051600">
              <a:off x="5700960" y="3758400"/>
              <a:ext cx="151920" cy="15120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05" name="Oval 86"/>
            <p:cNvSpPr/>
            <p:nvPr/>
          </p:nvSpPr>
          <p:spPr>
            <a:xfrm rot="3051600">
              <a:off x="5692320" y="3867480"/>
              <a:ext cx="151560" cy="15084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06" name="Line 87"/>
            <p:cNvSpPr/>
            <p:nvPr/>
          </p:nvSpPr>
          <p:spPr>
            <a:xfrm flipH="1">
              <a:off x="5574600" y="3598200"/>
              <a:ext cx="10800" cy="10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07" name="Line 88"/>
            <p:cNvSpPr/>
            <p:nvPr/>
          </p:nvSpPr>
          <p:spPr>
            <a:xfrm>
              <a:off x="5576400" y="3703680"/>
              <a:ext cx="10620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08" name="Line 89"/>
            <p:cNvSpPr/>
            <p:nvPr/>
          </p:nvSpPr>
          <p:spPr>
            <a:xfrm flipH="1">
              <a:off x="5672520" y="3718440"/>
              <a:ext cx="10440" cy="1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09" name="Line 90"/>
            <p:cNvSpPr/>
            <p:nvPr/>
          </p:nvSpPr>
          <p:spPr>
            <a:xfrm>
              <a:off x="5672520" y="3825360"/>
              <a:ext cx="1065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10" name="Line 91"/>
            <p:cNvSpPr/>
            <p:nvPr/>
          </p:nvSpPr>
          <p:spPr>
            <a:xfrm flipH="1">
              <a:off x="5766480" y="3834000"/>
              <a:ext cx="10800" cy="1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pSp>
        <p:nvGrpSpPr>
          <p:cNvPr id="311" name="Group 92"/>
          <p:cNvGrpSpPr/>
          <p:nvPr/>
        </p:nvGrpSpPr>
        <p:grpSpPr>
          <a:xfrm>
            <a:off x="6134040" y="3435840"/>
            <a:ext cx="457560" cy="518040"/>
            <a:chOff x="6134040" y="3435840"/>
            <a:chExt cx="457560" cy="518040"/>
          </a:xfrm>
        </p:grpSpPr>
        <p:sp>
          <p:nvSpPr>
            <p:cNvPr id="312" name="Oval 93"/>
            <p:cNvSpPr/>
            <p:nvPr/>
          </p:nvSpPr>
          <p:spPr>
            <a:xfrm rot="2413800">
              <a:off x="6165000" y="3466800"/>
              <a:ext cx="152640" cy="15264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13" name="Oval 94"/>
            <p:cNvSpPr/>
            <p:nvPr/>
          </p:nvSpPr>
          <p:spPr>
            <a:xfrm rot="2413800">
              <a:off x="6172920" y="3573720"/>
              <a:ext cx="153000" cy="15228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14" name="Oval 95"/>
            <p:cNvSpPr/>
            <p:nvPr/>
          </p:nvSpPr>
          <p:spPr>
            <a:xfrm rot="2413800">
              <a:off x="6283080" y="3566520"/>
              <a:ext cx="152640" cy="15264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15" name="Oval 96"/>
            <p:cNvSpPr/>
            <p:nvPr/>
          </p:nvSpPr>
          <p:spPr>
            <a:xfrm rot="2413800">
              <a:off x="6291000" y="3673440"/>
              <a:ext cx="152640" cy="15228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16" name="Oval 97"/>
            <p:cNvSpPr/>
            <p:nvPr/>
          </p:nvSpPr>
          <p:spPr>
            <a:xfrm rot="2413800">
              <a:off x="6399360" y="3665160"/>
              <a:ext cx="152640" cy="15264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17" name="Oval 98"/>
            <p:cNvSpPr/>
            <p:nvPr/>
          </p:nvSpPr>
          <p:spPr>
            <a:xfrm rot="2413800">
              <a:off x="6407640" y="3769920"/>
              <a:ext cx="152640" cy="15228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18" name="Line 99"/>
            <p:cNvSpPr/>
            <p:nvPr/>
          </p:nvSpPr>
          <p:spPr>
            <a:xfrm>
              <a:off x="6240240" y="3542400"/>
              <a:ext cx="9000" cy="10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19" name="Line 100"/>
            <p:cNvSpPr/>
            <p:nvPr/>
          </p:nvSpPr>
          <p:spPr>
            <a:xfrm flipV="1">
              <a:off x="6251040" y="3639960"/>
              <a:ext cx="107280" cy="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20" name="Line 101"/>
            <p:cNvSpPr/>
            <p:nvPr/>
          </p:nvSpPr>
          <p:spPr>
            <a:xfrm>
              <a:off x="6359400" y="3643200"/>
              <a:ext cx="9000" cy="10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21" name="Line 102"/>
            <p:cNvSpPr/>
            <p:nvPr/>
          </p:nvSpPr>
          <p:spPr>
            <a:xfrm flipV="1">
              <a:off x="6368400" y="3741840"/>
              <a:ext cx="107640" cy="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22" name="Line 103"/>
            <p:cNvSpPr/>
            <p:nvPr/>
          </p:nvSpPr>
          <p:spPr>
            <a:xfrm>
              <a:off x="6476400" y="3742200"/>
              <a:ext cx="8640" cy="10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pSp>
        <p:nvGrpSpPr>
          <p:cNvPr id="323" name="Group 104"/>
          <p:cNvGrpSpPr/>
          <p:nvPr/>
        </p:nvGrpSpPr>
        <p:grpSpPr>
          <a:xfrm>
            <a:off x="6248520" y="4114800"/>
            <a:ext cx="532800" cy="228600"/>
            <a:chOff x="6248520" y="4114800"/>
            <a:chExt cx="532800" cy="228600"/>
          </a:xfrm>
        </p:grpSpPr>
        <p:sp>
          <p:nvSpPr>
            <p:cNvPr id="324" name="Oval 105"/>
            <p:cNvSpPr/>
            <p:nvPr/>
          </p:nvSpPr>
          <p:spPr>
            <a:xfrm>
              <a:off x="6248520" y="4114800"/>
              <a:ext cx="152280" cy="15264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25" name="Oval 106"/>
            <p:cNvSpPr/>
            <p:nvPr/>
          </p:nvSpPr>
          <p:spPr>
            <a:xfrm>
              <a:off x="6324480" y="4191120"/>
              <a:ext cx="151920" cy="15228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26" name="Oval 107"/>
            <p:cNvSpPr/>
            <p:nvPr/>
          </p:nvSpPr>
          <p:spPr>
            <a:xfrm>
              <a:off x="6400800" y="4114800"/>
              <a:ext cx="151920" cy="15264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27" name="Oval 108"/>
            <p:cNvSpPr/>
            <p:nvPr/>
          </p:nvSpPr>
          <p:spPr>
            <a:xfrm>
              <a:off x="6476760" y="4191120"/>
              <a:ext cx="152280" cy="15228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28" name="Oval 109"/>
            <p:cNvSpPr/>
            <p:nvPr/>
          </p:nvSpPr>
          <p:spPr>
            <a:xfrm>
              <a:off x="6553080" y="4114800"/>
              <a:ext cx="151920" cy="15264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29" name="Oval 110"/>
            <p:cNvSpPr/>
            <p:nvPr/>
          </p:nvSpPr>
          <p:spPr>
            <a:xfrm>
              <a:off x="6629400" y="4191120"/>
              <a:ext cx="151920" cy="15228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30" name="Line 111"/>
            <p:cNvSpPr/>
            <p:nvPr/>
          </p:nvSpPr>
          <p:spPr>
            <a:xfrm>
              <a:off x="6324480" y="4191120"/>
              <a:ext cx="7596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31" name="Line 112"/>
            <p:cNvSpPr/>
            <p:nvPr/>
          </p:nvSpPr>
          <p:spPr>
            <a:xfrm flipV="1">
              <a:off x="6400800" y="4191120"/>
              <a:ext cx="7560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32" name="Line 113"/>
            <p:cNvSpPr/>
            <p:nvPr/>
          </p:nvSpPr>
          <p:spPr>
            <a:xfrm>
              <a:off x="6476760" y="4191120"/>
              <a:ext cx="7596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33" name="Line 114"/>
            <p:cNvSpPr/>
            <p:nvPr/>
          </p:nvSpPr>
          <p:spPr>
            <a:xfrm flipV="1">
              <a:off x="6553080" y="4191120"/>
              <a:ext cx="7596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34" name="Line 115"/>
            <p:cNvSpPr/>
            <p:nvPr/>
          </p:nvSpPr>
          <p:spPr>
            <a:xfrm>
              <a:off x="6629400" y="4191120"/>
              <a:ext cx="7560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pSp>
        <p:nvGrpSpPr>
          <p:cNvPr id="335" name="Group 116"/>
          <p:cNvGrpSpPr/>
          <p:nvPr/>
        </p:nvGrpSpPr>
        <p:grpSpPr>
          <a:xfrm>
            <a:off x="6012360" y="3025800"/>
            <a:ext cx="547920" cy="423720"/>
            <a:chOff x="6012360" y="3025800"/>
            <a:chExt cx="547920" cy="423720"/>
          </a:xfrm>
        </p:grpSpPr>
        <p:sp>
          <p:nvSpPr>
            <p:cNvPr id="336" name="Oval 117"/>
            <p:cNvSpPr/>
            <p:nvPr/>
          </p:nvSpPr>
          <p:spPr>
            <a:xfrm rot="19067400">
              <a:off x="6043320" y="3261600"/>
              <a:ext cx="152280" cy="15120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37" name="Oval 118"/>
            <p:cNvSpPr/>
            <p:nvPr/>
          </p:nvSpPr>
          <p:spPr>
            <a:xfrm rot="19067400">
              <a:off x="6150240" y="3266640"/>
              <a:ext cx="151920" cy="15120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38" name="Oval 119"/>
            <p:cNvSpPr/>
            <p:nvPr/>
          </p:nvSpPr>
          <p:spPr>
            <a:xfrm rot="19067400">
              <a:off x="6156720" y="3160080"/>
              <a:ext cx="151920" cy="15156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39" name="Oval 120"/>
            <p:cNvSpPr/>
            <p:nvPr/>
          </p:nvSpPr>
          <p:spPr>
            <a:xfrm rot="19067400">
              <a:off x="6261840" y="3162960"/>
              <a:ext cx="152280" cy="15156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40" name="Oval 121"/>
            <p:cNvSpPr/>
            <p:nvPr/>
          </p:nvSpPr>
          <p:spPr>
            <a:xfrm rot="19067400">
              <a:off x="6269040" y="3057120"/>
              <a:ext cx="151920" cy="15120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41" name="Oval 122"/>
            <p:cNvSpPr/>
            <p:nvPr/>
          </p:nvSpPr>
          <p:spPr>
            <a:xfrm rot="19067400">
              <a:off x="6377040" y="3062880"/>
              <a:ext cx="151920" cy="15120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42" name="Line 123"/>
            <p:cNvSpPr/>
            <p:nvPr/>
          </p:nvSpPr>
          <p:spPr>
            <a:xfrm>
              <a:off x="6118200" y="3336120"/>
              <a:ext cx="1069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43" name="Line 124"/>
            <p:cNvSpPr/>
            <p:nvPr/>
          </p:nvSpPr>
          <p:spPr>
            <a:xfrm flipV="1">
              <a:off x="6227640" y="3236760"/>
              <a:ext cx="5400" cy="1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44" name="Line 125"/>
            <p:cNvSpPr/>
            <p:nvPr/>
          </p:nvSpPr>
          <p:spPr>
            <a:xfrm>
              <a:off x="6233040" y="3236400"/>
              <a:ext cx="1072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45" name="Line 126"/>
            <p:cNvSpPr/>
            <p:nvPr/>
          </p:nvSpPr>
          <p:spPr>
            <a:xfrm flipV="1">
              <a:off x="6337080" y="3132720"/>
              <a:ext cx="5400" cy="10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46" name="Line 127"/>
            <p:cNvSpPr/>
            <p:nvPr/>
          </p:nvSpPr>
          <p:spPr>
            <a:xfrm>
              <a:off x="6346080" y="3133800"/>
              <a:ext cx="10692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pSp>
        <p:nvGrpSpPr>
          <p:cNvPr id="347" name="Group 128"/>
          <p:cNvGrpSpPr/>
          <p:nvPr/>
        </p:nvGrpSpPr>
        <p:grpSpPr>
          <a:xfrm>
            <a:off x="5424120" y="4002840"/>
            <a:ext cx="505080" cy="452160"/>
            <a:chOff x="5424120" y="4002840"/>
            <a:chExt cx="505080" cy="452160"/>
          </a:xfrm>
        </p:grpSpPr>
        <p:sp>
          <p:nvSpPr>
            <p:cNvPr id="348" name="Oval 129"/>
            <p:cNvSpPr/>
            <p:nvPr/>
          </p:nvSpPr>
          <p:spPr>
            <a:xfrm rot="1682400">
              <a:off x="5450400" y="4029480"/>
              <a:ext cx="152280" cy="15120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49" name="Oval 130"/>
            <p:cNvSpPr/>
            <p:nvPr/>
          </p:nvSpPr>
          <p:spPr>
            <a:xfrm rot="1682400">
              <a:off x="5484240" y="4134600"/>
              <a:ext cx="152280" cy="15120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50" name="Oval 131"/>
            <p:cNvSpPr/>
            <p:nvPr/>
          </p:nvSpPr>
          <p:spPr>
            <a:xfrm rot="1682400">
              <a:off x="5587200" y="4103640"/>
              <a:ext cx="152280" cy="15156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51" name="Oval 132"/>
            <p:cNvSpPr/>
            <p:nvPr/>
          </p:nvSpPr>
          <p:spPr>
            <a:xfrm rot="1682400">
              <a:off x="5617800" y="4204440"/>
              <a:ext cx="152280" cy="15120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52" name="Oval 133"/>
            <p:cNvSpPr/>
            <p:nvPr/>
          </p:nvSpPr>
          <p:spPr>
            <a:xfrm rot="1682400">
              <a:off x="5718600" y="4173480"/>
              <a:ext cx="152640" cy="15156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53" name="Oval 134"/>
            <p:cNvSpPr/>
            <p:nvPr/>
          </p:nvSpPr>
          <p:spPr>
            <a:xfrm rot="1682400">
              <a:off x="5750280" y="4276440"/>
              <a:ext cx="152280" cy="15120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54" name="Line 135"/>
            <p:cNvSpPr/>
            <p:nvPr/>
          </p:nvSpPr>
          <p:spPr>
            <a:xfrm>
              <a:off x="5526720" y="4105080"/>
              <a:ext cx="31680" cy="10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55" name="Line 136"/>
            <p:cNvSpPr/>
            <p:nvPr/>
          </p:nvSpPr>
          <p:spPr>
            <a:xfrm flipV="1">
              <a:off x="5557680" y="4178160"/>
              <a:ext cx="102960" cy="3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56" name="Line 137"/>
            <p:cNvSpPr/>
            <p:nvPr/>
          </p:nvSpPr>
          <p:spPr>
            <a:xfrm>
              <a:off x="5663160" y="4179600"/>
              <a:ext cx="31680" cy="10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57" name="Line 138"/>
            <p:cNvSpPr/>
            <p:nvPr/>
          </p:nvSpPr>
          <p:spPr>
            <a:xfrm flipV="1">
              <a:off x="5693760" y="4250520"/>
              <a:ext cx="102600" cy="3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58" name="Line 139"/>
            <p:cNvSpPr/>
            <p:nvPr/>
          </p:nvSpPr>
          <p:spPr>
            <a:xfrm>
              <a:off x="5794920" y="4249800"/>
              <a:ext cx="32040" cy="10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sp>
        <p:nvSpPr>
          <p:cNvPr id="359" name="Rectangle 140"/>
          <p:cNvSpPr/>
          <p:nvPr/>
        </p:nvSpPr>
        <p:spPr>
          <a:xfrm>
            <a:off x="7315200" y="1905120"/>
            <a:ext cx="1600200" cy="160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60" name="Oval 142"/>
          <p:cNvSpPr/>
          <p:nvPr/>
        </p:nvSpPr>
        <p:spPr>
          <a:xfrm>
            <a:off x="7391520" y="1981080"/>
            <a:ext cx="136440" cy="139680"/>
          </a:xfrm>
          <a:prstGeom prst="ellips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61" name="Oval 143"/>
          <p:cNvSpPr/>
          <p:nvPr/>
        </p:nvSpPr>
        <p:spPr>
          <a:xfrm>
            <a:off x="7491240" y="2081160"/>
            <a:ext cx="136800" cy="139680"/>
          </a:xfrm>
          <a:prstGeom prst="ellips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62" name="Oval 144"/>
          <p:cNvSpPr/>
          <p:nvPr/>
        </p:nvSpPr>
        <p:spPr>
          <a:xfrm>
            <a:off x="7591320" y="1981080"/>
            <a:ext cx="136800" cy="139680"/>
          </a:xfrm>
          <a:prstGeom prst="ellips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63" name="Oval 145"/>
          <p:cNvSpPr/>
          <p:nvPr/>
        </p:nvSpPr>
        <p:spPr>
          <a:xfrm>
            <a:off x="7691400" y="2081160"/>
            <a:ext cx="136440" cy="139680"/>
          </a:xfrm>
          <a:prstGeom prst="ellips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64" name="Oval 146"/>
          <p:cNvSpPr/>
          <p:nvPr/>
        </p:nvSpPr>
        <p:spPr>
          <a:xfrm>
            <a:off x="7792920" y="1981080"/>
            <a:ext cx="136800" cy="139680"/>
          </a:xfrm>
          <a:prstGeom prst="ellips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65" name="Oval 147"/>
          <p:cNvSpPr/>
          <p:nvPr/>
        </p:nvSpPr>
        <p:spPr>
          <a:xfrm>
            <a:off x="7893000" y="2081160"/>
            <a:ext cx="136440" cy="139680"/>
          </a:xfrm>
          <a:prstGeom prst="ellips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66" name="Line 148"/>
          <p:cNvSpPr/>
          <p:nvPr/>
        </p:nvSpPr>
        <p:spPr>
          <a:xfrm>
            <a:off x="7475400" y="2066760"/>
            <a:ext cx="6696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67" name="Line 149"/>
          <p:cNvSpPr/>
          <p:nvPr/>
        </p:nvSpPr>
        <p:spPr>
          <a:xfrm flipV="1">
            <a:off x="7575480" y="2066760"/>
            <a:ext cx="6660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68" name="Line 150"/>
          <p:cNvSpPr/>
          <p:nvPr/>
        </p:nvSpPr>
        <p:spPr>
          <a:xfrm>
            <a:off x="7675560" y="2066760"/>
            <a:ext cx="6984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69" name="Line 151"/>
          <p:cNvSpPr/>
          <p:nvPr/>
        </p:nvSpPr>
        <p:spPr>
          <a:xfrm flipV="1">
            <a:off x="7777080" y="2066760"/>
            <a:ext cx="6660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70" name="Line 152"/>
          <p:cNvSpPr/>
          <p:nvPr/>
        </p:nvSpPr>
        <p:spPr>
          <a:xfrm>
            <a:off x="7877160" y="2066760"/>
            <a:ext cx="6660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371" name="Group 215"/>
          <p:cNvGrpSpPr/>
          <p:nvPr/>
        </p:nvGrpSpPr>
        <p:grpSpPr>
          <a:xfrm>
            <a:off x="8277120" y="3112920"/>
            <a:ext cx="638280" cy="239760"/>
            <a:chOff x="8277120" y="3112920"/>
            <a:chExt cx="638280" cy="239760"/>
          </a:xfrm>
        </p:grpSpPr>
        <p:sp>
          <p:nvSpPr>
            <p:cNvPr id="372" name="Oval 178"/>
            <p:cNvSpPr/>
            <p:nvPr/>
          </p:nvSpPr>
          <p:spPr>
            <a:xfrm>
              <a:off x="8277120" y="3112920"/>
              <a:ext cx="136800" cy="14004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73" name="Oval 179"/>
            <p:cNvSpPr/>
            <p:nvPr/>
          </p:nvSpPr>
          <p:spPr>
            <a:xfrm>
              <a:off x="8377200" y="3213000"/>
              <a:ext cx="136440" cy="13968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74" name="Oval 180"/>
            <p:cNvSpPr/>
            <p:nvPr/>
          </p:nvSpPr>
          <p:spPr>
            <a:xfrm>
              <a:off x="8477280" y="3112920"/>
              <a:ext cx="136440" cy="14004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75" name="Oval 181"/>
            <p:cNvSpPr/>
            <p:nvPr/>
          </p:nvSpPr>
          <p:spPr>
            <a:xfrm>
              <a:off x="8577360" y="3213000"/>
              <a:ext cx="136440" cy="13968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76" name="Oval 182"/>
            <p:cNvSpPr/>
            <p:nvPr/>
          </p:nvSpPr>
          <p:spPr>
            <a:xfrm>
              <a:off x="8678880" y="3112920"/>
              <a:ext cx="136440" cy="14004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77" name="Oval 183"/>
            <p:cNvSpPr/>
            <p:nvPr/>
          </p:nvSpPr>
          <p:spPr>
            <a:xfrm>
              <a:off x="8778960" y="3213000"/>
              <a:ext cx="136440" cy="13968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78" name="Line 184"/>
            <p:cNvSpPr/>
            <p:nvPr/>
          </p:nvSpPr>
          <p:spPr>
            <a:xfrm>
              <a:off x="8361360" y="3198960"/>
              <a:ext cx="6660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79" name="Line 185"/>
            <p:cNvSpPr/>
            <p:nvPr/>
          </p:nvSpPr>
          <p:spPr>
            <a:xfrm flipV="1">
              <a:off x="8461440" y="3198960"/>
              <a:ext cx="6660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80" name="Line 186"/>
            <p:cNvSpPr/>
            <p:nvPr/>
          </p:nvSpPr>
          <p:spPr>
            <a:xfrm>
              <a:off x="8561520" y="3198960"/>
              <a:ext cx="6984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81" name="Line 187"/>
            <p:cNvSpPr/>
            <p:nvPr/>
          </p:nvSpPr>
          <p:spPr>
            <a:xfrm flipV="1">
              <a:off x="8663040" y="3198960"/>
              <a:ext cx="6660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82" name="Line 188"/>
            <p:cNvSpPr/>
            <p:nvPr/>
          </p:nvSpPr>
          <p:spPr>
            <a:xfrm>
              <a:off x="8763120" y="3198960"/>
              <a:ext cx="6660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pSp>
        <p:nvGrpSpPr>
          <p:cNvPr id="383" name="Group 216"/>
          <p:cNvGrpSpPr/>
          <p:nvPr/>
        </p:nvGrpSpPr>
        <p:grpSpPr>
          <a:xfrm>
            <a:off x="8273520" y="2356560"/>
            <a:ext cx="457920" cy="648360"/>
            <a:chOff x="8273520" y="2356560"/>
            <a:chExt cx="457920" cy="648360"/>
          </a:xfrm>
        </p:grpSpPr>
        <p:sp>
          <p:nvSpPr>
            <p:cNvPr id="384" name="Oval 217"/>
            <p:cNvSpPr/>
            <p:nvPr/>
          </p:nvSpPr>
          <p:spPr>
            <a:xfrm rot="3111600">
              <a:off x="8318520" y="2383560"/>
              <a:ext cx="136080" cy="13860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85" name="Oval 218"/>
            <p:cNvSpPr/>
            <p:nvPr/>
          </p:nvSpPr>
          <p:spPr>
            <a:xfrm rot="3111600">
              <a:off x="8301960" y="2525040"/>
              <a:ext cx="135720" cy="13860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86" name="Oval 219"/>
            <p:cNvSpPr/>
            <p:nvPr/>
          </p:nvSpPr>
          <p:spPr>
            <a:xfrm rot="3111600">
              <a:off x="8443440" y="2542320"/>
              <a:ext cx="135720" cy="13860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87" name="Oval 220"/>
            <p:cNvSpPr/>
            <p:nvPr/>
          </p:nvSpPr>
          <p:spPr>
            <a:xfrm rot="3111600">
              <a:off x="8424720" y="2682000"/>
              <a:ext cx="136080" cy="13860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88" name="Oval 221"/>
            <p:cNvSpPr/>
            <p:nvPr/>
          </p:nvSpPr>
          <p:spPr>
            <a:xfrm rot="3111600">
              <a:off x="8566920" y="2699280"/>
              <a:ext cx="135720" cy="13860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89" name="Oval 222"/>
            <p:cNvSpPr/>
            <p:nvPr/>
          </p:nvSpPr>
          <p:spPr>
            <a:xfrm rot="3111600">
              <a:off x="8550000" y="2838600"/>
              <a:ext cx="136080" cy="13896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90" name="Line 223"/>
            <p:cNvSpPr/>
            <p:nvPr/>
          </p:nvSpPr>
          <p:spPr>
            <a:xfrm flipH="1">
              <a:off x="8372520" y="2477520"/>
              <a:ext cx="1368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91" name="Line 224"/>
            <p:cNvSpPr/>
            <p:nvPr/>
          </p:nvSpPr>
          <p:spPr>
            <a:xfrm>
              <a:off x="8392320" y="2597040"/>
              <a:ext cx="9540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92" name="Line 225"/>
            <p:cNvSpPr/>
            <p:nvPr/>
          </p:nvSpPr>
          <p:spPr>
            <a:xfrm flipH="1">
              <a:off x="8497800" y="2634120"/>
              <a:ext cx="1152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93" name="Line 226"/>
            <p:cNvSpPr/>
            <p:nvPr/>
          </p:nvSpPr>
          <p:spPr>
            <a:xfrm>
              <a:off x="8516160" y="2755080"/>
              <a:ext cx="9540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94" name="Line 227"/>
            <p:cNvSpPr/>
            <p:nvPr/>
          </p:nvSpPr>
          <p:spPr>
            <a:xfrm flipH="1">
              <a:off x="8617320" y="2794320"/>
              <a:ext cx="1332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pSp>
        <p:nvGrpSpPr>
          <p:cNvPr id="395" name="Group 228"/>
          <p:cNvGrpSpPr/>
          <p:nvPr/>
        </p:nvGrpSpPr>
        <p:grpSpPr>
          <a:xfrm>
            <a:off x="8141040" y="1878840"/>
            <a:ext cx="662400" cy="442800"/>
            <a:chOff x="8141040" y="1878840"/>
            <a:chExt cx="662400" cy="442800"/>
          </a:xfrm>
        </p:grpSpPr>
        <p:sp>
          <p:nvSpPr>
            <p:cNvPr id="396" name="Oval 229"/>
            <p:cNvSpPr/>
            <p:nvPr/>
          </p:nvSpPr>
          <p:spPr>
            <a:xfrm rot="19582200">
              <a:off x="8167680" y="2129040"/>
              <a:ext cx="137160" cy="13788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97" name="Oval 230"/>
            <p:cNvSpPr/>
            <p:nvPr/>
          </p:nvSpPr>
          <p:spPr>
            <a:xfrm rot="19582200">
              <a:off x="8306640" y="2157120"/>
              <a:ext cx="136800" cy="13788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98" name="Oval 231"/>
            <p:cNvSpPr/>
            <p:nvPr/>
          </p:nvSpPr>
          <p:spPr>
            <a:xfrm rot="19582200">
              <a:off x="8332200" y="2019600"/>
              <a:ext cx="136800" cy="13788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99" name="Oval 232"/>
            <p:cNvSpPr/>
            <p:nvPr/>
          </p:nvSpPr>
          <p:spPr>
            <a:xfrm rot="19582200">
              <a:off x="8469720" y="2044800"/>
              <a:ext cx="136800" cy="13824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00" name="Oval 233"/>
            <p:cNvSpPr/>
            <p:nvPr/>
          </p:nvSpPr>
          <p:spPr>
            <a:xfrm rot="19582200">
              <a:off x="8502840" y="1904760"/>
              <a:ext cx="136800" cy="13788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01" name="Oval 234"/>
            <p:cNvSpPr/>
            <p:nvPr/>
          </p:nvSpPr>
          <p:spPr>
            <a:xfrm rot="19582200">
              <a:off x="8639640" y="1933920"/>
              <a:ext cx="136800" cy="13788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02" name="Line 235"/>
            <p:cNvSpPr/>
            <p:nvPr/>
          </p:nvSpPr>
          <p:spPr>
            <a:xfrm>
              <a:off x="8256240" y="2202120"/>
              <a:ext cx="9360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03" name="Line 236"/>
            <p:cNvSpPr/>
            <p:nvPr/>
          </p:nvSpPr>
          <p:spPr>
            <a:xfrm flipV="1">
              <a:off x="8378280" y="2110680"/>
              <a:ext cx="17640" cy="9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04" name="Line 237"/>
            <p:cNvSpPr/>
            <p:nvPr/>
          </p:nvSpPr>
          <p:spPr>
            <a:xfrm>
              <a:off x="8426880" y="2092680"/>
              <a:ext cx="96120" cy="1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05" name="Line 238"/>
            <p:cNvSpPr/>
            <p:nvPr/>
          </p:nvSpPr>
          <p:spPr>
            <a:xfrm flipV="1">
              <a:off x="8547120" y="1998360"/>
              <a:ext cx="17640" cy="9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06" name="Line 239"/>
            <p:cNvSpPr/>
            <p:nvPr/>
          </p:nvSpPr>
          <p:spPr>
            <a:xfrm>
              <a:off x="8592120" y="1978920"/>
              <a:ext cx="93600" cy="2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pSp>
        <p:nvGrpSpPr>
          <p:cNvPr id="407" name="Group 240"/>
          <p:cNvGrpSpPr/>
          <p:nvPr/>
        </p:nvGrpSpPr>
        <p:grpSpPr>
          <a:xfrm>
            <a:off x="7410960" y="2305080"/>
            <a:ext cx="445680" cy="659880"/>
            <a:chOff x="7410960" y="2305080"/>
            <a:chExt cx="445680" cy="659880"/>
          </a:xfrm>
        </p:grpSpPr>
        <p:sp>
          <p:nvSpPr>
            <p:cNvPr id="408" name="Oval 241"/>
            <p:cNvSpPr/>
            <p:nvPr/>
          </p:nvSpPr>
          <p:spPr>
            <a:xfrm rot="3310200">
              <a:off x="7462440" y="2330640"/>
              <a:ext cx="136080" cy="14040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09" name="Oval 242"/>
            <p:cNvSpPr/>
            <p:nvPr/>
          </p:nvSpPr>
          <p:spPr>
            <a:xfrm rot="3310200">
              <a:off x="7439400" y="2469960"/>
              <a:ext cx="136080" cy="14076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10" name="Oval 243"/>
            <p:cNvSpPr/>
            <p:nvPr/>
          </p:nvSpPr>
          <p:spPr>
            <a:xfrm rot="3310200">
              <a:off x="7576560" y="2494440"/>
              <a:ext cx="136080" cy="14040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11" name="Oval 244"/>
            <p:cNvSpPr/>
            <p:nvPr/>
          </p:nvSpPr>
          <p:spPr>
            <a:xfrm rot="3310200">
              <a:off x="7553520" y="2634120"/>
              <a:ext cx="136080" cy="14076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12" name="Oval 245"/>
            <p:cNvSpPr/>
            <p:nvPr/>
          </p:nvSpPr>
          <p:spPr>
            <a:xfrm rot="3310200">
              <a:off x="7691760" y="2660040"/>
              <a:ext cx="136080" cy="14040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13" name="Oval 246"/>
            <p:cNvSpPr/>
            <p:nvPr/>
          </p:nvSpPr>
          <p:spPr>
            <a:xfrm rot="3310200">
              <a:off x="7667640" y="2798280"/>
              <a:ext cx="136440" cy="14076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14" name="Line 247"/>
            <p:cNvSpPr/>
            <p:nvPr/>
          </p:nvSpPr>
          <p:spPr>
            <a:xfrm flipH="1">
              <a:off x="7508520" y="2422080"/>
              <a:ext cx="19440" cy="9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15" name="Line 248"/>
            <p:cNvSpPr/>
            <p:nvPr/>
          </p:nvSpPr>
          <p:spPr>
            <a:xfrm>
              <a:off x="7527600" y="2543760"/>
              <a:ext cx="95760" cy="1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16" name="Line 249"/>
            <p:cNvSpPr/>
            <p:nvPr/>
          </p:nvSpPr>
          <p:spPr>
            <a:xfrm flipH="1">
              <a:off x="7623000" y="2586960"/>
              <a:ext cx="18000" cy="9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17" name="Line 250"/>
            <p:cNvSpPr/>
            <p:nvPr/>
          </p:nvSpPr>
          <p:spPr>
            <a:xfrm>
              <a:off x="7642800" y="2709360"/>
              <a:ext cx="9576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18" name="Line 251"/>
            <p:cNvSpPr/>
            <p:nvPr/>
          </p:nvSpPr>
          <p:spPr>
            <a:xfrm flipH="1">
              <a:off x="7736400" y="2752560"/>
              <a:ext cx="19800" cy="9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pSp>
        <p:nvGrpSpPr>
          <p:cNvPr id="419" name="Group 252"/>
          <p:cNvGrpSpPr/>
          <p:nvPr/>
        </p:nvGrpSpPr>
        <p:grpSpPr>
          <a:xfrm>
            <a:off x="7482960" y="2939400"/>
            <a:ext cx="608040" cy="455400"/>
            <a:chOff x="7482960" y="2939400"/>
            <a:chExt cx="608040" cy="455400"/>
          </a:xfrm>
        </p:grpSpPr>
        <p:sp>
          <p:nvSpPr>
            <p:cNvPr id="420" name="Oval 253"/>
            <p:cNvSpPr/>
            <p:nvPr/>
          </p:nvSpPr>
          <p:spPr>
            <a:xfrm rot="1290000">
              <a:off x="7503480" y="2959200"/>
              <a:ext cx="136080" cy="13860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21" name="Oval 254"/>
            <p:cNvSpPr/>
            <p:nvPr/>
          </p:nvSpPr>
          <p:spPr>
            <a:xfrm rot="1290000">
              <a:off x="7562160" y="3090960"/>
              <a:ext cx="135720" cy="13860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22" name="Oval 255"/>
            <p:cNvSpPr/>
            <p:nvPr/>
          </p:nvSpPr>
          <p:spPr>
            <a:xfrm rot="1290000">
              <a:off x="7690320" y="3034080"/>
              <a:ext cx="135720" cy="13896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23" name="Oval 256"/>
            <p:cNvSpPr/>
            <p:nvPr/>
          </p:nvSpPr>
          <p:spPr>
            <a:xfrm rot="1290000">
              <a:off x="7747920" y="3164040"/>
              <a:ext cx="135720" cy="13860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24" name="Oval 257"/>
            <p:cNvSpPr/>
            <p:nvPr/>
          </p:nvSpPr>
          <p:spPr>
            <a:xfrm rot="1290000">
              <a:off x="7878600" y="3108240"/>
              <a:ext cx="135720" cy="13896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25" name="Oval 258"/>
            <p:cNvSpPr/>
            <p:nvPr/>
          </p:nvSpPr>
          <p:spPr>
            <a:xfrm rot="1290000">
              <a:off x="7934040" y="3235680"/>
              <a:ext cx="136080" cy="13860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26" name="Line 259"/>
            <p:cNvSpPr/>
            <p:nvPr/>
          </p:nvSpPr>
          <p:spPr>
            <a:xfrm>
              <a:off x="7579800" y="3051000"/>
              <a:ext cx="36360" cy="8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27" name="Line 260"/>
            <p:cNvSpPr/>
            <p:nvPr/>
          </p:nvSpPr>
          <p:spPr>
            <a:xfrm flipV="1">
              <a:off x="7650360" y="3112920"/>
              <a:ext cx="86760" cy="4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28" name="Line 261"/>
            <p:cNvSpPr/>
            <p:nvPr/>
          </p:nvSpPr>
          <p:spPr>
            <a:xfrm>
              <a:off x="7768440" y="3125160"/>
              <a:ext cx="39240" cy="9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29" name="Line 262"/>
            <p:cNvSpPr/>
            <p:nvPr/>
          </p:nvSpPr>
          <p:spPr>
            <a:xfrm flipV="1">
              <a:off x="7837200" y="3186720"/>
              <a:ext cx="87120" cy="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30" name="Line 263"/>
            <p:cNvSpPr/>
            <p:nvPr/>
          </p:nvSpPr>
          <p:spPr>
            <a:xfrm>
              <a:off x="7955640" y="3198960"/>
              <a:ext cx="36360" cy="8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sp>
        <p:nvSpPr>
          <p:cNvPr id="431" name="Rectangle 264"/>
          <p:cNvSpPr/>
          <p:nvPr/>
        </p:nvSpPr>
        <p:spPr>
          <a:xfrm>
            <a:off x="7315200" y="3809880"/>
            <a:ext cx="1600200" cy="160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432" name="Group 265"/>
          <p:cNvGrpSpPr/>
          <p:nvPr/>
        </p:nvGrpSpPr>
        <p:grpSpPr>
          <a:xfrm>
            <a:off x="7405560" y="4917240"/>
            <a:ext cx="505080" cy="452520"/>
            <a:chOff x="7405560" y="4917240"/>
            <a:chExt cx="505080" cy="452520"/>
          </a:xfrm>
        </p:grpSpPr>
        <p:sp>
          <p:nvSpPr>
            <p:cNvPr id="433" name="Oval 266"/>
            <p:cNvSpPr/>
            <p:nvPr/>
          </p:nvSpPr>
          <p:spPr>
            <a:xfrm rot="1682400">
              <a:off x="7431840" y="4943880"/>
              <a:ext cx="152280" cy="15120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34" name="Oval 267"/>
            <p:cNvSpPr/>
            <p:nvPr/>
          </p:nvSpPr>
          <p:spPr>
            <a:xfrm rot="1682400">
              <a:off x="7465320" y="5049360"/>
              <a:ext cx="152280" cy="15120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35" name="Oval 268"/>
            <p:cNvSpPr/>
            <p:nvPr/>
          </p:nvSpPr>
          <p:spPr>
            <a:xfrm rot="1682400">
              <a:off x="7568640" y="5018040"/>
              <a:ext cx="152280" cy="15156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36" name="Oval 269"/>
            <p:cNvSpPr/>
            <p:nvPr/>
          </p:nvSpPr>
          <p:spPr>
            <a:xfrm rot="1682400">
              <a:off x="7599240" y="5118840"/>
              <a:ext cx="152280" cy="15120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37" name="Oval 270"/>
            <p:cNvSpPr/>
            <p:nvPr/>
          </p:nvSpPr>
          <p:spPr>
            <a:xfrm rot="1682400">
              <a:off x="7700040" y="5088240"/>
              <a:ext cx="152640" cy="15156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38" name="Oval 271"/>
            <p:cNvSpPr/>
            <p:nvPr/>
          </p:nvSpPr>
          <p:spPr>
            <a:xfrm rot="1682400">
              <a:off x="7731720" y="5191200"/>
              <a:ext cx="152280" cy="15120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39" name="Line 272"/>
            <p:cNvSpPr/>
            <p:nvPr/>
          </p:nvSpPr>
          <p:spPr>
            <a:xfrm>
              <a:off x="7507800" y="5019840"/>
              <a:ext cx="3204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40" name="Line 273"/>
            <p:cNvSpPr/>
            <p:nvPr/>
          </p:nvSpPr>
          <p:spPr>
            <a:xfrm flipV="1">
              <a:off x="7539120" y="5092920"/>
              <a:ext cx="102960" cy="3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41" name="Line 274"/>
            <p:cNvSpPr/>
            <p:nvPr/>
          </p:nvSpPr>
          <p:spPr>
            <a:xfrm>
              <a:off x="7644600" y="5094000"/>
              <a:ext cx="31680" cy="1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42" name="Line 275"/>
            <p:cNvSpPr/>
            <p:nvPr/>
          </p:nvSpPr>
          <p:spPr>
            <a:xfrm flipV="1">
              <a:off x="7675200" y="5164920"/>
              <a:ext cx="102600" cy="3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43" name="Line 276"/>
            <p:cNvSpPr/>
            <p:nvPr/>
          </p:nvSpPr>
          <p:spPr>
            <a:xfrm>
              <a:off x="7776360" y="5164560"/>
              <a:ext cx="31680" cy="10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pSp>
        <p:nvGrpSpPr>
          <p:cNvPr id="444" name="Group 277"/>
          <p:cNvGrpSpPr/>
          <p:nvPr/>
        </p:nvGrpSpPr>
        <p:grpSpPr>
          <a:xfrm>
            <a:off x="8381880" y="5029200"/>
            <a:ext cx="533520" cy="228600"/>
            <a:chOff x="8381880" y="5029200"/>
            <a:chExt cx="533520" cy="228600"/>
          </a:xfrm>
        </p:grpSpPr>
        <p:sp>
          <p:nvSpPr>
            <p:cNvPr id="445" name="Oval 278"/>
            <p:cNvSpPr/>
            <p:nvPr/>
          </p:nvSpPr>
          <p:spPr>
            <a:xfrm>
              <a:off x="8381880" y="5029200"/>
              <a:ext cx="152640" cy="15264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46" name="Oval 279"/>
            <p:cNvSpPr/>
            <p:nvPr/>
          </p:nvSpPr>
          <p:spPr>
            <a:xfrm>
              <a:off x="8458200" y="5105520"/>
              <a:ext cx="152280" cy="15228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47" name="Oval 280"/>
            <p:cNvSpPr/>
            <p:nvPr/>
          </p:nvSpPr>
          <p:spPr>
            <a:xfrm>
              <a:off x="8534520" y="5029200"/>
              <a:ext cx="152280" cy="15264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48" name="Oval 281"/>
            <p:cNvSpPr/>
            <p:nvPr/>
          </p:nvSpPr>
          <p:spPr>
            <a:xfrm>
              <a:off x="8610480" y="5105520"/>
              <a:ext cx="152640" cy="15228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49" name="Oval 282"/>
            <p:cNvSpPr/>
            <p:nvPr/>
          </p:nvSpPr>
          <p:spPr>
            <a:xfrm>
              <a:off x="8686800" y="5029200"/>
              <a:ext cx="152280" cy="15264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50" name="Oval 283"/>
            <p:cNvSpPr/>
            <p:nvPr/>
          </p:nvSpPr>
          <p:spPr>
            <a:xfrm>
              <a:off x="8763120" y="5105520"/>
              <a:ext cx="152280" cy="15228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51" name="Line 284"/>
            <p:cNvSpPr/>
            <p:nvPr/>
          </p:nvSpPr>
          <p:spPr>
            <a:xfrm>
              <a:off x="8458200" y="5105520"/>
              <a:ext cx="7632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52" name="Line 285"/>
            <p:cNvSpPr/>
            <p:nvPr/>
          </p:nvSpPr>
          <p:spPr>
            <a:xfrm flipV="1">
              <a:off x="8534520" y="5105520"/>
              <a:ext cx="7596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53" name="Line 286"/>
            <p:cNvSpPr/>
            <p:nvPr/>
          </p:nvSpPr>
          <p:spPr>
            <a:xfrm>
              <a:off x="8610480" y="5105520"/>
              <a:ext cx="7632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54" name="Line 287"/>
            <p:cNvSpPr/>
            <p:nvPr/>
          </p:nvSpPr>
          <p:spPr>
            <a:xfrm flipV="1">
              <a:off x="8686800" y="5105520"/>
              <a:ext cx="7632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55" name="Line 288"/>
            <p:cNvSpPr/>
            <p:nvPr/>
          </p:nvSpPr>
          <p:spPr>
            <a:xfrm>
              <a:off x="8763120" y="5105520"/>
              <a:ext cx="7596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pSp>
        <p:nvGrpSpPr>
          <p:cNvPr id="456" name="Group 289"/>
          <p:cNvGrpSpPr/>
          <p:nvPr/>
        </p:nvGrpSpPr>
        <p:grpSpPr>
          <a:xfrm>
            <a:off x="8305920" y="4245480"/>
            <a:ext cx="457560" cy="518040"/>
            <a:chOff x="8305920" y="4245480"/>
            <a:chExt cx="457560" cy="518040"/>
          </a:xfrm>
        </p:grpSpPr>
        <p:sp>
          <p:nvSpPr>
            <p:cNvPr id="457" name="Oval 290"/>
            <p:cNvSpPr/>
            <p:nvPr/>
          </p:nvSpPr>
          <p:spPr>
            <a:xfrm rot="2413800">
              <a:off x="8336880" y="4276440"/>
              <a:ext cx="152640" cy="15264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58" name="Oval 291"/>
            <p:cNvSpPr/>
            <p:nvPr/>
          </p:nvSpPr>
          <p:spPr>
            <a:xfrm rot="2413800">
              <a:off x="8344800" y="4383360"/>
              <a:ext cx="153000" cy="15228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59" name="Oval 292"/>
            <p:cNvSpPr/>
            <p:nvPr/>
          </p:nvSpPr>
          <p:spPr>
            <a:xfrm rot="2413800">
              <a:off x="8454960" y="4376160"/>
              <a:ext cx="152640" cy="15264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60" name="Oval 293"/>
            <p:cNvSpPr/>
            <p:nvPr/>
          </p:nvSpPr>
          <p:spPr>
            <a:xfrm rot="2413800">
              <a:off x="8462880" y="4483080"/>
              <a:ext cx="152640" cy="15228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61" name="Oval 294"/>
            <p:cNvSpPr/>
            <p:nvPr/>
          </p:nvSpPr>
          <p:spPr>
            <a:xfrm rot="2413800">
              <a:off x="8571240" y="4474800"/>
              <a:ext cx="152640" cy="15264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62" name="Oval 295"/>
            <p:cNvSpPr/>
            <p:nvPr/>
          </p:nvSpPr>
          <p:spPr>
            <a:xfrm rot="2413800">
              <a:off x="8579520" y="4579560"/>
              <a:ext cx="152640" cy="15228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63" name="Line 296"/>
            <p:cNvSpPr/>
            <p:nvPr/>
          </p:nvSpPr>
          <p:spPr>
            <a:xfrm>
              <a:off x="8412120" y="4352040"/>
              <a:ext cx="9000" cy="10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64" name="Line 297"/>
            <p:cNvSpPr/>
            <p:nvPr/>
          </p:nvSpPr>
          <p:spPr>
            <a:xfrm flipV="1">
              <a:off x="8422920" y="4449600"/>
              <a:ext cx="107280" cy="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65" name="Line 298"/>
            <p:cNvSpPr/>
            <p:nvPr/>
          </p:nvSpPr>
          <p:spPr>
            <a:xfrm>
              <a:off x="8531280" y="4452840"/>
              <a:ext cx="9000" cy="10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66" name="Line 299"/>
            <p:cNvSpPr/>
            <p:nvPr/>
          </p:nvSpPr>
          <p:spPr>
            <a:xfrm flipV="1">
              <a:off x="8540280" y="4551480"/>
              <a:ext cx="107640" cy="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67" name="Line 300"/>
            <p:cNvSpPr/>
            <p:nvPr/>
          </p:nvSpPr>
          <p:spPr>
            <a:xfrm>
              <a:off x="8648280" y="4551840"/>
              <a:ext cx="8640" cy="10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pSp>
        <p:nvGrpSpPr>
          <p:cNvPr id="468" name="Group 313"/>
          <p:cNvGrpSpPr/>
          <p:nvPr/>
        </p:nvGrpSpPr>
        <p:grpSpPr>
          <a:xfrm>
            <a:off x="8145720" y="3787920"/>
            <a:ext cx="548280" cy="423720"/>
            <a:chOff x="8145720" y="3787920"/>
            <a:chExt cx="548280" cy="423720"/>
          </a:xfrm>
        </p:grpSpPr>
        <p:sp>
          <p:nvSpPr>
            <p:cNvPr id="469" name="Oval 314"/>
            <p:cNvSpPr/>
            <p:nvPr/>
          </p:nvSpPr>
          <p:spPr>
            <a:xfrm rot="19067400">
              <a:off x="8176680" y="4024080"/>
              <a:ext cx="152640" cy="15120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70" name="Oval 315"/>
            <p:cNvSpPr/>
            <p:nvPr/>
          </p:nvSpPr>
          <p:spPr>
            <a:xfrm rot="19067400">
              <a:off x="8283960" y="4028760"/>
              <a:ext cx="152280" cy="15120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71" name="Oval 316"/>
            <p:cNvSpPr/>
            <p:nvPr/>
          </p:nvSpPr>
          <p:spPr>
            <a:xfrm rot="19067400">
              <a:off x="8290440" y="3922200"/>
              <a:ext cx="152280" cy="15156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72" name="Oval 317"/>
            <p:cNvSpPr/>
            <p:nvPr/>
          </p:nvSpPr>
          <p:spPr>
            <a:xfrm rot="19067400">
              <a:off x="8395560" y="3924720"/>
              <a:ext cx="152640" cy="15156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73" name="Oval 318"/>
            <p:cNvSpPr/>
            <p:nvPr/>
          </p:nvSpPr>
          <p:spPr>
            <a:xfrm rot="19067400">
              <a:off x="8402760" y="3819240"/>
              <a:ext cx="152280" cy="15120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74" name="Oval 319"/>
            <p:cNvSpPr/>
            <p:nvPr/>
          </p:nvSpPr>
          <p:spPr>
            <a:xfrm rot="19067400">
              <a:off x="8510760" y="3825000"/>
              <a:ext cx="152280" cy="15120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75" name="Line 320"/>
            <p:cNvSpPr/>
            <p:nvPr/>
          </p:nvSpPr>
          <p:spPr>
            <a:xfrm>
              <a:off x="8251920" y="4098240"/>
              <a:ext cx="1072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76" name="Line 321"/>
            <p:cNvSpPr/>
            <p:nvPr/>
          </p:nvSpPr>
          <p:spPr>
            <a:xfrm flipV="1">
              <a:off x="8361360" y="3998520"/>
              <a:ext cx="5400" cy="10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77" name="Line 322"/>
            <p:cNvSpPr/>
            <p:nvPr/>
          </p:nvSpPr>
          <p:spPr>
            <a:xfrm>
              <a:off x="8366760" y="3998520"/>
              <a:ext cx="1072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78" name="Line 323"/>
            <p:cNvSpPr/>
            <p:nvPr/>
          </p:nvSpPr>
          <p:spPr>
            <a:xfrm flipV="1">
              <a:off x="8470800" y="3894840"/>
              <a:ext cx="5760" cy="10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79" name="Line 324"/>
            <p:cNvSpPr/>
            <p:nvPr/>
          </p:nvSpPr>
          <p:spPr>
            <a:xfrm>
              <a:off x="8479800" y="3895920"/>
              <a:ext cx="1072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pSp>
        <p:nvGrpSpPr>
          <p:cNvPr id="480" name="Group 325"/>
          <p:cNvGrpSpPr/>
          <p:nvPr/>
        </p:nvGrpSpPr>
        <p:grpSpPr>
          <a:xfrm>
            <a:off x="7391520" y="3886200"/>
            <a:ext cx="532800" cy="228600"/>
            <a:chOff x="7391520" y="3886200"/>
            <a:chExt cx="532800" cy="228600"/>
          </a:xfrm>
        </p:grpSpPr>
        <p:sp>
          <p:nvSpPr>
            <p:cNvPr id="481" name="Oval 326"/>
            <p:cNvSpPr/>
            <p:nvPr/>
          </p:nvSpPr>
          <p:spPr>
            <a:xfrm>
              <a:off x="7391520" y="3886200"/>
              <a:ext cx="152280" cy="15264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82" name="Oval 327"/>
            <p:cNvSpPr/>
            <p:nvPr/>
          </p:nvSpPr>
          <p:spPr>
            <a:xfrm>
              <a:off x="7467480" y="3962520"/>
              <a:ext cx="151920" cy="15228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83" name="Oval 328"/>
            <p:cNvSpPr/>
            <p:nvPr/>
          </p:nvSpPr>
          <p:spPr>
            <a:xfrm>
              <a:off x="7543800" y="3886200"/>
              <a:ext cx="151920" cy="15264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84" name="Oval 329"/>
            <p:cNvSpPr/>
            <p:nvPr/>
          </p:nvSpPr>
          <p:spPr>
            <a:xfrm>
              <a:off x="7619760" y="3962520"/>
              <a:ext cx="152280" cy="15228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85" name="Oval 330"/>
            <p:cNvSpPr/>
            <p:nvPr/>
          </p:nvSpPr>
          <p:spPr>
            <a:xfrm>
              <a:off x="7696080" y="3886200"/>
              <a:ext cx="151920" cy="15264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86" name="Oval 331"/>
            <p:cNvSpPr/>
            <p:nvPr/>
          </p:nvSpPr>
          <p:spPr>
            <a:xfrm>
              <a:off x="7772400" y="3962520"/>
              <a:ext cx="151920" cy="15228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87" name="Line 332"/>
            <p:cNvSpPr/>
            <p:nvPr/>
          </p:nvSpPr>
          <p:spPr>
            <a:xfrm>
              <a:off x="7467480" y="3962520"/>
              <a:ext cx="7596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88" name="Line 333"/>
            <p:cNvSpPr/>
            <p:nvPr/>
          </p:nvSpPr>
          <p:spPr>
            <a:xfrm flipV="1">
              <a:off x="7543800" y="3962520"/>
              <a:ext cx="7560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89" name="Line 334"/>
            <p:cNvSpPr/>
            <p:nvPr/>
          </p:nvSpPr>
          <p:spPr>
            <a:xfrm>
              <a:off x="7619760" y="3962520"/>
              <a:ext cx="7596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90" name="Line 335"/>
            <p:cNvSpPr/>
            <p:nvPr/>
          </p:nvSpPr>
          <p:spPr>
            <a:xfrm flipV="1">
              <a:off x="7696080" y="3962520"/>
              <a:ext cx="7596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91" name="Line 336"/>
            <p:cNvSpPr/>
            <p:nvPr/>
          </p:nvSpPr>
          <p:spPr>
            <a:xfrm>
              <a:off x="7772400" y="3962520"/>
              <a:ext cx="7560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pSp>
        <p:nvGrpSpPr>
          <p:cNvPr id="492" name="Group 337"/>
          <p:cNvGrpSpPr/>
          <p:nvPr/>
        </p:nvGrpSpPr>
        <p:grpSpPr>
          <a:xfrm>
            <a:off x="7372440" y="4254840"/>
            <a:ext cx="415800" cy="556560"/>
            <a:chOff x="7372440" y="4254840"/>
            <a:chExt cx="415800" cy="556560"/>
          </a:xfrm>
        </p:grpSpPr>
        <p:sp>
          <p:nvSpPr>
            <p:cNvPr id="493" name="Oval 338"/>
            <p:cNvSpPr/>
            <p:nvPr/>
          </p:nvSpPr>
          <p:spPr>
            <a:xfrm rot="3051600">
              <a:off x="7414920" y="4285440"/>
              <a:ext cx="151560" cy="15120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94" name="Oval 339"/>
            <p:cNvSpPr/>
            <p:nvPr/>
          </p:nvSpPr>
          <p:spPr>
            <a:xfrm rot="3051600">
              <a:off x="7403040" y="4393080"/>
              <a:ext cx="151560" cy="15120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95" name="Oval 340"/>
            <p:cNvSpPr/>
            <p:nvPr/>
          </p:nvSpPr>
          <p:spPr>
            <a:xfrm rot="3051600">
              <a:off x="7511760" y="4404600"/>
              <a:ext cx="151560" cy="15120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96" name="Oval 341"/>
            <p:cNvSpPr/>
            <p:nvPr/>
          </p:nvSpPr>
          <p:spPr>
            <a:xfrm rot="3051600">
              <a:off x="7499160" y="4509360"/>
              <a:ext cx="151560" cy="15084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97" name="Oval 342"/>
            <p:cNvSpPr/>
            <p:nvPr/>
          </p:nvSpPr>
          <p:spPr>
            <a:xfrm rot="3051600">
              <a:off x="7605720" y="4520160"/>
              <a:ext cx="151920" cy="15120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98" name="Oval 343"/>
            <p:cNvSpPr/>
            <p:nvPr/>
          </p:nvSpPr>
          <p:spPr>
            <a:xfrm rot="3051600">
              <a:off x="7597080" y="4629600"/>
              <a:ext cx="151560" cy="15084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99" name="Line 344"/>
            <p:cNvSpPr/>
            <p:nvPr/>
          </p:nvSpPr>
          <p:spPr>
            <a:xfrm flipH="1">
              <a:off x="7479360" y="4360320"/>
              <a:ext cx="10440" cy="1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500" name="Line 345"/>
            <p:cNvSpPr/>
            <p:nvPr/>
          </p:nvSpPr>
          <p:spPr>
            <a:xfrm>
              <a:off x="7480800" y="4465440"/>
              <a:ext cx="106560" cy="1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501" name="Line 346"/>
            <p:cNvSpPr/>
            <p:nvPr/>
          </p:nvSpPr>
          <p:spPr>
            <a:xfrm flipH="1">
              <a:off x="7577280" y="4480560"/>
              <a:ext cx="10440" cy="1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502" name="Line 347"/>
            <p:cNvSpPr/>
            <p:nvPr/>
          </p:nvSpPr>
          <p:spPr>
            <a:xfrm>
              <a:off x="7577280" y="4587120"/>
              <a:ext cx="1065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503" name="Line 348"/>
            <p:cNvSpPr/>
            <p:nvPr/>
          </p:nvSpPr>
          <p:spPr>
            <a:xfrm flipH="1">
              <a:off x="7671240" y="4596120"/>
              <a:ext cx="10800" cy="1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sp>
        <p:nvSpPr>
          <p:cNvPr id="504" name="Line 423"/>
          <p:cNvSpPr/>
          <p:nvPr/>
        </p:nvSpPr>
        <p:spPr>
          <a:xfrm flipV="1">
            <a:off x="6858000" y="2742840"/>
            <a:ext cx="3808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05" name="Line 424"/>
          <p:cNvSpPr/>
          <p:nvPr/>
        </p:nvSpPr>
        <p:spPr>
          <a:xfrm>
            <a:off x="6858000" y="4495680"/>
            <a:ext cx="3808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06" name="AutoShape 425"/>
          <p:cNvSpPr/>
          <p:nvPr/>
        </p:nvSpPr>
        <p:spPr>
          <a:xfrm>
            <a:off x="6924600" y="2867040"/>
            <a:ext cx="152640" cy="152280"/>
          </a:xfrm>
          <a:custGeom>
            <a:avLst/>
            <a:gdLst>
              <a:gd name="textAreaLeft" fmla="*/ 22320 w 152640"/>
              <a:gd name="textAreaRight" fmla="*/ 130320 w 152640"/>
              <a:gd name="textAreaTop" fmla="*/ 22320 h 152280"/>
              <a:gd name="textAreaBottom" fmla="*/ 12996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699" y="9117"/>
                  <a:pt x="2699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graphicFrame>
        <p:nvGraphicFramePr>
          <p:cNvPr id="507" name="Object 426"/>
          <p:cNvGraphicFramePr/>
          <p:nvPr/>
        </p:nvGraphicFramePr>
        <p:xfrm>
          <a:off x="1409760" y="3962520"/>
          <a:ext cx="179064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Object 4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9760" y="3962520"/>
                    <a:ext cx="179064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9" name="Object 427"/>
          <p:cNvGraphicFramePr/>
          <p:nvPr/>
        </p:nvGraphicFramePr>
        <p:xfrm>
          <a:off x="1460520" y="5029200"/>
          <a:ext cx="1359000" cy="39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0" name="Object 4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60520" y="5029200"/>
                    <a:ext cx="135900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1" name="Line 429"/>
          <p:cNvSpPr/>
          <p:nvPr/>
        </p:nvSpPr>
        <p:spPr>
          <a:xfrm>
            <a:off x="5334120" y="457200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graphicFrame>
        <p:nvGraphicFramePr>
          <p:cNvPr id="512" name="Object 428"/>
          <p:cNvGraphicFramePr/>
          <p:nvPr/>
        </p:nvGraphicFramePr>
        <p:xfrm>
          <a:off x="5943600" y="4535640"/>
          <a:ext cx="228600" cy="264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3" name="Object 4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4535640"/>
                    <a:ext cx="22860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4" name="Object 430"/>
          <p:cNvGraphicFramePr/>
          <p:nvPr/>
        </p:nvGraphicFramePr>
        <p:xfrm>
          <a:off x="1523880" y="5791320"/>
          <a:ext cx="1981440" cy="39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5" name="Object 43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5791320"/>
                    <a:ext cx="198144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6" name="Object 431"/>
          <p:cNvGraphicFramePr/>
          <p:nvPr/>
        </p:nvGraphicFramePr>
        <p:xfrm>
          <a:off x="4502160" y="6218280"/>
          <a:ext cx="2146320" cy="290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17" name="Object 43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02160" y="6218280"/>
                    <a:ext cx="214632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8" name="Line 432"/>
          <p:cNvSpPr/>
          <p:nvPr/>
        </p:nvSpPr>
        <p:spPr>
          <a:xfrm flipH="1">
            <a:off x="6172200" y="5943600"/>
            <a:ext cx="380880" cy="30492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19" name="Text Box 433"/>
          <p:cNvSpPr/>
          <p:nvPr/>
        </p:nvSpPr>
        <p:spPr>
          <a:xfrm>
            <a:off x="6553080" y="556272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Number of molecules (not atoms)</a:t>
            </a:r>
            <a:endParaRPr b="1" lang="en-US" sz="18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Rigid vs. Nonrigid Molecule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C and MD can be performed on molecules as already described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57280" indent="-2142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D moves advance atom positions based on current forc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C moves translate atoms and accepts based on energy chang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both are done considering inter- and intra-molecular forc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limiting distribution has same form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f this is all that is done, there is nothing more to sa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Often it is much more efficient to use a rigid-bond mod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57280" indent="-2142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D integration then doesn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 have to deal with fast intramolecular dynamics, so a larger time step can be used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C can sample configurations more efficiently using rigid-body moves (even if model does not have rigid bonds)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but much care is needed to do this properly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</p:txBody>
      </p:sp>
      <p:graphicFrame>
        <p:nvGraphicFramePr>
          <p:cNvPr id="522" name="Object 4"/>
          <p:cNvGraphicFramePr/>
          <p:nvPr/>
        </p:nvGraphicFramePr>
        <p:xfrm>
          <a:off x="2565360" y="3429000"/>
          <a:ext cx="345456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65360" y="3429000"/>
                    <a:ext cx="34545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Text Box 5"/>
          <p:cNvSpPr/>
          <p:nvPr/>
        </p:nvSpPr>
        <p:spPr>
          <a:xfrm>
            <a:off x="6248520" y="34434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N = Number of atoms</a:t>
            </a:r>
            <a:endParaRPr b="1" lang="en-US" sz="18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Molecule Coordinate Fram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olecule-frame coordinates are defined w.r.t. molecule COM with molecule in a reference orienta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imulation-frame coordinate is determined by molecule COM </a:t>
            </a:r>
            <a:r>
              <a:rPr b="1" lang="en-US" sz="2400" spc="-1" strike="noStrike">
                <a:solidFill>
                  <a:srgbClr val="618ffd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and orientation </a:t>
            </a:r>
            <a:r>
              <a:rPr b="1" lang="el-GR" sz="2400" spc="-1" strike="noStrike">
                <a:solidFill>
                  <a:srgbClr val="618ffd"/>
                </a:solidFill>
                <a:latin typeface="Symbol"/>
                <a:ea typeface="Symbol"/>
              </a:rPr>
              <a:t>ω</a:t>
            </a:r>
            <a:r>
              <a:rPr b="1" lang="en-US" sz="2400" spc="-1" strike="noStrike">
                <a:solidFill>
                  <a:srgbClr val="618ffd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or rigid molecules, the molecule-frame coordinates never chang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527" name="Oval 6"/>
          <p:cNvSpPr/>
          <p:nvPr/>
        </p:nvSpPr>
        <p:spPr>
          <a:xfrm>
            <a:off x="2438280" y="2133720"/>
            <a:ext cx="762120" cy="761760"/>
          </a:xfrm>
          <a:prstGeom prst="ellips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28" name="Oval 7"/>
          <p:cNvSpPr/>
          <p:nvPr/>
        </p:nvSpPr>
        <p:spPr>
          <a:xfrm>
            <a:off x="2819520" y="2514600"/>
            <a:ext cx="761760" cy="762120"/>
          </a:xfrm>
          <a:prstGeom prst="ellips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29" name="Oval 8"/>
          <p:cNvSpPr/>
          <p:nvPr/>
        </p:nvSpPr>
        <p:spPr>
          <a:xfrm>
            <a:off x="3200400" y="2133720"/>
            <a:ext cx="762120" cy="761760"/>
          </a:xfrm>
          <a:prstGeom prst="ellips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30" name="Oval 9"/>
          <p:cNvSpPr/>
          <p:nvPr/>
        </p:nvSpPr>
        <p:spPr>
          <a:xfrm>
            <a:off x="3581280" y="2514600"/>
            <a:ext cx="762120" cy="762120"/>
          </a:xfrm>
          <a:prstGeom prst="ellips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31" name="Oval 10"/>
          <p:cNvSpPr/>
          <p:nvPr/>
        </p:nvSpPr>
        <p:spPr>
          <a:xfrm>
            <a:off x="3962520" y="2133720"/>
            <a:ext cx="761760" cy="761760"/>
          </a:xfrm>
          <a:prstGeom prst="ellips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32" name="Oval 11"/>
          <p:cNvSpPr/>
          <p:nvPr/>
        </p:nvSpPr>
        <p:spPr>
          <a:xfrm>
            <a:off x="4343400" y="2514600"/>
            <a:ext cx="762120" cy="762120"/>
          </a:xfrm>
          <a:prstGeom prst="ellips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33" name="Oval 17"/>
          <p:cNvSpPr/>
          <p:nvPr/>
        </p:nvSpPr>
        <p:spPr>
          <a:xfrm>
            <a:off x="2790720" y="248616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34" name="Oval 18"/>
          <p:cNvSpPr/>
          <p:nvPr/>
        </p:nvSpPr>
        <p:spPr>
          <a:xfrm>
            <a:off x="3152880" y="284796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35" name="Oval 19"/>
          <p:cNvSpPr/>
          <p:nvPr/>
        </p:nvSpPr>
        <p:spPr>
          <a:xfrm>
            <a:off x="3538440" y="24811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36" name="Oval 20"/>
          <p:cNvSpPr/>
          <p:nvPr/>
        </p:nvSpPr>
        <p:spPr>
          <a:xfrm>
            <a:off x="3914640" y="284796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37" name="Oval 21"/>
          <p:cNvSpPr/>
          <p:nvPr/>
        </p:nvSpPr>
        <p:spPr>
          <a:xfrm>
            <a:off x="4305240" y="248616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38" name="Oval 22"/>
          <p:cNvSpPr/>
          <p:nvPr/>
        </p:nvSpPr>
        <p:spPr>
          <a:xfrm>
            <a:off x="4686480" y="286236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39" name="Line 24"/>
          <p:cNvSpPr/>
          <p:nvPr/>
        </p:nvSpPr>
        <p:spPr>
          <a:xfrm>
            <a:off x="3786120" y="2709720"/>
            <a:ext cx="884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40" name="Text Box 25"/>
          <p:cNvSpPr/>
          <p:nvPr/>
        </p:nvSpPr>
        <p:spPr>
          <a:xfrm>
            <a:off x="4419720" y="27432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541" name="Group 59"/>
          <p:cNvGrpSpPr/>
          <p:nvPr/>
        </p:nvGrpSpPr>
        <p:grpSpPr>
          <a:xfrm>
            <a:off x="3200400" y="4191120"/>
            <a:ext cx="2666880" cy="1143000"/>
            <a:chOff x="3200400" y="4191120"/>
            <a:chExt cx="2666880" cy="1143000"/>
          </a:xfrm>
        </p:grpSpPr>
        <p:sp>
          <p:nvSpPr>
            <p:cNvPr id="542" name="Oval 44"/>
            <p:cNvSpPr/>
            <p:nvPr/>
          </p:nvSpPr>
          <p:spPr>
            <a:xfrm>
              <a:off x="3200400" y="4191120"/>
              <a:ext cx="762120" cy="762120"/>
            </a:xfrm>
            <a:prstGeom prst="ellipse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543" name="Oval 45"/>
            <p:cNvSpPr/>
            <p:nvPr/>
          </p:nvSpPr>
          <p:spPr>
            <a:xfrm>
              <a:off x="3581280" y="4572000"/>
              <a:ext cx="762120" cy="762120"/>
            </a:xfrm>
            <a:prstGeom prst="ellipse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544" name="Oval 46"/>
            <p:cNvSpPr/>
            <p:nvPr/>
          </p:nvSpPr>
          <p:spPr>
            <a:xfrm>
              <a:off x="3962520" y="4191120"/>
              <a:ext cx="761760" cy="762120"/>
            </a:xfrm>
            <a:prstGeom prst="ellipse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545" name="Oval 47"/>
            <p:cNvSpPr/>
            <p:nvPr/>
          </p:nvSpPr>
          <p:spPr>
            <a:xfrm>
              <a:off x="4343400" y="4572000"/>
              <a:ext cx="762120" cy="762120"/>
            </a:xfrm>
            <a:prstGeom prst="ellipse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546" name="Oval 48"/>
            <p:cNvSpPr/>
            <p:nvPr/>
          </p:nvSpPr>
          <p:spPr>
            <a:xfrm>
              <a:off x="4724280" y="4191120"/>
              <a:ext cx="762120" cy="762120"/>
            </a:xfrm>
            <a:prstGeom prst="ellipse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547" name="Oval 49"/>
            <p:cNvSpPr/>
            <p:nvPr/>
          </p:nvSpPr>
          <p:spPr>
            <a:xfrm>
              <a:off x="5105520" y="4572000"/>
              <a:ext cx="761760" cy="762120"/>
            </a:xfrm>
            <a:prstGeom prst="ellipse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548" name="Oval 50"/>
            <p:cNvSpPr/>
            <p:nvPr/>
          </p:nvSpPr>
          <p:spPr>
            <a:xfrm>
              <a:off x="3552840" y="4543560"/>
              <a:ext cx="76320" cy="7632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549" name="Oval 51"/>
            <p:cNvSpPr/>
            <p:nvPr/>
          </p:nvSpPr>
          <p:spPr>
            <a:xfrm>
              <a:off x="3914640" y="4905360"/>
              <a:ext cx="76320" cy="7632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550" name="Oval 52"/>
            <p:cNvSpPr/>
            <p:nvPr/>
          </p:nvSpPr>
          <p:spPr>
            <a:xfrm>
              <a:off x="4300560" y="4538880"/>
              <a:ext cx="76320" cy="7596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551" name="Oval 53"/>
            <p:cNvSpPr/>
            <p:nvPr/>
          </p:nvSpPr>
          <p:spPr>
            <a:xfrm>
              <a:off x="4676760" y="4905360"/>
              <a:ext cx="76320" cy="7632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552" name="Oval 54"/>
            <p:cNvSpPr/>
            <p:nvPr/>
          </p:nvSpPr>
          <p:spPr>
            <a:xfrm>
              <a:off x="5067360" y="4543560"/>
              <a:ext cx="76320" cy="7632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553" name="Oval 55"/>
            <p:cNvSpPr/>
            <p:nvPr/>
          </p:nvSpPr>
          <p:spPr>
            <a:xfrm>
              <a:off x="5448240" y="4919760"/>
              <a:ext cx="76320" cy="7632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554" name="Text Box 56"/>
            <p:cNvSpPr/>
            <p:nvPr/>
          </p:nvSpPr>
          <p:spPr>
            <a:xfrm>
              <a:off x="4343400" y="4496040"/>
              <a:ext cx="457200" cy="4597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</a:rPr>
                <a:t>	</a:t>
              </a: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pSp>
        <p:nvGrpSpPr>
          <p:cNvPr id="555" name="Group 60"/>
          <p:cNvGrpSpPr/>
          <p:nvPr/>
        </p:nvGrpSpPr>
        <p:grpSpPr>
          <a:xfrm>
            <a:off x="3123000" y="3735360"/>
            <a:ext cx="2821680" cy="2052360"/>
            <a:chOff x="3123000" y="3735360"/>
            <a:chExt cx="2821680" cy="2052360"/>
          </a:xfrm>
        </p:grpSpPr>
        <p:sp>
          <p:nvSpPr>
            <p:cNvPr id="556" name="Oval 61"/>
            <p:cNvSpPr/>
            <p:nvPr/>
          </p:nvSpPr>
          <p:spPr>
            <a:xfrm rot="19401000">
              <a:off x="3274560" y="4797360"/>
              <a:ext cx="762120" cy="76068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557" name="Oval 62"/>
            <p:cNvSpPr/>
            <p:nvPr/>
          </p:nvSpPr>
          <p:spPr>
            <a:xfrm rot="19401000">
              <a:off x="3805200" y="4874760"/>
              <a:ext cx="762120" cy="76068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558" name="Oval 63"/>
            <p:cNvSpPr/>
            <p:nvPr/>
          </p:nvSpPr>
          <p:spPr>
            <a:xfrm rot="19401000">
              <a:off x="3886560" y="4343040"/>
              <a:ext cx="761760" cy="76104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559" name="Oval 64"/>
            <p:cNvSpPr/>
            <p:nvPr/>
          </p:nvSpPr>
          <p:spPr>
            <a:xfrm rot="19401000">
              <a:off x="4417560" y="4419000"/>
              <a:ext cx="762120" cy="76068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560" name="Oval 65"/>
            <p:cNvSpPr/>
            <p:nvPr/>
          </p:nvSpPr>
          <p:spPr>
            <a:xfrm rot="19401000">
              <a:off x="4497120" y="3887640"/>
              <a:ext cx="762120" cy="76068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561" name="Oval 66"/>
            <p:cNvSpPr/>
            <p:nvPr/>
          </p:nvSpPr>
          <p:spPr>
            <a:xfrm rot="19401000">
              <a:off x="5030640" y="3966120"/>
              <a:ext cx="761760" cy="76104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562" name="Oval 67"/>
            <p:cNvSpPr/>
            <p:nvPr/>
          </p:nvSpPr>
          <p:spPr>
            <a:xfrm rot="19401000">
              <a:off x="3631680" y="51422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563" name="Oval 68"/>
            <p:cNvSpPr/>
            <p:nvPr/>
          </p:nvSpPr>
          <p:spPr>
            <a:xfrm rot="19401000">
              <a:off x="4134600" y="5214960"/>
              <a:ext cx="7632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564" name="Oval 69"/>
            <p:cNvSpPr/>
            <p:nvPr/>
          </p:nvSpPr>
          <p:spPr>
            <a:xfrm rot="19401000">
              <a:off x="4226760" y="468972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565" name="Oval 70"/>
            <p:cNvSpPr/>
            <p:nvPr/>
          </p:nvSpPr>
          <p:spPr>
            <a:xfrm rot="19401000">
              <a:off x="4746960" y="4759200"/>
              <a:ext cx="7632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566" name="Oval 71"/>
            <p:cNvSpPr/>
            <p:nvPr/>
          </p:nvSpPr>
          <p:spPr>
            <a:xfrm rot="19401000">
              <a:off x="4844880" y="423576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567" name="Oval 72"/>
            <p:cNvSpPr/>
            <p:nvPr/>
          </p:nvSpPr>
          <p:spPr>
            <a:xfrm rot="19401000">
              <a:off x="5374800" y="430992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sp>
        <p:nvSpPr>
          <p:cNvPr id="568" name="Line 74"/>
          <p:cNvSpPr/>
          <p:nvPr/>
        </p:nvSpPr>
        <p:spPr>
          <a:xfrm flipV="1">
            <a:off x="1600200" y="4800240"/>
            <a:ext cx="289548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graphicFrame>
        <p:nvGraphicFramePr>
          <p:cNvPr id="569" name="Object 75"/>
          <p:cNvGraphicFramePr/>
          <p:nvPr/>
        </p:nvGraphicFramePr>
        <p:xfrm>
          <a:off x="2286000" y="5334120"/>
          <a:ext cx="279360" cy="29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0" name="Object 7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5334120"/>
                    <a:ext cx="27936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1" name="Line 76"/>
          <p:cNvSpPr/>
          <p:nvPr/>
        </p:nvSpPr>
        <p:spPr>
          <a:xfrm flipH="1" flipV="1">
            <a:off x="5410080" y="4419360"/>
            <a:ext cx="7632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72" name="Oval 77"/>
          <p:cNvSpPr/>
          <p:nvPr/>
        </p:nvSpPr>
        <p:spPr>
          <a:xfrm>
            <a:off x="1371600" y="54100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573" name="Group 80"/>
          <p:cNvGrpSpPr/>
          <p:nvPr/>
        </p:nvGrpSpPr>
        <p:grpSpPr>
          <a:xfrm>
            <a:off x="3765600" y="2077920"/>
            <a:ext cx="581040" cy="614160"/>
            <a:chOff x="3765600" y="2077920"/>
            <a:chExt cx="581040" cy="614160"/>
          </a:xfrm>
        </p:grpSpPr>
        <p:sp>
          <p:nvSpPr>
            <p:cNvPr id="574" name="Line 78"/>
            <p:cNvSpPr/>
            <p:nvPr/>
          </p:nvSpPr>
          <p:spPr>
            <a:xfrm flipV="1">
              <a:off x="3765600" y="2077920"/>
              <a:ext cx="0" cy="60984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575" name="Line 79"/>
            <p:cNvSpPr/>
            <p:nvPr/>
          </p:nvSpPr>
          <p:spPr>
            <a:xfrm flipV="1">
              <a:off x="3772080" y="2688840"/>
              <a:ext cx="574560" cy="324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pSp>
        <p:nvGrpSpPr>
          <p:cNvPr id="576" name="Group 81"/>
          <p:cNvGrpSpPr/>
          <p:nvPr/>
        </p:nvGrpSpPr>
        <p:grpSpPr>
          <a:xfrm>
            <a:off x="4213440" y="4228200"/>
            <a:ext cx="809640" cy="526320"/>
            <a:chOff x="4213440" y="4228200"/>
            <a:chExt cx="809640" cy="526320"/>
          </a:xfrm>
        </p:grpSpPr>
        <p:sp>
          <p:nvSpPr>
            <p:cNvPr id="577" name="Line 82"/>
            <p:cNvSpPr/>
            <p:nvPr/>
          </p:nvSpPr>
          <p:spPr>
            <a:xfrm flipH="1" flipV="1">
              <a:off x="4213440" y="4228200"/>
              <a:ext cx="307440" cy="52632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578" name="Line 83"/>
            <p:cNvSpPr/>
            <p:nvPr/>
          </p:nvSpPr>
          <p:spPr>
            <a:xfrm flipV="1">
              <a:off x="4531320" y="4463280"/>
              <a:ext cx="491760" cy="29088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56"/>
          <p:cNvSpPr/>
          <p:nvPr/>
        </p:nvSpPr>
        <p:spPr>
          <a:xfrm>
            <a:off x="3200400" y="4572000"/>
            <a:ext cx="990720" cy="4572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Orientation 1. 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Orientation described in terms of rotation of molecule fram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6960" indent="-2469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irection cosines can be used to describe rota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6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6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6960" indent="-2469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Relation between same point in two fram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6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6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6960" indent="-2469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Rotation matrix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6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6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46960" indent="-2469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Kinematics of rigid-molecule rotation described in terms of rotation of the molecule coordinate frame (</a:t>
            </a:r>
            <a:r>
              <a:rPr b="0" i="1" lang="en-US" sz="2400" spc="-1" strike="noStrike">
                <a:solidFill>
                  <a:srgbClr val="618ffd"/>
                </a:solidFill>
                <a:latin typeface="Times New Roman"/>
              </a:rPr>
              <a:t>i.e.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the direction cosines)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34960" indent="-2055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r' never changes in a rigid molecul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Group 21"/>
          <p:cNvGrpSpPr/>
          <p:nvPr/>
        </p:nvGrpSpPr>
        <p:grpSpPr>
          <a:xfrm>
            <a:off x="6389640" y="1374840"/>
            <a:ext cx="2601720" cy="1566720"/>
            <a:chOff x="6389640" y="1374840"/>
            <a:chExt cx="2601720" cy="1566720"/>
          </a:xfrm>
        </p:grpSpPr>
        <p:grpSp>
          <p:nvGrpSpPr>
            <p:cNvPr id="583" name="Group 13"/>
            <p:cNvGrpSpPr/>
            <p:nvPr/>
          </p:nvGrpSpPr>
          <p:grpSpPr>
            <a:xfrm>
              <a:off x="7449840" y="1374840"/>
              <a:ext cx="1541520" cy="1566720"/>
              <a:chOff x="7449840" y="1374840"/>
              <a:chExt cx="1541520" cy="1566720"/>
            </a:xfrm>
          </p:grpSpPr>
          <p:grpSp>
            <p:nvGrpSpPr>
              <p:cNvPr id="584" name="Group 7"/>
              <p:cNvGrpSpPr/>
              <p:nvPr/>
            </p:nvGrpSpPr>
            <p:grpSpPr>
              <a:xfrm>
                <a:off x="7532640" y="1622520"/>
                <a:ext cx="1218960" cy="1218960"/>
                <a:chOff x="7532640" y="1622520"/>
                <a:chExt cx="1218960" cy="1218960"/>
              </a:xfrm>
            </p:grpSpPr>
            <p:sp>
              <p:nvSpPr>
                <p:cNvPr id="585" name="Line 5"/>
                <p:cNvSpPr/>
                <p:nvPr/>
              </p:nvSpPr>
              <p:spPr>
                <a:xfrm flipV="1">
                  <a:off x="7532640" y="1622520"/>
                  <a:ext cx="0" cy="1218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Line 6"/>
                <p:cNvSpPr/>
                <p:nvPr/>
              </p:nvSpPr>
              <p:spPr>
                <a:xfrm>
                  <a:off x="7532640" y="2841480"/>
                  <a:ext cx="1218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587" name="Object 11"/>
              <p:cNvGraphicFramePr/>
              <p:nvPr/>
            </p:nvGraphicFramePr>
            <p:xfrm>
              <a:off x="8827920" y="2765520"/>
              <a:ext cx="163440" cy="1760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588" name="Object 11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8827920" y="2765520"/>
                        <a:ext cx="163440" cy="176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89" name="Object 12"/>
              <p:cNvGraphicFramePr/>
              <p:nvPr/>
            </p:nvGraphicFramePr>
            <p:xfrm>
              <a:off x="7449840" y="1374840"/>
              <a:ext cx="176400" cy="2142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90" name="Object 12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449840" y="1374840"/>
                        <a:ext cx="176400" cy="214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591" name="Group 15"/>
            <p:cNvGrpSpPr/>
            <p:nvPr/>
          </p:nvGrpSpPr>
          <p:grpSpPr>
            <a:xfrm>
              <a:off x="6607800" y="1916640"/>
              <a:ext cx="1719360" cy="924120"/>
              <a:chOff x="6607800" y="1916640"/>
              <a:chExt cx="1719360" cy="924120"/>
            </a:xfrm>
          </p:grpSpPr>
          <p:sp>
            <p:nvSpPr>
              <p:cNvPr id="592" name="Line 16"/>
              <p:cNvSpPr/>
              <p:nvPr/>
            </p:nvSpPr>
            <p:spPr>
              <a:xfrm flipH="1" flipV="1">
                <a:off x="6607800" y="2045520"/>
                <a:ext cx="924120" cy="795240"/>
              </a:xfrm>
              <a:prstGeom prst="line">
                <a:avLst/>
              </a:prstGeom>
              <a:ln w="2844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593" name="Line 17"/>
              <p:cNvSpPr/>
              <p:nvPr/>
            </p:nvSpPr>
            <p:spPr>
              <a:xfrm flipV="1">
                <a:off x="7531920" y="1916640"/>
                <a:ext cx="795240" cy="924120"/>
              </a:xfrm>
              <a:prstGeom prst="line">
                <a:avLst/>
              </a:prstGeom>
              <a:ln w="2844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594" name="Object 18"/>
            <p:cNvGraphicFramePr/>
            <p:nvPr/>
          </p:nvGraphicFramePr>
          <p:xfrm>
            <a:off x="8294400" y="1698480"/>
            <a:ext cx="201600" cy="239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95" name="Object 1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294400" y="1698480"/>
                      <a:ext cx="201600" cy="23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6" name="Object 19"/>
            <p:cNvGraphicFramePr/>
            <p:nvPr/>
          </p:nvGraphicFramePr>
          <p:xfrm>
            <a:off x="6389640" y="1851120"/>
            <a:ext cx="228600" cy="279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97" name="Object 1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389640" y="1851120"/>
                      <a:ext cx="22860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98" name="Object 22"/>
          <p:cNvGraphicFramePr/>
          <p:nvPr/>
        </p:nvGraphicFramePr>
        <p:xfrm>
          <a:off x="1504800" y="1868400"/>
          <a:ext cx="2324160" cy="722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99" name="Object 2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04800" y="1868400"/>
                    <a:ext cx="232416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Line 23"/>
          <p:cNvSpPr/>
          <p:nvPr/>
        </p:nvSpPr>
        <p:spPr>
          <a:xfrm>
            <a:off x="6618240" y="2057400"/>
            <a:ext cx="914400" cy="0"/>
          </a:xfrm>
          <a:prstGeom prst="line">
            <a:avLst/>
          </a:prstGeom>
          <a:ln w="12600">
            <a:solidFill>
              <a:srgbClr val="00ae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graphicFrame>
        <p:nvGraphicFramePr>
          <p:cNvPr id="601" name="Object 24"/>
          <p:cNvGraphicFramePr/>
          <p:nvPr/>
        </p:nvGraphicFramePr>
        <p:xfrm>
          <a:off x="6008760" y="2362320"/>
          <a:ext cx="279360" cy="290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02" name="Object 2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08760" y="2362320"/>
                    <a:ext cx="27936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3" name="AutoShape 25"/>
          <p:cNvSpPr/>
          <p:nvPr/>
        </p:nvSpPr>
        <p:spPr>
          <a:xfrm>
            <a:off x="6313320" y="2057400"/>
            <a:ext cx="228600" cy="838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graphicFrame>
        <p:nvGraphicFramePr>
          <p:cNvPr id="604" name="Object 26"/>
          <p:cNvGraphicFramePr/>
          <p:nvPr/>
        </p:nvGraphicFramePr>
        <p:xfrm>
          <a:off x="1523880" y="3200400"/>
          <a:ext cx="1968480" cy="671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05" name="Object 2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23880" y="3200400"/>
                    <a:ext cx="196848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6" name="Group 27"/>
          <p:cNvGrpSpPr/>
          <p:nvPr/>
        </p:nvGrpSpPr>
        <p:grpSpPr>
          <a:xfrm>
            <a:off x="5143680" y="3218040"/>
            <a:ext cx="2601720" cy="1566720"/>
            <a:chOff x="5143680" y="3218040"/>
            <a:chExt cx="2601720" cy="1566720"/>
          </a:xfrm>
        </p:grpSpPr>
        <p:grpSp>
          <p:nvGrpSpPr>
            <p:cNvPr id="607" name="Group 28"/>
            <p:cNvGrpSpPr/>
            <p:nvPr/>
          </p:nvGrpSpPr>
          <p:grpSpPr>
            <a:xfrm>
              <a:off x="6203880" y="3218040"/>
              <a:ext cx="1541520" cy="1566720"/>
              <a:chOff x="6203880" y="3218040"/>
              <a:chExt cx="1541520" cy="1566720"/>
            </a:xfrm>
          </p:grpSpPr>
          <p:grpSp>
            <p:nvGrpSpPr>
              <p:cNvPr id="608" name="Group 29"/>
              <p:cNvGrpSpPr/>
              <p:nvPr/>
            </p:nvGrpSpPr>
            <p:grpSpPr>
              <a:xfrm>
                <a:off x="6286680" y="3465720"/>
                <a:ext cx="1218960" cy="1218960"/>
                <a:chOff x="6286680" y="3465720"/>
                <a:chExt cx="1218960" cy="1218960"/>
              </a:xfrm>
            </p:grpSpPr>
            <p:sp>
              <p:nvSpPr>
                <p:cNvPr id="609" name="Line 30"/>
                <p:cNvSpPr/>
                <p:nvPr/>
              </p:nvSpPr>
              <p:spPr>
                <a:xfrm flipV="1">
                  <a:off x="6286680" y="3465720"/>
                  <a:ext cx="0" cy="1218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Line 31"/>
                <p:cNvSpPr/>
                <p:nvPr/>
              </p:nvSpPr>
              <p:spPr>
                <a:xfrm>
                  <a:off x="6286680" y="4684680"/>
                  <a:ext cx="1218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611" name="Object 32"/>
              <p:cNvGraphicFramePr/>
              <p:nvPr/>
            </p:nvGraphicFramePr>
            <p:xfrm>
              <a:off x="7581960" y="4608720"/>
              <a:ext cx="163440" cy="17604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612" name="Object 32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7581960" y="4608720"/>
                        <a:ext cx="163440" cy="176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13" name="Object 33"/>
              <p:cNvGraphicFramePr/>
              <p:nvPr/>
            </p:nvGraphicFramePr>
            <p:xfrm>
              <a:off x="6203880" y="3218040"/>
              <a:ext cx="176400" cy="21420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614" name="Object 33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6203880" y="3218040"/>
                        <a:ext cx="176400" cy="214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615" name="Group 34"/>
            <p:cNvGrpSpPr/>
            <p:nvPr/>
          </p:nvGrpSpPr>
          <p:grpSpPr>
            <a:xfrm>
              <a:off x="5361840" y="3759840"/>
              <a:ext cx="1719360" cy="924120"/>
              <a:chOff x="5361840" y="3759840"/>
              <a:chExt cx="1719360" cy="924120"/>
            </a:xfrm>
          </p:grpSpPr>
          <p:sp>
            <p:nvSpPr>
              <p:cNvPr id="616" name="Line 35"/>
              <p:cNvSpPr/>
              <p:nvPr/>
            </p:nvSpPr>
            <p:spPr>
              <a:xfrm flipH="1" flipV="1">
                <a:off x="5361840" y="3888720"/>
                <a:ext cx="924120" cy="795240"/>
              </a:xfrm>
              <a:prstGeom prst="line">
                <a:avLst/>
              </a:prstGeom>
              <a:ln w="2844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617" name="Line 36"/>
              <p:cNvSpPr/>
              <p:nvPr/>
            </p:nvSpPr>
            <p:spPr>
              <a:xfrm flipV="1">
                <a:off x="6285960" y="3759840"/>
                <a:ext cx="795240" cy="924120"/>
              </a:xfrm>
              <a:prstGeom prst="line">
                <a:avLst/>
              </a:prstGeom>
              <a:ln w="2844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618" name="Object 37"/>
            <p:cNvGraphicFramePr/>
            <p:nvPr/>
          </p:nvGraphicFramePr>
          <p:xfrm>
            <a:off x="7048440" y="3541680"/>
            <a:ext cx="201600" cy="2397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619" name="Object 37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048440" y="3541680"/>
                      <a:ext cx="201600" cy="23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0" name="Object 38"/>
            <p:cNvGraphicFramePr/>
            <p:nvPr/>
          </p:nvGraphicFramePr>
          <p:xfrm>
            <a:off x="5143680" y="3694320"/>
            <a:ext cx="228600" cy="2793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621" name="Object 38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5143680" y="3694320"/>
                      <a:ext cx="22860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22" name="Oval 39"/>
          <p:cNvSpPr/>
          <p:nvPr/>
        </p:nvSpPr>
        <p:spPr>
          <a:xfrm>
            <a:off x="6515280" y="3976560"/>
            <a:ext cx="75960" cy="7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23" name="Line 40"/>
          <p:cNvSpPr/>
          <p:nvPr/>
        </p:nvSpPr>
        <p:spPr>
          <a:xfrm>
            <a:off x="6591240" y="4052880"/>
            <a:ext cx="138240" cy="1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24" name="Line 42"/>
          <p:cNvSpPr/>
          <p:nvPr/>
        </p:nvSpPr>
        <p:spPr>
          <a:xfrm>
            <a:off x="6553080" y="4067280"/>
            <a:ext cx="0" cy="609480"/>
          </a:xfrm>
          <a:prstGeom prst="line">
            <a:avLst/>
          </a:prstGeom>
          <a:ln w="1908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25" name="Line 43"/>
          <p:cNvSpPr/>
          <p:nvPr/>
        </p:nvSpPr>
        <p:spPr>
          <a:xfrm flipH="1" flipV="1">
            <a:off x="6405480" y="4529160"/>
            <a:ext cx="285840" cy="271440"/>
          </a:xfrm>
          <a:prstGeom prst="line">
            <a:avLst/>
          </a:prstGeom>
          <a:ln w="1908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26" name="Line 44"/>
          <p:cNvSpPr/>
          <p:nvPr/>
        </p:nvSpPr>
        <p:spPr>
          <a:xfrm flipH="1">
            <a:off x="6276600" y="4014720"/>
            <a:ext cx="228600" cy="0"/>
          </a:xfrm>
          <a:prstGeom prst="line">
            <a:avLst/>
          </a:prstGeom>
          <a:ln w="1908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27" name="Line 45"/>
          <p:cNvSpPr/>
          <p:nvPr/>
        </p:nvSpPr>
        <p:spPr>
          <a:xfrm>
            <a:off x="6291360" y="4019400"/>
            <a:ext cx="976320" cy="976320"/>
          </a:xfrm>
          <a:prstGeom prst="line">
            <a:avLst/>
          </a:prstGeom>
          <a:ln w="1908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graphicFrame>
        <p:nvGraphicFramePr>
          <p:cNvPr id="628" name="Object 46"/>
          <p:cNvGraphicFramePr/>
          <p:nvPr/>
        </p:nvGraphicFramePr>
        <p:xfrm>
          <a:off x="6515280" y="4738680"/>
          <a:ext cx="353880" cy="290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29" name="Object 4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515280" y="4738680"/>
                    <a:ext cx="35388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0" name="Line 48"/>
          <p:cNvSpPr/>
          <p:nvPr/>
        </p:nvSpPr>
        <p:spPr>
          <a:xfrm>
            <a:off x="6296040" y="4691160"/>
            <a:ext cx="237960" cy="228600"/>
          </a:xfrm>
          <a:prstGeom prst="line">
            <a:avLst/>
          </a:prstGeom>
          <a:ln w="1908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31" name="Line 51"/>
          <p:cNvSpPr/>
          <p:nvPr/>
        </p:nvSpPr>
        <p:spPr>
          <a:xfrm>
            <a:off x="6272280" y="4700520"/>
            <a:ext cx="652320" cy="628560"/>
          </a:xfrm>
          <a:prstGeom prst="line">
            <a:avLst/>
          </a:prstGeom>
          <a:ln w="1908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graphicFrame>
        <p:nvGraphicFramePr>
          <p:cNvPr id="632" name="Object 52"/>
          <p:cNvGraphicFramePr/>
          <p:nvPr/>
        </p:nvGraphicFramePr>
        <p:xfrm>
          <a:off x="6972480" y="5043600"/>
          <a:ext cx="404640" cy="2905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33" name="Object 52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972480" y="5043600"/>
                    <a:ext cx="40464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4" name="Object 53"/>
          <p:cNvGraphicFramePr/>
          <p:nvPr/>
        </p:nvGraphicFramePr>
        <p:xfrm>
          <a:off x="7505640" y="4052880"/>
          <a:ext cx="1333440" cy="2905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35" name="Object 53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505640" y="4052880"/>
                    <a:ext cx="133344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6" name="Object 54"/>
          <p:cNvGraphicFramePr/>
          <p:nvPr/>
        </p:nvGraphicFramePr>
        <p:xfrm>
          <a:off x="1523880" y="4495680"/>
          <a:ext cx="1346400" cy="6717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637" name="Object 54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523880" y="4495680"/>
                    <a:ext cx="1346400" cy="6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8" name="Object 55"/>
          <p:cNvGraphicFramePr/>
          <p:nvPr/>
        </p:nvGraphicFramePr>
        <p:xfrm>
          <a:off x="3352680" y="4648320"/>
          <a:ext cx="698760" cy="2286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639" name="Object 55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352680" y="4648320"/>
                    <a:ext cx="69876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Orientation 2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We also need to invert the rela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27920" indent="-2800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get the simulation-frame coordinate from the molecule frame valu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irection cosines are not independen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27920" indent="-2800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n 2D, all can be described by just one parameter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use rotation angle </a:t>
            </a: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θ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nverse can be viewed as replacing </a:t>
            </a: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θ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with -</a:t>
            </a: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θ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2" name="Object 5"/>
          <p:cNvGraphicFramePr/>
          <p:nvPr/>
        </p:nvGraphicFramePr>
        <p:xfrm>
          <a:off x="1498680" y="2819520"/>
          <a:ext cx="1523880" cy="29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8680" y="2819520"/>
                    <a:ext cx="152388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44" name="Group 9"/>
          <p:cNvGrpSpPr/>
          <p:nvPr/>
        </p:nvGrpSpPr>
        <p:grpSpPr>
          <a:xfrm>
            <a:off x="6095880" y="3737160"/>
            <a:ext cx="2601720" cy="1566720"/>
            <a:chOff x="6095880" y="3737160"/>
            <a:chExt cx="2601720" cy="1566720"/>
          </a:xfrm>
        </p:grpSpPr>
        <p:grpSp>
          <p:nvGrpSpPr>
            <p:cNvPr id="645" name="Group 10"/>
            <p:cNvGrpSpPr/>
            <p:nvPr/>
          </p:nvGrpSpPr>
          <p:grpSpPr>
            <a:xfrm>
              <a:off x="7156080" y="3737160"/>
              <a:ext cx="1541520" cy="1566720"/>
              <a:chOff x="7156080" y="3737160"/>
              <a:chExt cx="1541520" cy="1566720"/>
            </a:xfrm>
          </p:grpSpPr>
          <p:grpSp>
            <p:nvGrpSpPr>
              <p:cNvPr id="646" name="Group 11"/>
              <p:cNvGrpSpPr/>
              <p:nvPr/>
            </p:nvGrpSpPr>
            <p:grpSpPr>
              <a:xfrm>
                <a:off x="7238880" y="3984840"/>
                <a:ext cx="1218960" cy="1218960"/>
                <a:chOff x="7238880" y="3984840"/>
                <a:chExt cx="1218960" cy="1218960"/>
              </a:xfrm>
            </p:grpSpPr>
            <p:sp>
              <p:nvSpPr>
                <p:cNvPr id="647" name="Line 12"/>
                <p:cNvSpPr/>
                <p:nvPr/>
              </p:nvSpPr>
              <p:spPr>
                <a:xfrm flipV="1">
                  <a:off x="7238880" y="3984840"/>
                  <a:ext cx="0" cy="1218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Line 13"/>
                <p:cNvSpPr/>
                <p:nvPr/>
              </p:nvSpPr>
              <p:spPr>
                <a:xfrm>
                  <a:off x="7238880" y="5203800"/>
                  <a:ext cx="1218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649" name="Object 14"/>
              <p:cNvGraphicFramePr/>
              <p:nvPr/>
            </p:nvGraphicFramePr>
            <p:xfrm>
              <a:off x="8534160" y="5127840"/>
              <a:ext cx="163440" cy="176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50" name="Object 14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8534160" y="5127840"/>
                        <a:ext cx="163440" cy="176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51" name="Object 15"/>
              <p:cNvGraphicFramePr/>
              <p:nvPr/>
            </p:nvGraphicFramePr>
            <p:xfrm>
              <a:off x="7156080" y="3737160"/>
              <a:ext cx="176400" cy="2142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652" name="Object 15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7156080" y="3737160"/>
                        <a:ext cx="176400" cy="214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653" name="Group 16"/>
            <p:cNvGrpSpPr/>
            <p:nvPr/>
          </p:nvGrpSpPr>
          <p:grpSpPr>
            <a:xfrm>
              <a:off x="6314040" y="4278960"/>
              <a:ext cx="1719360" cy="924120"/>
              <a:chOff x="6314040" y="4278960"/>
              <a:chExt cx="1719360" cy="924120"/>
            </a:xfrm>
          </p:grpSpPr>
          <p:sp>
            <p:nvSpPr>
              <p:cNvPr id="654" name="Line 17"/>
              <p:cNvSpPr/>
              <p:nvPr/>
            </p:nvSpPr>
            <p:spPr>
              <a:xfrm flipH="1" flipV="1">
                <a:off x="6314040" y="4407840"/>
                <a:ext cx="924120" cy="795240"/>
              </a:xfrm>
              <a:prstGeom prst="line">
                <a:avLst/>
              </a:prstGeom>
              <a:ln w="2844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655" name="Line 18"/>
              <p:cNvSpPr/>
              <p:nvPr/>
            </p:nvSpPr>
            <p:spPr>
              <a:xfrm flipV="1">
                <a:off x="7238160" y="4278960"/>
                <a:ext cx="795240" cy="924120"/>
              </a:xfrm>
              <a:prstGeom prst="line">
                <a:avLst/>
              </a:prstGeom>
              <a:ln w="2844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656" name="Object 19"/>
            <p:cNvGraphicFramePr/>
            <p:nvPr/>
          </p:nvGraphicFramePr>
          <p:xfrm>
            <a:off x="8000640" y="4060800"/>
            <a:ext cx="201600" cy="239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57" name="Object 1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000640" y="4060800"/>
                      <a:ext cx="201600" cy="23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58" name="Object 20"/>
            <p:cNvGraphicFramePr/>
            <p:nvPr/>
          </p:nvGraphicFramePr>
          <p:xfrm>
            <a:off x="6095880" y="4213440"/>
            <a:ext cx="228600" cy="279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59" name="Object 2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095880" y="4213440"/>
                      <a:ext cx="22860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60" name="Arc 21"/>
          <p:cNvSpPr/>
          <p:nvPr/>
        </p:nvSpPr>
        <p:spPr>
          <a:xfrm>
            <a:off x="7543800" y="4802040"/>
            <a:ext cx="304920" cy="401760"/>
          </a:xfrm>
          <a:custGeom>
            <a:avLst/>
            <a:gdLst/>
            <a:ahLst/>
            <a:rect l="l" t="t" r="r" b="b"/>
            <a:pathLst>
              <a:path fill="none" w="21600" h="23812">
                <a:moveTo>
                  <a:pt x="7047" y="-1"/>
                </a:moveTo>
                <a:cubicBezTo>
                  <a:pt x="15756" y="3005"/>
                  <a:pt x="21600" y="11204"/>
                  <a:pt x="21600" y="20418"/>
                </a:cubicBezTo>
                <a:cubicBezTo>
                  <a:pt x="21600" y="21554"/>
                  <a:pt x="21510" y="22689"/>
                  <a:pt x="21331" y="23811"/>
                </a:cubicBezTo>
              </a:path>
              <a:path stroke="0" w="21600" h="23812">
                <a:moveTo>
                  <a:pt x="7047" y="-1"/>
                </a:moveTo>
                <a:cubicBezTo>
                  <a:pt x="15756" y="3005"/>
                  <a:pt x="21600" y="11204"/>
                  <a:pt x="21600" y="20418"/>
                </a:cubicBezTo>
                <a:cubicBezTo>
                  <a:pt x="21600" y="21554"/>
                  <a:pt x="21510" y="22689"/>
                  <a:pt x="21331" y="23811"/>
                </a:cubicBezTo>
                <a:lnTo>
                  <a:pt x="0" y="20418"/>
                </a:lnTo>
                <a:lnTo>
                  <a:pt x="7047" y="-1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graphicFrame>
        <p:nvGraphicFramePr>
          <p:cNvPr id="661" name="Object 22"/>
          <p:cNvGraphicFramePr/>
          <p:nvPr/>
        </p:nvGraphicFramePr>
        <p:xfrm>
          <a:off x="7543800" y="4952880"/>
          <a:ext cx="163440" cy="228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62" name="Object 2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543800" y="4952880"/>
                    <a:ext cx="16344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3" name="Object 23"/>
          <p:cNvGraphicFramePr/>
          <p:nvPr/>
        </p:nvGraphicFramePr>
        <p:xfrm>
          <a:off x="1371600" y="4572000"/>
          <a:ext cx="1892160" cy="647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64" name="Object 2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371600" y="4572000"/>
                    <a:ext cx="18921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5" name="Object 24"/>
          <p:cNvGraphicFramePr/>
          <p:nvPr/>
        </p:nvGraphicFramePr>
        <p:xfrm>
          <a:off x="3619440" y="4572000"/>
          <a:ext cx="2095560" cy="647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66" name="Object 2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19440" y="4572000"/>
                    <a:ext cx="20955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Arc 40"/>
          <p:cNvSpPr/>
          <p:nvPr/>
        </p:nvSpPr>
        <p:spPr>
          <a:xfrm flipH="1" rot="19530600">
            <a:off x="2784960" y="5024520"/>
            <a:ext cx="915840" cy="741240"/>
          </a:xfrm>
          <a:custGeom>
            <a:avLst/>
            <a:gdLst/>
            <a:ahLst/>
            <a:rect l="l" t="t" r="r" b="b"/>
            <a:pathLst>
              <a:path fill="none" w="22246" h="43187">
                <a:moveTo>
                  <a:pt x="-1" y="9"/>
                </a:moveTo>
                <a:cubicBezTo>
                  <a:pt x="215" y="3"/>
                  <a:pt x="430" y="-1"/>
                  <a:pt x="646" y="-1"/>
                </a:cubicBezTo>
                <a:cubicBezTo>
                  <a:pt x="12575" y="0"/>
                  <a:pt x="22246" y="9670"/>
                  <a:pt x="22246" y="21600"/>
                </a:cubicBezTo>
                <a:cubicBezTo>
                  <a:pt x="22246" y="33242"/>
                  <a:pt x="13018" y="42790"/>
                  <a:pt x="1383" y="43187"/>
                </a:cubicBezTo>
              </a:path>
              <a:path stroke="0" w="22246" h="43187">
                <a:moveTo>
                  <a:pt x="-1" y="9"/>
                </a:moveTo>
                <a:cubicBezTo>
                  <a:pt x="215" y="3"/>
                  <a:pt x="430" y="-1"/>
                  <a:pt x="646" y="-1"/>
                </a:cubicBezTo>
                <a:cubicBezTo>
                  <a:pt x="12575" y="0"/>
                  <a:pt x="22246" y="9670"/>
                  <a:pt x="22246" y="21600"/>
                </a:cubicBezTo>
                <a:cubicBezTo>
                  <a:pt x="22246" y="33242"/>
                  <a:pt x="13018" y="42790"/>
                  <a:pt x="1383" y="43187"/>
                </a:cubicBezTo>
                <a:lnTo>
                  <a:pt x="646" y="21600"/>
                </a:lnTo>
                <a:lnTo>
                  <a:pt x="-1" y="9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Euler Angle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e picture in 3D is similar:  (x, y, z) </a:t>
            </a:r>
            <a:r>
              <a:rPr b="0" lang="en-US" sz="2400" spc="-1" strike="noStrike">
                <a:solidFill>
                  <a:srgbClr val="618ffd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(x', y', z')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Nine direction cosin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ree independent coordinates specify orienta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uler angles are the conventional choic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hree rotations give the simulation-frame orienta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</p:txBody>
      </p:sp>
      <p:graphicFrame>
        <p:nvGraphicFramePr>
          <p:cNvPr id="670" name="Object 4"/>
          <p:cNvGraphicFramePr/>
          <p:nvPr/>
        </p:nvGraphicFramePr>
        <p:xfrm>
          <a:off x="6121440" y="3011400"/>
          <a:ext cx="1117440" cy="34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1440" y="3011400"/>
                    <a:ext cx="11174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2" name="Oval 5"/>
          <p:cNvSpPr/>
          <p:nvPr/>
        </p:nvSpPr>
        <p:spPr>
          <a:xfrm>
            <a:off x="152280" y="4724280"/>
            <a:ext cx="1676520" cy="68580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graphicFrame>
        <p:nvGraphicFramePr>
          <p:cNvPr id="673" name="Object 9"/>
          <p:cNvGraphicFramePr/>
          <p:nvPr/>
        </p:nvGraphicFramePr>
        <p:xfrm>
          <a:off x="457200" y="5791320"/>
          <a:ext cx="163440" cy="17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791320"/>
                    <a:ext cx="163440" cy="17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5" name="Object 10"/>
          <p:cNvGraphicFramePr/>
          <p:nvPr/>
        </p:nvGraphicFramePr>
        <p:xfrm>
          <a:off x="2279520" y="4933800"/>
          <a:ext cx="176400" cy="2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6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79520" y="4933800"/>
                    <a:ext cx="176400" cy="2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7" name="Object 11"/>
          <p:cNvGraphicFramePr/>
          <p:nvPr/>
        </p:nvGraphicFramePr>
        <p:xfrm>
          <a:off x="996840" y="3746520"/>
          <a:ext cx="150840" cy="150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8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6840" y="3746520"/>
                    <a:ext cx="150840" cy="1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9" name="Arc 13"/>
          <p:cNvSpPr/>
          <p:nvPr/>
        </p:nvSpPr>
        <p:spPr>
          <a:xfrm flipV="1">
            <a:off x="609480" y="5257800"/>
            <a:ext cx="762120" cy="533520"/>
          </a:xfrm>
          <a:custGeom>
            <a:avLst/>
            <a:gdLst/>
            <a:ahLst/>
            <a:rect l="l" t="t" r="r" b="b"/>
            <a:pathLst>
              <a:path fill="none" w="12225" h="21600">
                <a:moveTo>
                  <a:pt x="0" y="-1"/>
                </a:moveTo>
                <a:cubicBezTo>
                  <a:pt x="4364" y="-1"/>
                  <a:pt x="8626" y="1322"/>
                  <a:pt x="12224" y="3792"/>
                </a:cubicBezTo>
              </a:path>
              <a:path stroke="0" w="12225" h="21600">
                <a:moveTo>
                  <a:pt x="0" y="-1"/>
                </a:moveTo>
                <a:cubicBezTo>
                  <a:pt x="4364" y="-1"/>
                  <a:pt x="8626" y="1322"/>
                  <a:pt x="12224" y="3792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80" name="Line 14"/>
          <p:cNvSpPr/>
          <p:nvPr/>
        </p:nvSpPr>
        <p:spPr>
          <a:xfrm>
            <a:off x="980280" y="5018400"/>
            <a:ext cx="402840" cy="69444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81" name="Line 15"/>
          <p:cNvSpPr/>
          <p:nvPr/>
        </p:nvSpPr>
        <p:spPr>
          <a:xfrm flipV="1">
            <a:off x="990720" y="4800240"/>
            <a:ext cx="990360" cy="22860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82" name="Line 6"/>
          <p:cNvSpPr/>
          <p:nvPr/>
        </p:nvSpPr>
        <p:spPr>
          <a:xfrm>
            <a:off x="990720" y="388620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83" name="Line 7"/>
          <p:cNvSpPr/>
          <p:nvPr/>
        </p:nvSpPr>
        <p:spPr>
          <a:xfrm flipH="1">
            <a:off x="533520" y="5029200"/>
            <a:ext cx="45720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84" name="Line 8"/>
          <p:cNvSpPr/>
          <p:nvPr/>
        </p:nvSpPr>
        <p:spPr>
          <a:xfrm>
            <a:off x="990720" y="50292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85" name="Arc 16"/>
          <p:cNvSpPr/>
          <p:nvPr/>
        </p:nvSpPr>
        <p:spPr>
          <a:xfrm>
            <a:off x="1828800" y="4826160"/>
            <a:ext cx="380880" cy="204480"/>
          </a:xfrm>
          <a:custGeom>
            <a:avLst/>
            <a:gdLst/>
            <a:ahLst/>
            <a:rect l="l" t="t" r="r" b="b"/>
            <a:pathLst>
              <a:path fill="none" w="21600" h="19384">
                <a:moveTo>
                  <a:pt x="9529" y="0"/>
                </a:moveTo>
                <a:cubicBezTo>
                  <a:pt x="16918" y="3632"/>
                  <a:pt x="21600" y="11150"/>
                  <a:pt x="21600" y="19384"/>
                </a:cubicBezTo>
              </a:path>
              <a:path stroke="0" w="21600" h="19384">
                <a:moveTo>
                  <a:pt x="9529" y="0"/>
                </a:moveTo>
                <a:cubicBezTo>
                  <a:pt x="16918" y="3632"/>
                  <a:pt x="21600" y="11150"/>
                  <a:pt x="21600" y="19384"/>
                </a:cubicBezTo>
                <a:lnTo>
                  <a:pt x="0" y="19384"/>
                </a:lnTo>
                <a:lnTo>
                  <a:pt x="9529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86" name="AutoShape 17"/>
          <p:cNvSpPr/>
          <p:nvPr/>
        </p:nvSpPr>
        <p:spPr>
          <a:xfrm>
            <a:off x="762120" y="3962520"/>
            <a:ext cx="457200" cy="304560"/>
          </a:xfrm>
          <a:custGeom>
            <a:avLst/>
            <a:gdLst>
              <a:gd name="textAreaLeft" fmla="*/ 61200 w 457200"/>
              <a:gd name="textAreaRight" fmla="*/ 396000 w 457200"/>
              <a:gd name="textAreaTop" fmla="*/ 53280 h 304560"/>
              <a:gd name="textAreaBottom" fmla="*/ 22104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87" name="Line 18"/>
          <p:cNvSpPr/>
          <p:nvPr/>
        </p:nvSpPr>
        <p:spPr>
          <a:xfrm>
            <a:off x="990720" y="3886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graphicFrame>
        <p:nvGraphicFramePr>
          <p:cNvPr id="688" name="Object 19"/>
          <p:cNvGraphicFramePr/>
          <p:nvPr/>
        </p:nvGraphicFramePr>
        <p:xfrm>
          <a:off x="1276200" y="4076640"/>
          <a:ext cx="201600" cy="341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89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76200" y="4076640"/>
                    <a:ext cx="20160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0" name="Oval 20"/>
          <p:cNvSpPr/>
          <p:nvPr/>
        </p:nvSpPr>
        <p:spPr>
          <a:xfrm>
            <a:off x="2743200" y="4800600"/>
            <a:ext cx="1676520" cy="68580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graphicFrame>
        <p:nvGraphicFramePr>
          <p:cNvPr id="691" name="Object 21"/>
          <p:cNvGraphicFramePr/>
          <p:nvPr/>
        </p:nvGraphicFramePr>
        <p:xfrm>
          <a:off x="4114800" y="5943600"/>
          <a:ext cx="163440" cy="264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92" name="Object 2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14800" y="5943600"/>
                    <a:ext cx="16344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Object 22"/>
          <p:cNvGraphicFramePr/>
          <p:nvPr/>
        </p:nvGraphicFramePr>
        <p:xfrm>
          <a:off x="4654440" y="4724280"/>
          <a:ext cx="163800" cy="214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94" name="Object 2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654440" y="4724280"/>
                    <a:ext cx="163800" cy="2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Object 23"/>
          <p:cNvGraphicFramePr/>
          <p:nvPr/>
        </p:nvGraphicFramePr>
        <p:xfrm>
          <a:off x="3657600" y="3733920"/>
          <a:ext cx="190440" cy="264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96" name="Object 2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57600" y="3733920"/>
                    <a:ext cx="19044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7" name="Arc 24"/>
          <p:cNvSpPr/>
          <p:nvPr/>
        </p:nvSpPr>
        <p:spPr>
          <a:xfrm flipH="1">
            <a:off x="2927520" y="3962520"/>
            <a:ext cx="652320" cy="1143000"/>
          </a:xfrm>
          <a:custGeom>
            <a:avLst/>
            <a:gdLst/>
            <a:ahLst/>
            <a:rect l="l" t="t" r="r" b="b"/>
            <a:pathLst>
              <a:path fill="none" w="13442" h="21600">
                <a:moveTo>
                  <a:pt x="0" y="-1"/>
                </a:moveTo>
                <a:cubicBezTo>
                  <a:pt x="4882" y="-1"/>
                  <a:pt x="9620" y="1653"/>
                  <a:pt x="13441" y="4692"/>
                </a:cubicBezTo>
              </a:path>
              <a:path stroke="0" w="13442" h="21600">
                <a:moveTo>
                  <a:pt x="0" y="-1"/>
                </a:moveTo>
                <a:cubicBezTo>
                  <a:pt x="4882" y="-1"/>
                  <a:pt x="9620" y="1653"/>
                  <a:pt x="13441" y="4692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98" name="Line 26"/>
          <p:cNvSpPr/>
          <p:nvPr/>
        </p:nvSpPr>
        <p:spPr>
          <a:xfrm flipV="1">
            <a:off x="3581280" y="4876560"/>
            <a:ext cx="99072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99" name="Line 32"/>
          <p:cNvSpPr/>
          <p:nvPr/>
        </p:nvSpPr>
        <p:spPr>
          <a:xfrm>
            <a:off x="3581280" y="39625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graphicFrame>
        <p:nvGraphicFramePr>
          <p:cNvPr id="700" name="Object 35"/>
          <p:cNvGraphicFramePr/>
          <p:nvPr/>
        </p:nvGraphicFramePr>
        <p:xfrm>
          <a:off x="1371600" y="5715000"/>
          <a:ext cx="163440" cy="264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01" name="Object 3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371600" y="5715000"/>
                    <a:ext cx="16344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2" name="Arc 39"/>
          <p:cNvSpPr/>
          <p:nvPr/>
        </p:nvSpPr>
        <p:spPr>
          <a:xfrm flipV="1" rot="19530600">
            <a:off x="3512880" y="4516560"/>
            <a:ext cx="915840" cy="741240"/>
          </a:xfrm>
          <a:custGeom>
            <a:avLst/>
            <a:gdLst/>
            <a:ahLst/>
            <a:rect l="l" t="t" r="r" b="b"/>
            <a:pathLst>
              <a:path fill="none" w="22246" h="43187">
                <a:moveTo>
                  <a:pt x="-1" y="9"/>
                </a:moveTo>
                <a:cubicBezTo>
                  <a:pt x="215" y="3"/>
                  <a:pt x="430" y="-1"/>
                  <a:pt x="646" y="-1"/>
                </a:cubicBezTo>
                <a:cubicBezTo>
                  <a:pt x="12575" y="0"/>
                  <a:pt x="22246" y="9670"/>
                  <a:pt x="22246" y="21600"/>
                </a:cubicBezTo>
                <a:cubicBezTo>
                  <a:pt x="22246" y="33242"/>
                  <a:pt x="13018" y="42790"/>
                  <a:pt x="1383" y="43187"/>
                </a:cubicBezTo>
              </a:path>
              <a:path stroke="0" w="22246" h="43187">
                <a:moveTo>
                  <a:pt x="-1" y="9"/>
                </a:moveTo>
                <a:cubicBezTo>
                  <a:pt x="215" y="3"/>
                  <a:pt x="430" y="-1"/>
                  <a:pt x="646" y="-1"/>
                </a:cubicBezTo>
                <a:cubicBezTo>
                  <a:pt x="12575" y="0"/>
                  <a:pt x="22246" y="9670"/>
                  <a:pt x="22246" y="21600"/>
                </a:cubicBezTo>
                <a:cubicBezTo>
                  <a:pt x="22246" y="33242"/>
                  <a:pt x="13018" y="42790"/>
                  <a:pt x="1383" y="43187"/>
                </a:cubicBezTo>
                <a:lnTo>
                  <a:pt x="646" y="21600"/>
                </a:lnTo>
                <a:lnTo>
                  <a:pt x="-1" y="9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03" name="Line 25"/>
          <p:cNvSpPr/>
          <p:nvPr/>
        </p:nvSpPr>
        <p:spPr>
          <a:xfrm>
            <a:off x="3591000" y="5088240"/>
            <a:ext cx="379440" cy="69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04" name="Line 27"/>
          <p:cNvSpPr/>
          <p:nvPr/>
        </p:nvSpPr>
        <p:spPr>
          <a:xfrm>
            <a:off x="3581280" y="396252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05" name="Line 36"/>
          <p:cNvSpPr/>
          <p:nvPr/>
        </p:nvSpPr>
        <p:spPr>
          <a:xfrm flipV="1">
            <a:off x="3567240" y="4571640"/>
            <a:ext cx="852480" cy="52380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06" name="Line 34"/>
          <p:cNvSpPr/>
          <p:nvPr/>
        </p:nvSpPr>
        <p:spPr>
          <a:xfrm flipH="1" flipV="1">
            <a:off x="2895120" y="4190760"/>
            <a:ext cx="700200" cy="90468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07" name="Arc 30"/>
          <p:cNvSpPr/>
          <p:nvPr/>
        </p:nvSpPr>
        <p:spPr>
          <a:xfrm>
            <a:off x="4191120" y="4572000"/>
            <a:ext cx="380880" cy="282600"/>
          </a:xfrm>
          <a:custGeom>
            <a:avLst/>
            <a:gdLst/>
            <a:ahLst/>
            <a:rect l="l" t="t" r="r" b="b"/>
            <a:pathLst>
              <a:path fill="none" w="21600" h="17645">
                <a:moveTo>
                  <a:pt x="12458" y="0"/>
                </a:moveTo>
                <a:cubicBezTo>
                  <a:pt x="18191" y="4047"/>
                  <a:pt x="21600" y="10627"/>
                  <a:pt x="21600" y="17645"/>
                </a:cubicBezTo>
              </a:path>
              <a:path stroke="0" w="21600" h="17645">
                <a:moveTo>
                  <a:pt x="12458" y="0"/>
                </a:moveTo>
                <a:cubicBezTo>
                  <a:pt x="18191" y="4047"/>
                  <a:pt x="21600" y="10627"/>
                  <a:pt x="21600" y="17645"/>
                </a:cubicBezTo>
                <a:lnTo>
                  <a:pt x="0" y="17645"/>
                </a:lnTo>
                <a:lnTo>
                  <a:pt x="12458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08" name="AutoShape 42"/>
          <p:cNvSpPr/>
          <p:nvPr/>
        </p:nvSpPr>
        <p:spPr>
          <a:xfrm rot="3026400">
            <a:off x="3733560" y="5562720"/>
            <a:ext cx="457200" cy="380880"/>
          </a:xfrm>
          <a:custGeom>
            <a:avLst/>
            <a:gdLst>
              <a:gd name="textAreaLeft" fmla="*/ 79920 w 457200"/>
              <a:gd name="textAreaRight" fmla="*/ 331560 w 4572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09" name="Line 44"/>
          <p:cNvSpPr/>
          <p:nvPr/>
        </p:nvSpPr>
        <p:spPr>
          <a:xfrm>
            <a:off x="3930120" y="5708880"/>
            <a:ext cx="161640" cy="26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graphicFrame>
        <p:nvGraphicFramePr>
          <p:cNvPr id="710" name="Object 45"/>
          <p:cNvGraphicFramePr/>
          <p:nvPr/>
        </p:nvGraphicFramePr>
        <p:xfrm>
          <a:off x="4172040" y="5478480"/>
          <a:ext cx="201600" cy="279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11" name="Object 4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172040" y="5478480"/>
                    <a:ext cx="2016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2" name="Object 48"/>
          <p:cNvGraphicFramePr/>
          <p:nvPr/>
        </p:nvGraphicFramePr>
        <p:xfrm>
          <a:off x="6303960" y="5708520"/>
          <a:ext cx="214200" cy="2793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713" name="Object 48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303960" y="5708520"/>
                    <a:ext cx="2142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4" name="Object 49"/>
          <p:cNvGraphicFramePr/>
          <p:nvPr/>
        </p:nvGraphicFramePr>
        <p:xfrm>
          <a:off x="6913440" y="4235400"/>
          <a:ext cx="214560" cy="2793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715" name="Object 49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913440" y="4235400"/>
                    <a:ext cx="21456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6" name="Oval 63"/>
          <p:cNvSpPr/>
          <p:nvPr/>
        </p:nvSpPr>
        <p:spPr>
          <a:xfrm rot="19518600">
            <a:off x="5014800" y="4714560"/>
            <a:ext cx="1752840" cy="76212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17" name="Line 57"/>
          <p:cNvSpPr/>
          <p:nvPr/>
        </p:nvSpPr>
        <p:spPr>
          <a:xfrm flipV="1">
            <a:off x="5850000" y="4456080"/>
            <a:ext cx="1014480" cy="619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18" name="Line 58"/>
          <p:cNvSpPr/>
          <p:nvPr/>
        </p:nvSpPr>
        <p:spPr>
          <a:xfrm flipH="1" flipV="1">
            <a:off x="5035320" y="3998880"/>
            <a:ext cx="842760" cy="1076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19" name="Line 64"/>
          <p:cNvSpPr/>
          <p:nvPr/>
        </p:nvSpPr>
        <p:spPr>
          <a:xfrm>
            <a:off x="5857920" y="5056560"/>
            <a:ext cx="426960" cy="60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graphicFrame>
        <p:nvGraphicFramePr>
          <p:cNvPr id="720" name="Object 65"/>
          <p:cNvGraphicFramePr/>
          <p:nvPr/>
        </p:nvGraphicFramePr>
        <p:xfrm>
          <a:off x="2666880" y="3962520"/>
          <a:ext cx="239760" cy="2793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721" name="Object 6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666880" y="3962520"/>
                    <a:ext cx="23976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2" name="Object 66"/>
          <p:cNvGraphicFramePr/>
          <p:nvPr/>
        </p:nvGraphicFramePr>
        <p:xfrm>
          <a:off x="4572000" y="4267080"/>
          <a:ext cx="214200" cy="2793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723" name="Object 6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572000" y="4267080"/>
                    <a:ext cx="2142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4" name="Line 67"/>
          <p:cNvSpPr/>
          <p:nvPr/>
        </p:nvSpPr>
        <p:spPr>
          <a:xfrm flipV="1">
            <a:off x="5857920" y="4343400"/>
            <a:ext cx="623880" cy="71928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25" name="Arc 68"/>
          <p:cNvSpPr/>
          <p:nvPr/>
        </p:nvSpPr>
        <p:spPr>
          <a:xfrm>
            <a:off x="6176880" y="4346640"/>
            <a:ext cx="577800" cy="209520"/>
          </a:xfrm>
          <a:custGeom>
            <a:avLst/>
            <a:gdLst/>
            <a:ahLst/>
            <a:rect l="l" t="t" r="r" b="b"/>
            <a:pathLst>
              <a:path fill="none" w="20437" h="18887">
                <a:moveTo>
                  <a:pt x="10480" y="0"/>
                </a:moveTo>
                <a:cubicBezTo>
                  <a:pt x="15158" y="2595"/>
                  <a:pt x="18705" y="6834"/>
                  <a:pt x="20437" y="11895"/>
                </a:cubicBezTo>
              </a:path>
              <a:path stroke="0" w="20437" h="18887">
                <a:moveTo>
                  <a:pt x="10480" y="0"/>
                </a:moveTo>
                <a:cubicBezTo>
                  <a:pt x="15158" y="2595"/>
                  <a:pt x="18705" y="6834"/>
                  <a:pt x="20437" y="11895"/>
                </a:cubicBezTo>
                <a:lnTo>
                  <a:pt x="0" y="18887"/>
                </a:lnTo>
                <a:lnTo>
                  <a:pt x="10480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26" name="Line 69"/>
          <p:cNvSpPr/>
          <p:nvPr/>
        </p:nvSpPr>
        <p:spPr>
          <a:xfrm>
            <a:off x="5857920" y="5062680"/>
            <a:ext cx="762120" cy="21888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27" name="AutoShape 72"/>
          <p:cNvSpPr/>
          <p:nvPr/>
        </p:nvSpPr>
        <p:spPr>
          <a:xfrm rot="19646400">
            <a:off x="5033520" y="3962520"/>
            <a:ext cx="457200" cy="457200"/>
          </a:xfrm>
          <a:custGeom>
            <a:avLst/>
            <a:gdLst>
              <a:gd name="textAreaLeft" fmla="*/ 61200 w 457200"/>
              <a:gd name="textAreaRight" fmla="*/ 396000 w 45720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28" name="Line 73"/>
          <p:cNvSpPr/>
          <p:nvPr/>
        </p:nvSpPr>
        <p:spPr>
          <a:xfrm>
            <a:off x="5035320" y="3993480"/>
            <a:ext cx="217800" cy="28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29" name="Arc 74"/>
          <p:cNvSpPr/>
          <p:nvPr/>
        </p:nvSpPr>
        <p:spPr>
          <a:xfrm rot="6297600">
            <a:off x="6120720" y="5174640"/>
            <a:ext cx="588960" cy="306360"/>
          </a:xfrm>
          <a:custGeom>
            <a:avLst/>
            <a:gdLst/>
            <a:ahLst/>
            <a:rect l="l" t="t" r="r" b="b"/>
            <a:pathLst>
              <a:path fill="none" w="19527" h="20352">
                <a:moveTo>
                  <a:pt x="7235" y="-1"/>
                </a:moveTo>
                <a:cubicBezTo>
                  <a:pt x="12648" y="1924"/>
                  <a:pt x="17071" y="5925"/>
                  <a:pt x="19527" y="11118"/>
                </a:cubicBezTo>
              </a:path>
              <a:path stroke="0" w="19527" h="20352">
                <a:moveTo>
                  <a:pt x="7235" y="-1"/>
                </a:moveTo>
                <a:cubicBezTo>
                  <a:pt x="12648" y="1924"/>
                  <a:pt x="17071" y="5925"/>
                  <a:pt x="19527" y="11118"/>
                </a:cubicBezTo>
                <a:lnTo>
                  <a:pt x="0" y="20352"/>
                </a:lnTo>
                <a:lnTo>
                  <a:pt x="7235" y="-1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graphicFrame>
        <p:nvGraphicFramePr>
          <p:cNvPr id="730" name="Object 75"/>
          <p:cNvGraphicFramePr/>
          <p:nvPr/>
        </p:nvGraphicFramePr>
        <p:xfrm>
          <a:off x="5522760" y="3936960"/>
          <a:ext cx="252720" cy="2793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731" name="Object 75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522760" y="3936960"/>
                    <a:ext cx="25272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2" name="Object 76"/>
          <p:cNvGraphicFramePr/>
          <p:nvPr/>
        </p:nvGraphicFramePr>
        <p:xfrm>
          <a:off x="4876920" y="3828960"/>
          <a:ext cx="201600" cy="2286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733" name="Object 76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876920" y="3828960"/>
                    <a:ext cx="2016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4" name="Object 77"/>
          <p:cNvGraphicFramePr/>
          <p:nvPr/>
        </p:nvGraphicFramePr>
        <p:xfrm>
          <a:off x="6558120" y="3962520"/>
          <a:ext cx="228600" cy="2793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735" name="Object 77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558120" y="3962520"/>
                    <a:ext cx="2286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6" name="Object 78"/>
          <p:cNvGraphicFramePr/>
          <p:nvPr/>
        </p:nvGraphicFramePr>
        <p:xfrm>
          <a:off x="6634080" y="5176800"/>
          <a:ext cx="201600" cy="2397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737" name="Object 78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634080" y="5176800"/>
                    <a:ext cx="201600" cy="2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8" name="Oval 81"/>
          <p:cNvSpPr/>
          <p:nvPr/>
        </p:nvSpPr>
        <p:spPr>
          <a:xfrm rot="19518600">
            <a:off x="7224840" y="4695480"/>
            <a:ext cx="1752480" cy="76212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39" name="Line 83"/>
          <p:cNvSpPr/>
          <p:nvPr/>
        </p:nvSpPr>
        <p:spPr>
          <a:xfrm flipH="1" flipV="1">
            <a:off x="7245360" y="3979800"/>
            <a:ext cx="843120" cy="1076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40" name="Line 85"/>
          <p:cNvSpPr/>
          <p:nvPr/>
        </p:nvSpPr>
        <p:spPr>
          <a:xfrm flipV="1">
            <a:off x="8067600" y="4324320"/>
            <a:ext cx="62388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41" name="Line 87"/>
          <p:cNvSpPr/>
          <p:nvPr/>
        </p:nvSpPr>
        <p:spPr>
          <a:xfrm>
            <a:off x="8067600" y="5043600"/>
            <a:ext cx="762120" cy="218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42" name="Line 89"/>
          <p:cNvSpPr/>
          <p:nvPr/>
        </p:nvSpPr>
        <p:spPr>
          <a:xfrm>
            <a:off x="7245360" y="3974400"/>
            <a:ext cx="217800" cy="28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graphicFrame>
        <p:nvGraphicFramePr>
          <p:cNvPr id="743" name="Object 92"/>
          <p:cNvGraphicFramePr/>
          <p:nvPr/>
        </p:nvGraphicFramePr>
        <p:xfrm>
          <a:off x="7086600" y="3809880"/>
          <a:ext cx="201600" cy="22860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744" name="Object 92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086600" y="3809880"/>
                    <a:ext cx="2016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5" name="Object 93"/>
          <p:cNvGraphicFramePr/>
          <p:nvPr/>
        </p:nvGraphicFramePr>
        <p:xfrm>
          <a:off x="8767800" y="3943440"/>
          <a:ext cx="228600" cy="27936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746" name="Object 93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8767800" y="3943440"/>
                    <a:ext cx="2286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7" name="Object 94"/>
          <p:cNvGraphicFramePr/>
          <p:nvPr/>
        </p:nvGraphicFramePr>
        <p:xfrm>
          <a:off x="8844120" y="5157720"/>
          <a:ext cx="201600" cy="23976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748" name="Object 94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8844120" y="5157720"/>
                    <a:ext cx="201600" cy="2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2T01:58:08Z</dcterms:created>
  <dc:creator>David A. Kofke</dc:creator>
  <dc:description/>
  <dc:language>en-US</dc:language>
  <cp:lastModifiedBy>David Kofke</cp:lastModifiedBy>
  <cp:lastPrinted>1999-09-22T22:06:24Z</cp:lastPrinted>
  <dcterms:modified xsi:type="dcterms:W3CDTF">2014-05-09T14:42:41Z</dcterms:modified>
  <cp:revision>119</cp:revision>
  <dc:subject/>
  <dc:title>CE 530 Molecular Simul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heme.buffalo.edu/courses/ce530</vt:lpwstr>
  </property>
  <property fmtid="{D5CDD505-2E9C-101B-9397-08002B2CF9AE}" pid="9" name="LinkColor">
    <vt:r8>16711782</vt:r8>
  </property>
  <property fmtid="{D5CDD505-2E9C-101B-9397-08002B2CF9AE}" pid="10" name="MailAddress">
    <vt:lpwstr>kofke@eng.buffalo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G:\Teaching\CE 530\Lectures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