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6A32-8F85-4664-9714-8C21743F1F0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Ergodicity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6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tistical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Averages 2. Temperat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to measure temperature in microcanonical ensemble (NVE) si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 instantaneous kinetic 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temperature is then given as ensemble aver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lies on equipartition as developed in canonical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better formulation has been developed recent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1752480" y="3352680"/>
          <a:ext cx="168912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1689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"/>
          <p:cNvGraphicFramePr/>
          <p:nvPr/>
        </p:nvGraphicFramePr>
        <p:xfrm>
          <a:off x="1676520" y="5018040"/>
          <a:ext cx="71100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018040"/>
                    <a:ext cx="711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6"/>
          <p:cNvSpPr/>
          <p:nvPr/>
        </p:nvSpPr>
        <p:spPr>
          <a:xfrm>
            <a:off x="3886200" y="3429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More generally, divide by number of molecular degrees of freedom instead of 3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Averages 3a. Press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om thermodynamics and bridge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olume appears in limits of integr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cale coordinates to move volume dependence into the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-derivative of U is related to for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219320" y="1257480"/>
          <a:ext cx="42415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57480"/>
                    <a:ext cx="42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2"/>
          <p:cNvGraphicFramePr/>
          <p:nvPr/>
        </p:nvGraphicFramePr>
        <p:xfrm>
          <a:off x="1365120" y="2827440"/>
          <a:ext cx="753264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5120" y="2827440"/>
                    <a:ext cx="75326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25"/>
          <p:cNvSpPr/>
          <p:nvPr/>
        </p:nvSpPr>
        <p:spPr>
          <a:xfrm>
            <a:off x="685800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V = L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26"/>
          <p:cNvGraphicFramePr/>
          <p:nvPr/>
        </p:nvGraphicFramePr>
        <p:xfrm>
          <a:off x="1600200" y="4952880"/>
          <a:ext cx="42926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952880"/>
                    <a:ext cx="4292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30"/>
          <p:cNvGrpSpPr/>
          <p:nvPr/>
        </p:nvGrpSpPr>
        <p:grpSpPr>
          <a:xfrm>
            <a:off x="6705720" y="3809880"/>
            <a:ext cx="2286000" cy="1676520"/>
            <a:chOff x="6705720" y="3809880"/>
            <a:chExt cx="2286000" cy="1676520"/>
          </a:xfrm>
        </p:grpSpPr>
        <p:grpSp>
          <p:nvGrpSpPr>
            <p:cNvPr id="179" name="Group 16"/>
            <p:cNvGrpSpPr/>
            <p:nvPr/>
          </p:nvGrpSpPr>
          <p:grpSpPr>
            <a:xfrm>
              <a:off x="6705720" y="4267080"/>
              <a:ext cx="1218960" cy="1219320"/>
              <a:chOff x="6705720" y="4267080"/>
              <a:chExt cx="1218960" cy="1219320"/>
            </a:xfrm>
          </p:grpSpPr>
          <p:sp>
            <p:nvSpPr>
              <p:cNvPr id="180" name="Rectangle 5"/>
              <p:cNvSpPr/>
              <p:nvPr/>
            </p:nvSpPr>
            <p:spPr>
              <a:xfrm>
                <a:off x="6705720" y="4267080"/>
                <a:ext cx="1218960" cy="1219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6"/>
              <p:cNvSpPr/>
              <p:nvPr/>
            </p:nvSpPr>
            <p:spPr>
              <a:xfrm>
                <a:off x="6934320" y="4495680"/>
                <a:ext cx="228600" cy="2286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7"/>
              <p:cNvSpPr/>
              <p:nvPr/>
            </p:nvSpPr>
            <p:spPr>
              <a:xfrm>
                <a:off x="7162920" y="4648320"/>
                <a:ext cx="228600" cy="2286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8"/>
              <p:cNvSpPr/>
              <p:nvPr/>
            </p:nvSpPr>
            <p:spPr>
              <a:xfrm>
                <a:off x="6934320" y="5029200"/>
                <a:ext cx="228600" cy="2286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Oval 9"/>
              <p:cNvSpPr/>
              <p:nvPr/>
            </p:nvSpPr>
            <p:spPr>
              <a:xfrm>
                <a:off x="7620120" y="4419720"/>
                <a:ext cx="228600" cy="2286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15"/>
            <p:cNvGrpSpPr/>
            <p:nvPr/>
          </p:nvGrpSpPr>
          <p:grpSpPr>
            <a:xfrm>
              <a:off x="8305920" y="4267080"/>
              <a:ext cx="685800" cy="685800"/>
              <a:chOff x="8305920" y="4267080"/>
              <a:chExt cx="685800" cy="685800"/>
            </a:xfrm>
          </p:grpSpPr>
          <p:sp>
            <p:nvSpPr>
              <p:cNvPr id="186" name="Rectangle 10"/>
              <p:cNvSpPr/>
              <p:nvPr/>
            </p:nvSpPr>
            <p:spPr>
              <a:xfrm>
                <a:off x="8305920" y="4267080"/>
                <a:ext cx="6858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8434440" y="4395600"/>
                <a:ext cx="128520" cy="128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8562960" y="4481280"/>
                <a:ext cx="128520" cy="128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8434440" y="4695480"/>
                <a:ext cx="128520" cy="128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4"/>
              <p:cNvSpPr/>
              <p:nvPr/>
            </p:nvSpPr>
            <p:spPr>
              <a:xfrm>
                <a:off x="8820360" y="4352760"/>
                <a:ext cx="128520" cy="1285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Line 17"/>
            <p:cNvSpPr/>
            <p:nvPr/>
          </p:nvSpPr>
          <p:spPr>
            <a:xfrm>
              <a:off x="6705720" y="40384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7162920" y="38098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8305920" y="4114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0"/>
            <p:cNvSpPr/>
            <p:nvPr/>
          </p:nvSpPr>
          <p:spPr>
            <a:xfrm>
              <a:off x="8470800" y="3897360"/>
              <a:ext cx="381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27"/>
            <p:cNvSpPr/>
            <p:nvPr/>
          </p:nvSpPr>
          <p:spPr>
            <a:xfrm>
              <a:off x="7970760" y="458136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Object 28"/>
          <p:cNvGraphicFramePr/>
          <p:nvPr/>
        </p:nvGraphicFramePr>
        <p:xfrm>
          <a:off x="1473120" y="3733920"/>
          <a:ext cx="326412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3120" y="3733920"/>
                    <a:ext cx="3264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9"/>
          <p:cNvGraphicFramePr/>
          <p:nvPr/>
        </p:nvGraphicFramePr>
        <p:xfrm>
          <a:off x="1758960" y="5975280"/>
          <a:ext cx="2692440" cy="80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8960" y="5975280"/>
                    <a:ext cx="26924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84326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Averages 3b.  Hard-Sphere Press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 is zero except at collis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me integration of virial over instant of collision is fini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tribution over instant of colli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ssure is sum over collisions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02" name="Object 1028"/>
          <p:cNvGraphicFramePr/>
          <p:nvPr/>
        </p:nvGraphicFramePr>
        <p:xfrm>
          <a:off x="2216160" y="3327480"/>
          <a:ext cx="246384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3327480"/>
                    <a:ext cx="246384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029"/>
          <p:cNvGraphicFramePr/>
          <p:nvPr/>
        </p:nvGraphicFramePr>
        <p:xfrm>
          <a:off x="1955880" y="5086440"/>
          <a:ext cx="335268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5086440"/>
                    <a:ext cx="3352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Averages 4. Heat Capacit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 of a “2nd derivative” proper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pressible in terms of fluctuations of the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2nd-derivative or “fluctuation”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othermal compressi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1029"/>
          <p:cNvGraphicFramePr/>
          <p:nvPr/>
        </p:nvGraphicFramePr>
        <p:xfrm>
          <a:off x="1752480" y="2514600"/>
          <a:ext cx="342900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14600"/>
                    <a:ext cx="342900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030"/>
          <p:cNvGraphicFramePr/>
          <p:nvPr/>
        </p:nvGraphicFramePr>
        <p:xfrm>
          <a:off x="2120760" y="4788000"/>
          <a:ext cx="224820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0760" y="4788000"/>
                    <a:ext cx="2248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031"/>
          <p:cNvGraphicFramePr/>
          <p:nvPr/>
        </p:nvGraphicFramePr>
        <p:xfrm>
          <a:off x="4572000" y="6019920"/>
          <a:ext cx="17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0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019920"/>
                    <a:ext cx="17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1032"/>
          <p:cNvSpPr/>
          <p:nvPr/>
        </p:nvSpPr>
        <p:spPr>
          <a:xfrm>
            <a:off x="4800600" y="4724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ae00"/>
                </a:solidFill>
                <a:uFillTx/>
                <a:latin typeface="Times New Roman"/>
              </a:rPr>
              <a:t>Note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:  difference between two O(N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 quantities to give a quantity of O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(Not) Simple Averages 5. Free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 energy given as partition-function integr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ossible to evalu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en numerically!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lick here for an applet demonstrating the difficul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 energy involves properties of </a:t>
            </a:r>
            <a:r>
              <a:rPr b="0" lang="en-US" sz="2400" spc="-1" strike="noStrike" u="sng">
                <a:solidFill>
                  <a:srgbClr val="618ffd"/>
                </a:solidFill>
                <a:uFillTx/>
                <a:latin typeface="Times New Roman"/>
              </a:rPr>
              <a:t>entir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value associated with a single member of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example, the size of (number of members in) the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trick is to settle for computing free-energy differen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turn to this topic later in cour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17" name="Object 2052"/>
          <p:cNvGraphicFramePr/>
          <p:nvPr/>
        </p:nvGraphicFramePr>
        <p:xfrm>
          <a:off x="1981080" y="2057400"/>
          <a:ext cx="262908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0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luctu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complete is the mean as a statistic of ensemble behavior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re there many members of the ensemble that have properties that deviate substantially from the mean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ook at the standard deviation σ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relates to the heat capac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ative to mean is the important meas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luctuations vanish in thermodynamic limit N</a:t>
            </a:r>
            <a:r>
              <a:rPr b="0" lang="en-US" sz="2400" spc="-1" strike="noStrike">
                <a:solidFill>
                  <a:srgbClr val="618ff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∞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ilar measures apply in other ensem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olume fluctuations in NPT; molecule-number fluctuations in μV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here for an applet illustrating fluc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221" name="Group 18"/>
          <p:cNvGrpSpPr/>
          <p:nvPr/>
        </p:nvGrpSpPr>
        <p:grpSpPr>
          <a:xfrm>
            <a:off x="6172200" y="1905120"/>
            <a:ext cx="2666880" cy="2732760"/>
            <a:chOff x="6172200" y="1905120"/>
            <a:chExt cx="2666880" cy="2732760"/>
          </a:xfrm>
        </p:grpSpPr>
        <p:sp>
          <p:nvSpPr>
            <p:cNvPr id="222" name="Line 4"/>
            <p:cNvSpPr/>
            <p:nvPr/>
          </p:nvSpPr>
          <p:spPr>
            <a:xfrm>
              <a:off x="6172200" y="40384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5"/>
            <p:cNvSpPr/>
            <p:nvPr/>
          </p:nvSpPr>
          <p:spPr>
            <a:xfrm>
              <a:off x="7315200" y="1905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8001000" y="39495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6400800" y="2349360"/>
              <a:ext cx="914400" cy="1689120"/>
            </a:xfrm>
            <a:custGeom>
              <a:avLst/>
              <a:gdLst/>
              <a:ahLst/>
              <a:rect l="l" t="t" r="r" b="b"/>
              <a:pathLst>
                <a:path w="576" h="1064">
                  <a:moveTo>
                    <a:pt x="0" y="1064"/>
                  </a:moveTo>
                  <a:cubicBezTo>
                    <a:pt x="84" y="1052"/>
                    <a:pt x="168" y="1040"/>
                    <a:pt x="240" y="968"/>
                  </a:cubicBezTo>
                  <a:cubicBezTo>
                    <a:pt x="312" y="896"/>
                    <a:pt x="384" y="776"/>
                    <a:pt x="432" y="632"/>
                  </a:cubicBezTo>
                  <a:cubicBezTo>
                    <a:pt x="480" y="488"/>
                    <a:pt x="504" y="208"/>
                    <a:pt x="528" y="104"/>
                  </a:cubicBezTo>
                  <a:cubicBezTo>
                    <a:pt x="552" y="0"/>
                    <a:pt x="564" y="4"/>
                    <a:pt x="576" y="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 flipH="1">
              <a:off x="7315200" y="2349360"/>
              <a:ext cx="914400" cy="1689120"/>
            </a:xfrm>
            <a:custGeom>
              <a:avLst/>
              <a:gdLst/>
              <a:ahLst/>
              <a:rect l="l" t="t" r="r" b="b"/>
              <a:pathLst>
                <a:path w="576" h="1064">
                  <a:moveTo>
                    <a:pt x="0" y="1064"/>
                  </a:moveTo>
                  <a:cubicBezTo>
                    <a:pt x="84" y="1052"/>
                    <a:pt x="168" y="1040"/>
                    <a:pt x="240" y="968"/>
                  </a:cubicBezTo>
                  <a:cubicBezTo>
                    <a:pt x="312" y="896"/>
                    <a:pt x="384" y="776"/>
                    <a:pt x="432" y="632"/>
                  </a:cubicBezTo>
                  <a:cubicBezTo>
                    <a:pt x="480" y="488"/>
                    <a:pt x="504" y="208"/>
                    <a:pt x="528" y="104"/>
                  </a:cubicBezTo>
                  <a:cubicBezTo>
                    <a:pt x="552" y="0"/>
                    <a:pt x="564" y="4"/>
                    <a:pt x="576" y="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0"/>
            <p:cNvSpPr/>
            <p:nvPr/>
          </p:nvSpPr>
          <p:spPr>
            <a:xfrm>
              <a:off x="7086600" y="34164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7086600" y="3416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2"/>
            <p:cNvSpPr/>
            <p:nvPr/>
          </p:nvSpPr>
          <p:spPr>
            <a:xfrm>
              <a:off x="6934320" y="4178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 flipV="1">
              <a:off x="7315200" y="4025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1" name="Object 14"/>
          <p:cNvGraphicFramePr/>
          <p:nvPr/>
        </p:nvGraphicFramePr>
        <p:xfrm>
          <a:off x="1905120" y="2438280"/>
          <a:ext cx="377172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37717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5"/>
          <p:cNvGraphicFramePr/>
          <p:nvPr/>
        </p:nvGraphicFramePr>
        <p:xfrm>
          <a:off x="1981080" y="3581280"/>
          <a:ext cx="175284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81280"/>
                    <a:ext cx="175284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6"/>
          <p:cNvGraphicFramePr/>
          <p:nvPr/>
        </p:nvGraphicFramePr>
        <p:xfrm>
          <a:off x="1905120" y="4267080"/>
          <a:ext cx="40129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267080"/>
                    <a:ext cx="4012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atistical Mechan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oretical basis for derivation of macroscopic behaviors from microscopic origi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fundamental postulates of equilibrium statistical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icrostates of equal energy are equally like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 average is equivalent to ensemble avera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alism extends postulates to more useful si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rmal, mechanical, and/or chemical equilibrium with reservoi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ystems at constant T, P, and/or 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ields new formulas for probabilities of microst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rivation invokes thermodynamic limit of very large syste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croscopic observables given as a weighted sum over microst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ynamic properties require additional formalis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nsemb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12193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ition of an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llection of microstates subject to at least one extensive constrai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icrostate” is specification of all atom positions and momenta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ixed total energy, total volume, and/or total number of molecul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constrained extensive quantities are represented by full range of possible valu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y distribution π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scribing the likelihood of observing each state, or the weight that each state has in ensemble avera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:  Some members of ensemble of fixed 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othermal-isobaric (TPN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ll energies and volumes represent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62120" y="52578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83808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7621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066680" y="54864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66680" y="5257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1523880" y="56386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17524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1905120" y="56386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1905120" y="51814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447920" y="5181480"/>
            <a:ext cx="76176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286000" y="51055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2362320" y="56386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2362320" y="51814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26668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2819520" y="56386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2895480" y="51055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3276720" y="51055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276720" y="548640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3352680" y="51814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3581280" y="56386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3809880" y="56386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3886200" y="51055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4267080" y="51055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1"/>
          <p:cNvSpPr/>
          <p:nvPr/>
        </p:nvSpPr>
        <p:spPr>
          <a:xfrm>
            <a:off x="4267080" y="54864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2"/>
          <p:cNvSpPr/>
          <p:nvPr/>
        </p:nvSpPr>
        <p:spPr>
          <a:xfrm>
            <a:off x="4343400" y="51814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3"/>
          <p:cNvSpPr/>
          <p:nvPr/>
        </p:nvSpPr>
        <p:spPr>
          <a:xfrm>
            <a:off x="46483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4"/>
          <p:cNvSpPr/>
          <p:nvPr/>
        </p:nvSpPr>
        <p:spPr>
          <a:xfrm>
            <a:off x="4800600" y="56386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5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6"/>
          <p:cNvSpPr/>
          <p:nvPr/>
        </p:nvSpPr>
        <p:spPr>
          <a:xfrm>
            <a:off x="6553080" y="4267080"/>
            <a:ext cx="2438640" cy="24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7"/>
          <p:cNvSpPr/>
          <p:nvPr/>
        </p:nvSpPr>
        <p:spPr>
          <a:xfrm>
            <a:off x="7010280" y="51055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6858000" y="48006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8381880" y="63244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7848720" y="55627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7924680" y="50292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5257800" y="4952880"/>
            <a:ext cx="121932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5410080" y="54864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5486400" y="51814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57913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5867280" y="56386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6172200" y="49528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228600" y="53341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228600" y="54864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2860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3808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380880" y="54864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3"/>
          <p:cNvSpPr/>
          <p:nvPr/>
        </p:nvSpPr>
        <p:spPr>
          <a:xfrm>
            <a:off x="380880" y="54100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4"/>
          <p:cNvSpPr/>
          <p:nvPr/>
        </p:nvSpPr>
        <p:spPr>
          <a:xfrm>
            <a:off x="152280" y="6172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ow-probabilit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5"/>
          <p:cNvSpPr/>
          <p:nvPr/>
        </p:nvSpPr>
        <p:spPr>
          <a:xfrm flipH="1" flipV="1">
            <a:off x="533160" y="586692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mmonly Encountered Ensemb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304920" y="1752480"/>
          <a:ext cx="8372520" cy="42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3725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5105520" y="5105520"/>
          <a:ext cx="144756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14475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artition Func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normalization constants of the probability distributions are physically significa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nown as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partition fun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ates to a corresponding free energy, or thermodynamic potential, via a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bridge equ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1028"/>
          <p:cNvGraphicFramePr/>
          <p:nvPr/>
        </p:nvGraphicFramePr>
        <p:xfrm>
          <a:off x="458640" y="3276720"/>
          <a:ext cx="8377560" cy="38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276720"/>
                    <a:ext cx="837756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nsemble and Time Averaging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figuration given by all positions and momenta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hase space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figuration variable A(r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p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nsemble aver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ighted sum over all members of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example, canonical ensemble, classical mechanics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me avera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m over all states encountered in dynamical trajectory of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2711520" y="3355920"/>
          <a:ext cx="125712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1520" y="3355920"/>
                    <a:ext cx="12571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5"/>
          <p:cNvGraphicFramePr/>
          <p:nvPr/>
        </p:nvGraphicFramePr>
        <p:xfrm>
          <a:off x="2235240" y="4078440"/>
          <a:ext cx="441972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5240" y="4078440"/>
                    <a:ext cx="44197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"/>
          <p:cNvGraphicFramePr/>
          <p:nvPr/>
        </p:nvGraphicFramePr>
        <p:xfrm>
          <a:off x="2895480" y="5638680"/>
          <a:ext cx="407700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638680"/>
                    <a:ext cx="40770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8"/>
          <p:cNvSpPr/>
          <p:nvPr/>
        </p:nvSpPr>
        <p:spPr>
          <a:xfrm rot="16200000">
            <a:off x="4697280" y="5763600"/>
            <a:ext cx="152280" cy="1121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9160 h 1121040"/>
              <a:gd name="textAreaBottom" fmla="*/ 109188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6415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iven by equations of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486400" y="16765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 shorthand for </a:t>
            </a:r>
            <a:r>
              <a:rPr b="0" lang="ja-JP" sz="14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positions of all N atoms</a:t>
            </a:r>
            <a:r>
              <a:rPr b="0" lang="ja-JP" sz="1400" spc="-1" strike="noStrike">
                <a:solidFill>
                  <a:srgbClr val="00ae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1"/>
          <p:cNvSpPr/>
          <p:nvPr/>
        </p:nvSpPr>
        <p:spPr>
          <a:xfrm flipV="1" rot="5400000">
            <a:off x="5970600" y="5229720"/>
            <a:ext cx="152280" cy="1120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9160 h 1120680"/>
              <a:gd name="textAreaBottom" fmla="*/ 1091520 h 112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2"/>
          <p:cNvSpPr/>
          <p:nvPr/>
        </p:nvSpPr>
        <p:spPr>
          <a:xfrm>
            <a:off x="6048360" y="5526000"/>
            <a:ext cx="961920" cy="189000"/>
          </a:xfrm>
          <a:custGeom>
            <a:avLst/>
            <a:gdLst/>
            <a:ahLst/>
            <a:rect l="l" t="t" r="r" b="b"/>
            <a:pathLst>
              <a:path w="606" h="119">
                <a:moveTo>
                  <a:pt x="1" y="119"/>
                </a:moveTo>
                <a:lnTo>
                  <a:pt x="0" y="0"/>
                </a:lnTo>
                <a:lnTo>
                  <a:pt x="60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7086600" y="5257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hould average over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"/>
          <p:cNvGraphicFramePr/>
          <p:nvPr/>
        </p:nvGraphicFramePr>
        <p:xfrm>
          <a:off x="3352680" y="1676520"/>
          <a:ext cx="12891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1676520"/>
                    <a:ext cx="1289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rgodicit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f a time average does not give complete representation of full ensemble, system is </a:t>
            </a:r>
            <a:r>
              <a:rPr b="0" lang="en-US" sz="2400" spc="-1" strike="noStrike" u="sng">
                <a:solidFill>
                  <a:srgbClr val="618ffd"/>
                </a:solidFill>
                <a:uFillTx/>
                <a:latin typeface="Times New Roman"/>
              </a:rPr>
              <a:t>non-ergod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uly nonergodic: no way there from he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actically nonergodic: very hard to find route from here to the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erm applies to any algorithm that purports to generate a representative set of configurations from the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Click her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for an applet describing ergodicity.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981080" y="3276720"/>
            <a:ext cx="2057400" cy="1523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048120" y="4572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133720" y="342900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2146320" y="3352680"/>
            <a:ext cx="1778040" cy="1435320"/>
          </a:xfrm>
          <a:custGeom>
            <a:avLst/>
            <a:gdLst/>
            <a:ahLst/>
            <a:rect l="l" t="t" r="r" b="b"/>
            <a:pathLst>
              <a:path w="1120" h="904">
                <a:moveTo>
                  <a:pt x="1048" y="192"/>
                </a:moveTo>
                <a:cubicBezTo>
                  <a:pt x="1032" y="172"/>
                  <a:pt x="1016" y="152"/>
                  <a:pt x="1000" y="192"/>
                </a:cubicBezTo>
                <a:cubicBezTo>
                  <a:pt x="984" y="232"/>
                  <a:pt x="992" y="400"/>
                  <a:pt x="952" y="432"/>
                </a:cubicBezTo>
                <a:cubicBezTo>
                  <a:pt x="912" y="464"/>
                  <a:pt x="816" y="400"/>
                  <a:pt x="760" y="384"/>
                </a:cubicBezTo>
                <a:cubicBezTo>
                  <a:pt x="704" y="368"/>
                  <a:pt x="640" y="320"/>
                  <a:pt x="616" y="336"/>
                </a:cubicBezTo>
                <a:cubicBezTo>
                  <a:pt x="592" y="352"/>
                  <a:pt x="640" y="408"/>
                  <a:pt x="616" y="480"/>
                </a:cubicBezTo>
                <a:cubicBezTo>
                  <a:pt x="592" y="552"/>
                  <a:pt x="528" y="752"/>
                  <a:pt x="472" y="768"/>
                </a:cubicBezTo>
                <a:cubicBezTo>
                  <a:pt x="416" y="784"/>
                  <a:pt x="352" y="576"/>
                  <a:pt x="280" y="576"/>
                </a:cubicBezTo>
                <a:cubicBezTo>
                  <a:pt x="208" y="576"/>
                  <a:pt x="0" y="720"/>
                  <a:pt x="40" y="768"/>
                </a:cubicBezTo>
                <a:cubicBezTo>
                  <a:pt x="80" y="816"/>
                  <a:pt x="360" y="904"/>
                  <a:pt x="520" y="864"/>
                </a:cubicBezTo>
                <a:cubicBezTo>
                  <a:pt x="680" y="824"/>
                  <a:pt x="904" y="648"/>
                  <a:pt x="1000" y="528"/>
                </a:cubicBezTo>
                <a:cubicBezTo>
                  <a:pt x="1096" y="408"/>
                  <a:pt x="1120" y="224"/>
                  <a:pt x="1096" y="144"/>
                </a:cubicBezTo>
                <a:cubicBezTo>
                  <a:pt x="1072" y="64"/>
                  <a:pt x="928" y="72"/>
                  <a:pt x="856" y="48"/>
                </a:cubicBezTo>
                <a:cubicBezTo>
                  <a:pt x="784" y="24"/>
                  <a:pt x="724" y="12"/>
                  <a:pt x="66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8"/>
          <p:cNvSpPr/>
          <p:nvPr/>
        </p:nvSpPr>
        <p:spPr>
          <a:xfrm>
            <a:off x="2133720" y="3429000"/>
            <a:ext cx="901440" cy="685800"/>
          </a:xfrm>
          <a:custGeom>
            <a:avLst/>
            <a:gdLst/>
            <a:ahLst/>
            <a:rect l="l" t="t" r="r" b="b"/>
            <a:pathLst>
              <a:path w="568" h="432">
                <a:moveTo>
                  <a:pt x="488" y="80"/>
                </a:moveTo>
                <a:cubicBezTo>
                  <a:pt x="488" y="76"/>
                  <a:pt x="488" y="72"/>
                  <a:pt x="440" y="80"/>
                </a:cubicBezTo>
                <a:cubicBezTo>
                  <a:pt x="392" y="88"/>
                  <a:pt x="248" y="136"/>
                  <a:pt x="200" y="128"/>
                </a:cubicBezTo>
                <a:cubicBezTo>
                  <a:pt x="152" y="120"/>
                  <a:pt x="176" y="48"/>
                  <a:pt x="152" y="32"/>
                </a:cubicBezTo>
                <a:cubicBezTo>
                  <a:pt x="128" y="16"/>
                  <a:pt x="80" y="0"/>
                  <a:pt x="56" y="32"/>
                </a:cubicBezTo>
                <a:cubicBezTo>
                  <a:pt x="32" y="64"/>
                  <a:pt x="0" y="176"/>
                  <a:pt x="8" y="224"/>
                </a:cubicBezTo>
                <a:cubicBezTo>
                  <a:pt x="16" y="272"/>
                  <a:pt x="80" y="328"/>
                  <a:pt x="104" y="320"/>
                </a:cubicBezTo>
                <a:cubicBezTo>
                  <a:pt x="128" y="312"/>
                  <a:pt x="144" y="160"/>
                  <a:pt x="152" y="176"/>
                </a:cubicBezTo>
                <a:cubicBezTo>
                  <a:pt x="160" y="192"/>
                  <a:pt x="128" y="400"/>
                  <a:pt x="152" y="416"/>
                </a:cubicBezTo>
                <a:cubicBezTo>
                  <a:pt x="176" y="432"/>
                  <a:pt x="264" y="312"/>
                  <a:pt x="296" y="272"/>
                </a:cubicBezTo>
                <a:cubicBezTo>
                  <a:pt x="328" y="232"/>
                  <a:pt x="304" y="176"/>
                  <a:pt x="344" y="176"/>
                </a:cubicBezTo>
                <a:cubicBezTo>
                  <a:pt x="384" y="176"/>
                  <a:pt x="504" y="240"/>
                  <a:pt x="536" y="272"/>
                </a:cubicBezTo>
                <a:cubicBezTo>
                  <a:pt x="568" y="304"/>
                  <a:pt x="560" y="360"/>
                  <a:pt x="536" y="368"/>
                </a:cubicBezTo>
                <a:cubicBezTo>
                  <a:pt x="512" y="376"/>
                  <a:pt x="452" y="348"/>
                  <a:pt x="392" y="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2895480" y="3505320"/>
            <a:ext cx="38124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32" y="60"/>
                  <a:pt x="64" y="16"/>
                  <a:pt x="96" y="8"/>
                </a:cubicBezTo>
                <a:cubicBezTo>
                  <a:pt x="128" y="0"/>
                  <a:pt x="160" y="28"/>
                  <a:pt x="192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2971800" y="3429000"/>
            <a:ext cx="228600" cy="228600"/>
          </a:xfrm>
          <a:prstGeom prst="flowChartSummingJunction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eparation of the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energy is sum of kinetic and potential par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(p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 = K(p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 + U(r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inetic energy is quadratic in moment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inetic contribution can be treated analytically in partition fun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d it drops out of position aver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1498680" y="3100320"/>
          <a:ext cx="20066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3100320"/>
                    <a:ext cx="20066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2362320" y="3962520"/>
          <a:ext cx="3886200" cy="15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62520"/>
                    <a:ext cx="388620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7"/>
          <p:cNvGraphicFramePr/>
          <p:nvPr/>
        </p:nvGraphicFramePr>
        <p:xfrm>
          <a:off x="2209680" y="6019920"/>
          <a:ext cx="304812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6019920"/>
                    <a:ext cx="30481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6934320" y="4800600"/>
          <a:ext cx="111744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800600"/>
                    <a:ext cx="1117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9"/>
          <p:cNvSpPr/>
          <p:nvPr/>
        </p:nvSpPr>
        <p:spPr>
          <a:xfrm>
            <a:off x="6324480" y="44956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hermal de Broglie 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581280" y="5257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configuration integ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3125880" y="4540320"/>
            <a:ext cx="1752480" cy="4572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 flipH="1" flipV="1">
            <a:off x="3428640" y="5333760"/>
            <a:ext cx="228600" cy="759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 flipH="1" flipV="1">
            <a:off x="3809880" y="5028840"/>
            <a:ext cx="7632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Averages 1.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verage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te thermodynamic conne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verage kinetic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verage potential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981080" y="5983200"/>
          <a:ext cx="308628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983200"/>
                    <a:ext cx="3086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1676520" y="1981080"/>
          <a:ext cx="443232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981080"/>
                    <a:ext cx="44323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1600200" y="2971800"/>
          <a:ext cx="325116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971800"/>
                    <a:ext cx="3251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9"/>
          <p:cNvSpPr/>
          <p:nvPr/>
        </p:nvSpPr>
        <p:spPr>
          <a:xfrm>
            <a:off x="762120" y="3657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definition of Q;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514600" y="3657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bridg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80988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Gibbs-Helmholtz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1981080" y="3352320"/>
            <a:ext cx="7632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2895480" y="3352320"/>
            <a:ext cx="7632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 flipH="1" flipV="1">
            <a:off x="4038480" y="3352320"/>
            <a:ext cx="15264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1905120" y="4572000"/>
          <a:ext cx="307332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4572000"/>
                    <a:ext cx="3073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16"/>
          <p:cNvSpPr/>
          <p:nvPr/>
        </p:nvSpPr>
        <p:spPr>
          <a:xfrm>
            <a:off x="3352680" y="510552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Equipartition of energy:  kT/2 for each degree of free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5T11:49:30Z</dcterms:created>
  <dc:creator>David A. Kofke</dc:creator>
  <dc:description/>
  <dc:language>en-US</dc:language>
  <cp:lastModifiedBy>David Kofke</cp:lastModifiedBy>
  <cp:lastPrinted>1999-09-22T22:06:24Z</cp:lastPrinted>
  <dcterms:modified xsi:type="dcterms:W3CDTF">2016-02-18T19:47:10Z</dcterms:modified>
  <cp:revision>96</cp:revision>
  <dc:subject/>
  <dc:title>Statistical Mechan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