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928-8885-41D4-BE3C-B9242A0C71F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8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rkov Process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eriving Transition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urn problem around..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n a desired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what transition probabilities will yield this as a limiting distribution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Construct transition probabilitie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to satisfy detailed bal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choices are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y them ou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2019240" y="4179960"/>
          <a:ext cx="209556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4179960"/>
                    <a:ext cx="20955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7"/>
          <p:cNvGraphicFramePr/>
          <p:nvPr/>
        </p:nvGraphicFramePr>
        <p:xfrm>
          <a:off x="6578640" y="5398920"/>
          <a:ext cx="2171520" cy="10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8640" y="5398920"/>
                    <a:ext cx="21715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"/>
          <p:cNvGraphicFramePr/>
          <p:nvPr/>
        </p:nvGraphicFramePr>
        <p:xfrm>
          <a:off x="4114800" y="5410080"/>
          <a:ext cx="2298600" cy="10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410080"/>
                    <a:ext cx="22986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9"/>
          <p:cNvGraphicFramePr/>
          <p:nvPr/>
        </p:nvGraphicFramePr>
        <p:xfrm>
          <a:off x="5467320" y="4038480"/>
          <a:ext cx="2298600" cy="10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67320" y="4038480"/>
                    <a:ext cx="22986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0"/>
          <p:cNvGraphicFramePr/>
          <p:nvPr/>
        </p:nvGraphicFramePr>
        <p:xfrm>
          <a:off x="2057400" y="5410080"/>
          <a:ext cx="1778040" cy="100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410080"/>
                    <a:ext cx="17780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1"/>
          <p:cNvSpPr/>
          <p:nvPr/>
        </p:nvSpPr>
        <p:spPr>
          <a:xfrm>
            <a:off x="7391520" y="6400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Metro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105520" y="6400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B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77240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Least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590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Most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etropolis Algorithm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scribes transition probabilities to satisfy detailed balance, given desired limiting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cipe: 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om a stat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ith probability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choose a trial stat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for the move (note: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accep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 the new st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therwise, accept stat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with probability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enerate a random number R on (0,1); accept if R &lt;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/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not accep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s the new state, take the present state as the next one in the Markov chain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876920" y="61722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Metropolis, Rosenbluth, Rosenbluth, Teller and Teller, J. Chem. Phys., </a:t>
            </a:r>
            <a:r>
              <a:rPr b="1" i="1" lang="en-US" sz="1400" spc="-1" strike="noStrike">
                <a:solidFill>
                  <a:srgbClr val="618ffd"/>
                </a:solidFill>
                <a:latin typeface="Times New Roman"/>
              </a:rPr>
              <a:t>21</a:t>
            </a: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 1087 (195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4065480" y="5398920"/>
          <a:ext cx="81144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5480" y="5398920"/>
                    <a:ext cx="8114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etropolis Algorithm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are the transition probabilities for this algorithm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ithout loss of generality, defin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 the state of greater proba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o they obey detailed balance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Yes, as long as th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underlying matrix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Τ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of the Markov chain is symme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can be violated, but acceptance probabilities must be modifi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8077320" y="1752480"/>
          <a:ext cx="71100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752480"/>
                    <a:ext cx="7110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3505320" y="2057400"/>
          <a:ext cx="3124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3124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1600200" y="3886200"/>
          <a:ext cx="140976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886200"/>
                    <a:ext cx="14097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9"/>
          <p:cNvGraphicFramePr/>
          <p:nvPr/>
        </p:nvGraphicFramePr>
        <p:xfrm>
          <a:off x="1530360" y="1714680"/>
          <a:ext cx="1346040" cy="163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30360" y="1714680"/>
                    <a:ext cx="134604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rkov Chains and Importance Sampling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ortance sampling specifies the desired limiting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can use a Markov chain to generate quadrature points according to this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Method 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: le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5715000" y="2895480"/>
            <a:ext cx="3048120" cy="27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Object 5"/>
          <p:cNvGraphicFramePr/>
          <p:nvPr/>
        </p:nvGraphicFramePr>
        <p:xfrm>
          <a:off x="914400" y="3886200"/>
          <a:ext cx="438156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886200"/>
                    <a:ext cx="43815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4038480" y="3200400"/>
          <a:ext cx="135900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3200400"/>
                    <a:ext cx="1359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7"/>
          <p:cNvGraphicFramePr/>
          <p:nvPr/>
        </p:nvGraphicFramePr>
        <p:xfrm>
          <a:off x="2838600" y="5284800"/>
          <a:ext cx="1866600" cy="29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38600" y="5284800"/>
                    <a:ext cx="18666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8"/>
          <p:cNvSpPr/>
          <p:nvPr/>
        </p:nvSpPr>
        <p:spPr>
          <a:xfrm>
            <a:off x="81532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9"/>
          <p:cNvSpPr/>
          <p:nvPr/>
        </p:nvSpPr>
        <p:spPr>
          <a:xfrm flipH="1">
            <a:off x="3962160" y="3657600"/>
            <a:ext cx="7596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733920" y="48006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q = normalization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13"/>
          <p:cNvCxnSpPr>
            <a:stCxn id="175" idx="2"/>
          </p:cNvCxnSpPr>
          <p:nvPr/>
        </p:nvCxnSpPr>
        <p:spPr>
          <a:xfrm flipH="1">
            <a:off x="4704480" y="5105520"/>
            <a:ext cx="210600" cy="32616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</p:cxnSp>
      <p:graphicFrame>
        <p:nvGraphicFramePr>
          <p:cNvPr id="177" name="Object 14"/>
          <p:cNvGraphicFramePr/>
          <p:nvPr/>
        </p:nvGraphicFramePr>
        <p:xfrm>
          <a:off x="1282680" y="5689440"/>
          <a:ext cx="4216320" cy="110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5689440"/>
                    <a:ext cx="42163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15"/>
          <p:cNvSpPr/>
          <p:nvPr/>
        </p:nvSpPr>
        <p:spPr>
          <a:xfrm>
            <a:off x="5715000" y="59436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Simply sum r</a:t>
            </a:r>
            <a:r>
              <a:rPr b="0" i="1" lang="en-US" sz="14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with points given by Metropolis 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16"/>
          <p:cNvCxnSpPr>
            <a:stCxn id="179" idx="1"/>
          </p:cNvCxnSpPr>
          <p:nvPr/>
        </p:nvCxnSpPr>
        <p:spPr>
          <a:xfrm flipH="1">
            <a:off x="5498640" y="6202440"/>
            <a:ext cx="216720" cy="4032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1224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rkov Chains and Importance Sampling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 (cont’d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Method 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: le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 and transition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n a point in the region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te a new point in the vicinity of given poi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x + r(-1,+1)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x   y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y + r(-1,+1)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cept with proba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thod 1: accept all moves that stay in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thod 2: if in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accept with probability 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3244680" y="1295280"/>
          <a:ext cx="16383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4680" y="1295280"/>
                    <a:ext cx="16383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5"/>
          <p:cNvGraphicFramePr/>
          <p:nvPr/>
        </p:nvGraphicFramePr>
        <p:xfrm>
          <a:off x="1974960" y="1682640"/>
          <a:ext cx="486396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4960" y="1682640"/>
                    <a:ext cx="48639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Picture 6" descr="G:\WWW Textbook\dakMCIntro1.gif"/>
          <p:cNvPicPr/>
          <p:nvPr/>
        </p:nvPicPr>
        <p:blipFill>
          <a:blip r:embed="rId5"/>
          <a:srcRect l="43412" t="9587" r="27649" b="45826"/>
          <a:stretch/>
        </p:blipFill>
        <p:spPr>
          <a:xfrm>
            <a:off x="6324480" y="2895480"/>
            <a:ext cx="213372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0"/>
          <p:cNvSpPr/>
          <p:nvPr/>
        </p:nvSpPr>
        <p:spPr>
          <a:xfrm>
            <a:off x="6781680" y="3657600"/>
            <a:ext cx="381240" cy="380880"/>
          </a:xfrm>
          <a:prstGeom prst="rect">
            <a:avLst/>
          </a:prstGeom>
          <a:solidFill>
            <a:srgbClr val="cecec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6934320" y="380988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724280" y="3505320"/>
            <a:ext cx="21337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5715000" y="4038480"/>
            <a:ext cx="1066680" cy="5335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4"/>
          <p:cNvGraphicFramePr/>
          <p:nvPr/>
        </p:nvGraphicFramePr>
        <p:xfrm>
          <a:off x="4114800" y="4800600"/>
          <a:ext cx="1689120" cy="34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4800600"/>
                    <a:ext cx="16891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5"/>
          <p:cNvGraphicFramePr/>
          <p:nvPr/>
        </p:nvGraphicFramePr>
        <p:xfrm>
          <a:off x="2438280" y="5181480"/>
          <a:ext cx="2146320" cy="69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181480"/>
                    <a:ext cx="21463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16"/>
          <p:cNvSpPr/>
          <p:nvPr/>
        </p:nvSpPr>
        <p:spPr>
          <a:xfrm>
            <a:off x="4800600" y="5562720"/>
            <a:ext cx="266688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rmalization constants cancel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7"/>
          <p:cNvGraphicFramePr/>
          <p:nvPr/>
        </p:nvGraphicFramePr>
        <p:xfrm>
          <a:off x="6095880" y="6248520"/>
          <a:ext cx="1130400" cy="4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6248520"/>
                    <a:ext cx="1130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Line 18"/>
          <p:cNvSpPr/>
          <p:nvPr/>
        </p:nvSpPr>
        <p:spPr>
          <a:xfrm flipH="1" flipV="1">
            <a:off x="4571640" y="56386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ubtle but important poi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derlying matri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set by the trial-move algorithm (select new point uniformly in vicinity of present point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t is important that new points are selected in a volume that is independent of the present pos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we reject configurations outsid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without taking the original point as the “new” one, then the underlying matrix becomes asymmetric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8376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rkov Chains and Importance Sampling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202" name="Picture 2053" descr="G:\WWW Textbook\dakMCIntro1.gif"/>
          <p:cNvPicPr/>
          <p:nvPr/>
        </p:nvPicPr>
        <p:blipFill>
          <a:blip r:embed="rId1"/>
          <a:srcRect l="43412" t="19937" r="38871" b="45826"/>
          <a:stretch/>
        </p:blipFill>
        <p:spPr>
          <a:xfrm>
            <a:off x="6324480" y="31240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56"/>
          <p:cNvSpPr/>
          <p:nvPr/>
        </p:nvSpPr>
        <p:spPr>
          <a:xfrm>
            <a:off x="7257960" y="4000680"/>
            <a:ext cx="533520" cy="666720"/>
          </a:xfrm>
          <a:prstGeom prst="rect">
            <a:avLst/>
          </a:prstGeom>
          <a:solidFill>
            <a:srgbClr val="618ff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59"/>
          <p:cNvSpPr/>
          <p:nvPr/>
        </p:nvSpPr>
        <p:spPr>
          <a:xfrm>
            <a:off x="5791320" y="3886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Different-sized trial sampling reg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61"/>
          <p:cNvSpPr/>
          <p:nvPr/>
        </p:nvSpPr>
        <p:spPr>
          <a:xfrm>
            <a:off x="6781680" y="441972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54"/>
          <p:cNvSpPr/>
          <p:nvPr/>
        </p:nvSpPr>
        <p:spPr>
          <a:xfrm>
            <a:off x="7257960" y="3733920"/>
            <a:ext cx="400320" cy="666720"/>
          </a:xfrm>
          <a:prstGeom prst="rect">
            <a:avLst/>
          </a:prstGeom>
          <a:solidFill>
            <a:srgbClr val="cecec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055"/>
          <p:cNvSpPr/>
          <p:nvPr/>
        </p:nvSpPr>
        <p:spPr>
          <a:xfrm>
            <a:off x="7257960" y="4000680"/>
            <a:ext cx="133560" cy="133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060"/>
          <p:cNvSpPr/>
          <p:nvPr/>
        </p:nvSpPr>
        <p:spPr>
          <a:xfrm flipV="1">
            <a:off x="7010280" y="3885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2057"/>
          <p:cNvSpPr/>
          <p:nvPr/>
        </p:nvSpPr>
        <p:spPr>
          <a:xfrm>
            <a:off x="7524720" y="4267080"/>
            <a:ext cx="133560" cy="133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valuating Areas with Metropolis Sampl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f we want the absolute area of the region R, not an average over it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need to know the normalization constant q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this is exactly the integral that we are trying to solve!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bsolute integrals difficult by M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ates to free-energy evalu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5562720" y="2666880"/>
            <a:ext cx="3047760" cy="27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Object 5"/>
          <p:cNvGraphicFramePr/>
          <p:nvPr/>
        </p:nvGraphicFramePr>
        <p:xfrm>
          <a:off x="1676520" y="2590920"/>
          <a:ext cx="297180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29718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2019240" y="3276720"/>
          <a:ext cx="1866960" cy="29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19240" y="3276720"/>
                    <a:ext cx="1866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2209680" y="3733920"/>
          <a:ext cx="217188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3733920"/>
                    <a:ext cx="2171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rkov process is a stochastic process with no memor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ull specification of process is given by a matrix of transition probabilities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distribution of states are generated by repeatedly stepping from one state to another according to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desired limiting distribution can be used to construct transition probabilities using detailed bal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ny different 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matrices can be constructed to satisfy detailed bal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tropolis algorithm is one such choice, widely used in MC simu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rkov Monte Carlo is good for evaluating averages, but not absolute integr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xt up:  Monte Carlo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nte Carlo Integration: 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ochastic evaluation of integr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m integrand evaluated at randomly generated poi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st appropriate for high-dimensional integr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27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rror vanishes more quickly (1/n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1/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27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etter suited for complex-shaped domains of integra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nte Carlo integration for ensemble avera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27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27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ortance Sampl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mphasizes sampling in domain where integrand is larges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t is easy to generate points according to a simple distribu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at mech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distributions are too complex for direct sampl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ed an approach to generate random multidimensional points according to a complex probability distribu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 integral is given b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7010280" y="1066680"/>
            <a:ext cx="198144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5"/>
          <p:cNvGraphicFramePr/>
          <p:nvPr/>
        </p:nvGraphicFramePr>
        <p:xfrm>
          <a:off x="2622600" y="3409920"/>
          <a:ext cx="271764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2600" y="3409920"/>
                    <a:ext cx="2717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7391520" y="3276720"/>
            <a:ext cx="148248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1"/>
          <p:cNvSpPr/>
          <p:nvPr/>
        </p:nvSpPr>
        <p:spPr>
          <a:xfrm>
            <a:off x="4572000" y="3352680"/>
            <a:ext cx="762120" cy="6098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5334120" y="4114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(r</a:t>
            </a:r>
            <a:r>
              <a:rPr b="0" i="1" lang="en-US" sz="1400" spc="-1" strike="noStrike" baseline="30000">
                <a:solidFill>
                  <a:srgbClr val="00ae00"/>
                </a:solidFill>
                <a:latin typeface="Times New Roman"/>
              </a:rPr>
              <a:t>N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3"/>
          <p:cNvSpPr/>
          <p:nvPr/>
        </p:nvSpPr>
        <p:spPr>
          <a:xfrm flipH="1" flipV="1">
            <a:off x="5029200" y="3962520"/>
            <a:ext cx="380880" cy="3045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4"/>
          <p:cNvGraphicFramePr/>
          <p:nvPr/>
        </p:nvGraphicFramePr>
        <p:xfrm>
          <a:off x="3765600" y="6288120"/>
          <a:ext cx="83808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65600" y="6288120"/>
                    <a:ext cx="838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rkov Process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ochastic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vement through a series of well-defined states in a way that involves some element of randomn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our purposes,“states” are microstates in the governing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rkov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ochastic process that has no memor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lection of next state depends only on current state, and not on prior 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cess is fully defined by a set of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 probabilities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probability of selecting state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next, given that presently in state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42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ransition-probability matrix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collects all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ition-Probability Matrix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ystem with three 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quirements of transition-probability matri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ll probabilities non-negative, and no greater than u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m of each row is u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y of staying in present state may be non-zero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1981080" y="2895480"/>
          <a:ext cx="379728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37972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5"/>
          <p:cNvSpPr/>
          <p:nvPr/>
        </p:nvSpPr>
        <p:spPr>
          <a:xfrm>
            <a:off x="5334120" y="2895480"/>
            <a:ext cx="336600" cy="2606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3600" y="2514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If in state 1, will move to state 3 with probability 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H="1">
            <a:off x="5651280" y="2819520"/>
            <a:ext cx="291960" cy="8244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343400" y="2895480"/>
            <a:ext cx="343080" cy="26676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4673520" y="2514600"/>
            <a:ext cx="432000" cy="3808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52880" y="19810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If in state 1, will stay in state 1 with probability 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5334120" y="3276720"/>
            <a:ext cx="323640" cy="2156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2"/>
          <p:cNvSpPr/>
          <p:nvPr/>
        </p:nvSpPr>
        <p:spPr>
          <a:xfrm flipH="1" flipV="1">
            <a:off x="5638680" y="3276360"/>
            <a:ext cx="609840" cy="1522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24852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Never go to state 3 from sta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tribution of State Occupanc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process of repeatedly moving from one state to the next, choosing each subsequent state according to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→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istogram the occupancy number for each s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= 0.33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42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.25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fter very many steps, a limiting distribution eme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here for an applet that demonstrates a Markov process and its approach to a limiting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2286000" y="3657600"/>
            <a:ext cx="380880" cy="99072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562720" y="3581280"/>
            <a:ext cx="1600200" cy="11430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562720" y="4343400"/>
            <a:ext cx="53316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095880" y="4191120"/>
            <a:ext cx="53352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629400" y="4495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7"/>
          <p:cNvSpPr/>
          <p:nvPr/>
        </p:nvSpPr>
        <p:spPr>
          <a:xfrm>
            <a:off x="533520" y="1600200"/>
            <a:ext cx="7772400" cy="2743200"/>
          </a:xfrm>
          <a:prstGeom prst="roundRect">
            <a:avLst>
              <a:gd name="adj" fmla="val 8278"/>
            </a:avLst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941640" y="2741760"/>
            <a:ext cx="2381400" cy="103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e product of Π with itself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general       is the n-step transition probability matri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ies of going from stat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n exactly n ste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454040" y="2806560"/>
            <a:ext cx="2279880" cy="9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 Limiting Distribu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825480" y="1676520"/>
          <a:ext cx="611028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676520"/>
                    <a:ext cx="611028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7"/>
          <p:cNvSpPr/>
          <p:nvPr/>
        </p:nvSpPr>
        <p:spPr>
          <a:xfrm>
            <a:off x="3962520" y="2743200"/>
            <a:ext cx="2361960" cy="31896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562720" y="19810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All ways of going from state 1 to state 2 in two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AutoShape 10"/>
          <p:cNvCxnSpPr>
            <a:stCxn id="83" idx="1"/>
            <a:endCxn id="82" idx="0"/>
          </p:cNvCxnSpPr>
          <p:nvPr/>
        </p:nvCxnSpPr>
        <p:spPr>
          <a:xfrm flipH="1">
            <a:off x="5143320" y="2239920"/>
            <a:ext cx="419760" cy="50400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85" name="Rectangle 11"/>
          <p:cNvSpPr/>
          <p:nvPr/>
        </p:nvSpPr>
        <p:spPr>
          <a:xfrm>
            <a:off x="3962520" y="3429000"/>
            <a:ext cx="2361960" cy="31896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715000" y="38098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Probability of going from state 3 to state 2 in two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3"/>
          <p:cNvCxnSpPr>
            <a:stCxn id="86" idx="1"/>
            <a:endCxn id="85" idx="2"/>
          </p:cNvCxnSpPr>
          <p:nvPr/>
        </p:nvCxnSpPr>
        <p:spPr>
          <a:xfrm flipH="1" flipV="1">
            <a:off x="5142960" y="3747240"/>
            <a:ext cx="572040" cy="3214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graphicFrame>
        <p:nvGraphicFramePr>
          <p:cNvPr id="88" name="Object 18"/>
          <p:cNvGraphicFramePr/>
          <p:nvPr/>
        </p:nvGraphicFramePr>
        <p:xfrm>
          <a:off x="2438280" y="4738680"/>
          <a:ext cx="38124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738680"/>
                    <a:ext cx="3812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23"/>
          <p:cNvGraphicFramePr/>
          <p:nvPr/>
        </p:nvGraphicFramePr>
        <p:xfrm>
          <a:off x="3143160" y="5524560"/>
          <a:ext cx="2387520" cy="12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5524560"/>
                    <a:ext cx="23875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25"/>
          <p:cNvGraphicFramePr/>
          <p:nvPr/>
        </p:nvGraphicFramePr>
        <p:xfrm>
          <a:off x="5715000" y="6008760"/>
          <a:ext cx="11430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6008760"/>
                    <a:ext cx="1143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 Limiting Distribu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        as a unit state ve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n                        is a vector of probabilities for ending at each state after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steps if beginning at stat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limiting distribution corresponds to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∞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dependent of initial stat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390680" y="2489040"/>
          <a:ext cx="5016600" cy="3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2489040"/>
                    <a:ext cx="501660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1854360" y="2922480"/>
          <a:ext cx="16509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360" y="2922480"/>
                    <a:ext cx="16509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1994040" y="1981080"/>
          <a:ext cx="52056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4040" y="1981080"/>
                    <a:ext cx="520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7"/>
          <p:cNvGraphicFramePr/>
          <p:nvPr/>
        </p:nvGraphicFramePr>
        <p:xfrm>
          <a:off x="1600200" y="3733920"/>
          <a:ext cx="631332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3733920"/>
                    <a:ext cx="6313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8"/>
          <p:cNvGraphicFramePr/>
          <p:nvPr/>
        </p:nvGraphicFramePr>
        <p:xfrm>
          <a:off x="4495680" y="5410080"/>
          <a:ext cx="2159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5410080"/>
                    <a:ext cx="2159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 Limiting Distribution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tionary property of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a left eigenvector of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with unit eigenvalu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ch an eigenvector is guaranteed to exist for matrices with rows that each sum to u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 for elements of limiting distribution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038320" y="1905120"/>
          <a:ext cx="226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905120"/>
                    <a:ext cx="226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"/>
          <p:cNvGraphicFramePr/>
          <p:nvPr/>
        </p:nvGraphicFramePr>
        <p:xfrm>
          <a:off x="2133720" y="5232240"/>
          <a:ext cx="12697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232240"/>
                    <a:ext cx="12697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7"/>
          <p:cNvGraphicFramePr/>
          <p:nvPr/>
        </p:nvGraphicFramePr>
        <p:xfrm>
          <a:off x="3746520" y="5194440"/>
          <a:ext cx="510552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6520" y="5194440"/>
                    <a:ext cx="510552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8"/>
          <p:cNvSpPr/>
          <p:nvPr/>
        </p:nvSpPr>
        <p:spPr>
          <a:xfrm>
            <a:off x="4648320" y="6477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6172200" y="609588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8"/>
          <p:cNvSpPr/>
          <p:nvPr/>
        </p:nvSpPr>
        <p:spPr>
          <a:xfrm>
            <a:off x="3886200" y="4419720"/>
            <a:ext cx="5029200" cy="1904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igenvector equation for limiting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sufficient (but not necessary) condition for solution 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tailed balance” or “microscopic reversibility”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u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523880" y="3276720"/>
            <a:ext cx="1371600" cy="33480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1473120" y="2438280"/>
          <a:ext cx="127008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438280"/>
                    <a:ext cx="12700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"/>
          <p:cNvGraphicFramePr/>
          <p:nvPr/>
        </p:nvGraphicFramePr>
        <p:xfrm>
          <a:off x="1600200" y="3276720"/>
          <a:ext cx="121932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276720"/>
                    <a:ext cx="121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1447920" y="4495680"/>
          <a:ext cx="1625400" cy="17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495680"/>
                    <a:ext cx="162540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7"/>
          <p:cNvGraphicFramePr/>
          <p:nvPr/>
        </p:nvGraphicFramePr>
        <p:xfrm>
          <a:off x="3962520" y="4572000"/>
          <a:ext cx="1714320" cy="97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4572000"/>
                    <a:ext cx="17143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14"/>
          <p:cNvSpPr/>
          <p:nvPr/>
        </p:nvSpPr>
        <p:spPr>
          <a:xfrm>
            <a:off x="5943600" y="449568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 given Π, it is not always possible to satisfy detailed balance; e.g. for th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6019920" y="5348160"/>
          <a:ext cx="134604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5348160"/>
                    <a:ext cx="1346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16"/>
          <p:cNvSpPr/>
          <p:nvPr/>
        </p:nvSpPr>
        <p:spPr>
          <a:xfrm flipH="1" flipV="1">
            <a:off x="7238520" y="563832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391520" y="58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05:25Z</dcterms:created>
  <dc:creator>David A. Kofke</dc:creator>
  <dc:description/>
  <dc:language>en-US</dc:language>
  <cp:lastModifiedBy>David Kofke</cp:lastModifiedBy>
  <cp:lastPrinted>2014-03-04T03:57:48Z</cp:lastPrinted>
  <dcterms:modified xsi:type="dcterms:W3CDTF">2014-03-04T04:06:03Z</dcterms:modified>
  <cp:revision>94</cp:revision>
  <dc:subject/>
  <dc:title>Markov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