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1CA0-380A-445E-B277-0D357FEAA1B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ng.buffalo.edu/~kofke/applets/CollisionPair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2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hysical quantities; Hard-sphere M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ard Sphere Kinemat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4619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 flight between collis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llision time for any pair solved analyticall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 such tha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ads to quadratic equ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ree cas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1511280" y="1989000"/>
          <a:ext cx="219708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989000"/>
                    <a:ext cx="219708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"/>
          <p:cNvGraphicFramePr/>
          <p:nvPr/>
        </p:nvGraphicFramePr>
        <p:xfrm>
          <a:off x="3429000" y="2719440"/>
          <a:ext cx="2540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719440"/>
                    <a:ext cx="2540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6"/>
          <p:cNvGraphicFramePr/>
          <p:nvPr/>
        </p:nvGraphicFramePr>
        <p:xfrm>
          <a:off x="2273400" y="3576600"/>
          <a:ext cx="373356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3400" y="3576600"/>
                    <a:ext cx="37335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Group 22"/>
          <p:cNvGrpSpPr/>
          <p:nvPr/>
        </p:nvGrpSpPr>
        <p:grpSpPr>
          <a:xfrm>
            <a:off x="838080" y="4433760"/>
            <a:ext cx="1676520" cy="1143000"/>
            <a:chOff x="838080" y="4433760"/>
            <a:chExt cx="1676520" cy="1143000"/>
          </a:xfrm>
        </p:grpSpPr>
        <p:grpSp>
          <p:nvGrpSpPr>
            <p:cNvPr id="96" name="Group 9"/>
            <p:cNvGrpSpPr/>
            <p:nvPr/>
          </p:nvGrpSpPr>
          <p:grpSpPr>
            <a:xfrm>
              <a:off x="1219320" y="4433760"/>
              <a:ext cx="1143000" cy="1143000"/>
              <a:chOff x="1219320" y="4433760"/>
              <a:chExt cx="1143000" cy="1143000"/>
            </a:xfrm>
          </p:grpSpPr>
          <p:sp>
            <p:nvSpPr>
              <p:cNvPr id="97" name="Oval 7"/>
              <p:cNvSpPr/>
              <p:nvPr/>
            </p:nvSpPr>
            <p:spPr>
              <a:xfrm>
                <a:off x="1219320" y="5043240"/>
                <a:ext cx="533160" cy="5335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8"/>
              <p:cNvSpPr/>
              <p:nvPr/>
            </p:nvSpPr>
            <p:spPr>
              <a:xfrm>
                <a:off x="1828800" y="4433760"/>
                <a:ext cx="533520" cy="53316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Line 16"/>
            <p:cNvSpPr/>
            <p:nvPr/>
          </p:nvSpPr>
          <p:spPr>
            <a:xfrm flipH="1" flipV="1">
              <a:off x="838080" y="5043240"/>
              <a:ext cx="64944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7"/>
            <p:cNvSpPr/>
            <p:nvPr/>
          </p:nvSpPr>
          <p:spPr>
            <a:xfrm flipV="1">
              <a:off x="2097000" y="4509360"/>
              <a:ext cx="41760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3"/>
          <p:cNvGrpSpPr/>
          <p:nvPr/>
        </p:nvGrpSpPr>
        <p:grpSpPr>
          <a:xfrm>
            <a:off x="3581280" y="4343400"/>
            <a:ext cx="1143000" cy="1143000"/>
            <a:chOff x="3581280" y="4343400"/>
            <a:chExt cx="1143000" cy="1143000"/>
          </a:xfrm>
        </p:grpSpPr>
        <p:grpSp>
          <p:nvGrpSpPr>
            <p:cNvPr id="102" name="Group 10"/>
            <p:cNvGrpSpPr/>
            <p:nvPr/>
          </p:nvGrpSpPr>
          <p:grpSpPr>
            <a:xfrm>
              <a:off x="3581280" y="4343400"/>
              <a:ext cx="1143000" cy="1143000"/>
              <a:chOff x="3581280" y="4343400"/>
              <a:chExt cx="1143000" cy="1143000"/>
            </a:xfrm>
          </p:grpSpPr>
          <p:sp>
            <p:nvSpPr>
              <p:cNvPr id="103" name="Oval 11"/>
              <p:cNvSpPr/>
              <p:nvPr/>
            </p:nvSpPr>
            <p:spPr>
              <a:xfrm>
                <a:off x="3581280" y="4952880"/>
                <a:ext cx="533160" cy="5335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>
                <a:off x="4190760" y="4343400"/>
                <a:ext cx="533520" cy="53316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Line 18"/>
            <p:cNvSpPr/>
            <p:nvPr/>
          </p:nvSpPr>
          <p:spPr>
            <a:xfrm flipV="1">
              <a:off x="3848040" y="4571640"/>
              <a:ext cx="7920" cy="6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 flipH="1">
              <a:off x="4460760" y="4604040"/>
              <a:ext cx="144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4"/>
          <p:cNvGrpSpPr/>
          <p:nvPr/>
        </p:nvGrpSpPr>
        <p:grpSpPr>
          <a:xfrm>
            <a:off x="6705720" y="4357800"/>
            <a:ext cx="1143000" cy="1143000"/>
            <a:chOff x="6705720" y="4357800"/>
            <a:chExt cx="1143000" cy="1143000"/>
          </a:xfrm>
        </p:grpSpPr>
        <p:grpSp>
          <p:nvGrpSpPr>
            <p:cNvPr id="108" name="Group 13"/>
            <p:cNvGrpSpPr/>
            <p:nvPr/>
          </p:nvGrpSpPr>
          <p:grpSpPr>
            <a:xfrm>
              <a:off x="6705720" y="4357800"/>
              <a:ext cx="1143000" cy="1143000"/>
              <a:chOff x="6705720" y="4357800"/>
              <a:chExt cx="1143000" cy="1143000"/>
            </a:xfrm>
          </p:grpSpPr>
          <p:sp>
            <p:nvSpPr>
              <p:cNvPr id="109" name="Oval 14"/>
              <p:cNvSpPr/>
              <p:nvPr/>
            </p:nvSpPr>
            <p:spPr>
              <a:xfrm>
                <a:off x="6705720" y="4967280"/>
                <a:ext cx="533160" cy="5335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15"/>
              <p:cNvSpPr/>
              <p:nvPr/>
            </p:nvSpPr>
            <p:spPr>
              <a:xfrm>
                <a:off x="7315200" y="4357800"/>
                <a:ext cx="533520" cy="53316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Line 20"/>
            <p:cNvSpPr/>
            <p:nvPr/>
          </p:nvSpPr>
          <p:spPr>
            <a:xfrm flipV="1">
              <a:off x="6964560" y="4785840"/>
              <a:ext cx="1904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 flipH="1">
              <a:off x="7365960" y="4656240"/>
              <a:ext cx="20016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Text Box 25"/>
          <p:cNvSpPr/>
          <p:nvPr/>
        </p:nvSpPr>
        <p:spPr>
          <a:xfrm>
            <a:off x="990720" y="5576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a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327672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aching, but m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6477120" y="5576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aching, and 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29"/>
          <p:cNvGraphicFramePr/>
          <p:nvPr/>
        </p:nvGraphicFramePr>
        <p:xfrm>
          <a:off x="984240" y="5932440"/>
          <a:ext cx="101448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84240" y="5932440"/>
                    <a:ext cx="1014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30"/>
          <p:cNvGraphicFramePr/>
          <p:nvPr/>
        </p:nvGraphicFramePr>
        <p:xfrm>
          <a:off x="3041640" y="5981760"/>
          <a:ext cx="2654280" cy="82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1640" y="5981760"/>
                    <a:ext cx="26542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31"/>
          <p:cNvGraphicFramePr/>
          <p:nvPr/>
        </p:nvGraphicFramePr>
        <p:xfrm>
          <a:off x="6318360" y="5981760"/>
          <a:ext cx="2654280" cy="82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18360" y="5981760"/>
                    <a:ext cx="26542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tegration Strate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hoose a time interval,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; do the following to advance the system across this interval, bringing the system to time t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45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oop over all pair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computing collision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dentify minimum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s next colliding pai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45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f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&lt; t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dvance all spheres to positions at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m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rform collision dynamics on colliding pai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dentify next colliding pair, repeat until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&lt; t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n advance to t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cumulate averages, repeat for next time interv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Click her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for applet highlighting collision pai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124" name="Group 31"/>
          <p:cNvGrpSpPr/>
          <p:nvPr/>
        </p:nvGrpSpPr>
        <p:grpSpPr>
          <a:xfrm>
            <a:off x="1219320" y="4419720"/>
            <a:ext cx="6781680" cy="1513080"/>
            <a:chOff x="1219320" y="4419720"/>
            <a:chExt cx="6781680" cy="1513080"/>
          </a:xfrm>
        </p:grpSpPr>
        <p:sp>
          <p:nvSpPr>
            <p:cNvPr id="125" name="Text Box 27"/>
            <p:cNvSpPr/>
            <p:nvPr/>
          </p:nvSpPr>
          <p:spPr>
            <a:xfrm>
              <a:off x="1905120" y="5564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coll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30"/>
            <p:cNvGrpSpPr/>
            <p:nvPr/>
          </p:nvGrpSpPr>
          <p:grpSpPr>
            <a:xfrm>
              <a:off x="1219320" y="4419720"/>
              <a:ext cx="6781680" cy="1449360"/>
              <a:chOff x="1219320" y="4419720"/>
              <a:chExt cx="6781680" cy="1449360"/>
            </a:xfrm>
          </p:grpSpPr>
          <p:sp>
            <p:nvSpPr>
              <p:cNvPr id="127" name="Line 5"/>
              <p:cNvSpPr/>
              <p:nvPr/>
            </p:nvSpPr>
            <p:spPr>
              <a:xfrm>
                <a:off x="1371600" y="480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6"/>
              <p:cNvSpPr/>
              <p:nvPr/>
            </p:nvSpPr>
            <p:spPr>
              <a:xfrm>
                <a:off x="2438280" y="480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7"/>
              <p:cNvSpPr/>
              <p:nvPr/>
            </p:nvSpPr>
            <p:spPr>
              <a:xfrm>
                <a:off x="3505320" y="480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9"/>
              <p:cNvSpPr/>
              <p:nvPr/>
            </p:nvSpPr>
            <p:spPr>
              <a:xfrm>
                <a:off x="4572000" y="480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5638680" y="480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6629400" y="48024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12"/>
              <p:cNvSpPr/>
              <p:nvPr/>
            </p:nvSpPr>
            <p:spPr>
              <a:xfrm>
                <a:off x="7086600" y="5031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13"/>
              <p:cNvSpPr/>
              <p:nvPr/>
            </p:nvSpPr>
            <p:spPr>
              <a:xfrm>
                <a:off x="1219320" y="5069160"/>
                <a:ext cx="457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14"/>
              <p:cNvSpPr/>
              <p:nvPr/>
            </p:nvSpPr>
            <p:spPr>
              <a:xfrm>
                <a:off x="3352680" y="5069160"/>
                <a:ext cx="457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15"/>
              <p:cNvSpPr/>
              <p:nvPr/>
            </p:nvSpPr>
            <p:spPr>
              <a:xfrm>
                <a:off x="4419720" y="5069160"/>
                <a:ext cx="457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Text Box 16"/>
              <p:cNvSpPr/>
              <p:nvPr/>
            </p:nvSpPr>
            <p:spPr>
              <a:xfrm>
                <a:off x="5486400" y="5069160"/>
                <a:ext cx="457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17"/>
              <p:cNvSpPr/>
              <p:nvPr/>
            </p:nvSpPr>
            <p:spPr>
              <a:xfrm>
                <a:off x="6477120" y="5069160"/>
                <a:ext cx="457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18"/>
              <p:cNvSpPr/>
              <p:nvPr/>
            </p:nvSpPr>
            <p:spPr>
              <a:xfrm>
                <a:off x="2286000" y="5069160"/>
                <a:ext cx="457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19"/>
              <p:cNvSpPr/>
              <p:nvPr/>
            </p:nvSpPr>
            <p:spPr>
              <a:xfrm>
                <a:off x="1523880" y="4802400"/>
                <a:ext cx="228600" cy="228600"/>
              </a:xfrm>
              <a:prstGeom prst="irregularSeal2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21"/>
              <p:cNvSpPr/>
              <p:nvPr/>
            </p:nvSpPr>
            <p:spPr>
              <a:xfrm>
                <a:off x="1828800" y="4802400"/>
                <a:ext cx="228600" cy="228600"/>
              </a:xfrm>
              <a:prstGeom prst="irregularSeal2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22"/>
              <p:cNvSpPr/>
              <p:nvPr/>
            </p:nvSpPr>
            <p:spPr>
              <a:xfrm>
                <a:off x="2819520" y="4802400"/>
                <a:ext cx="228600" cy="228600"/>
              </a:xfrm>
              <a:prstGeom prst="irregularSeal2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23"/>
              <p:cNvSpPr/>
              <p:nvPr/>
            </p:nvSpPr>
            <p:spPr>
              <a:xfrm>
                <a:off x="4724280" y="4802400"/>
                <a:ext cx="228600" cy="228600"/>
              </a:xfrm>
              <a:prstGeom prst="irregularSeal2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utoShape 24"/>
              <p:cNvSpPr/>
              <p:nvPr/>
            </p:nvSpPr>
            <p:spPr>
              <a:xfrm>
                <a:off x="5029200" y="4802400"/>
                <a:ext cx="228600" cy="228600"/>
              </a:xfrm>
              <a:prstGeom prst="irregularSeal2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25"/>
              <p:cNvSpPr/>
              <p:nvPr/>
            </p:nvSpPr>
            <p:spPr>
              <a:xfrm>
                <a:off x="5257800" y="4802400"/>
                <a:ext cx="228600" cy="228600"/>
              </a:xfrm>
              <a:prstGeom prst="irregularSeal2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4"/>
              <p:cNvSpPr/>
              <p:nvPr/>
            </p:nvSpPr>
            <p:spPr>
              <a:xfrm>
                <a:off x="1371600" y="4954680"/>
                <a:ext cx="5943600" cy="0"/>
              </a:xfrm>
              <a:prstGeom prst="line">
                <a:avLst/>
              </a:prstGeom>
              <a:ln w="50760">
                <a:solidFill>
                  <a:srgbClr val="8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26"/>
              <p:cNvSpPr/>
              <p:nvPr/>
            </p:nvSpPr>
            <p:spPr>
              <a:xfrm>
                <a:off x="1676520" y="5640480"/>
                <a:ext cx="228600" cy="228600"/>
              </a:xfrm>
              <a:prstGeom prst="irregularSeal2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8"/>
              <p:cNvSpPr/>
              <p:nvPr/>
            </p:nvSpPr>
            <p:spPr>
              <a:xfrm>
                <a:off x="3505320" y="465012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9"/>
              <p:cNvSpPr/>
              <p:nvPr/>
            </p:nvSpPr>
            <p:spPr>
              <a:xfrm>
                <a:off x="3812760" y="4419720"/>
                <a:ext cx="384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rdering the Atom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toms are placed in an arbitrary ord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ach atom links to the next one up and next one down the lis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tom looks only up list to find collision partn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llisions with down-list atoms monitored by down-list ato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toms 3 and 5 next to collid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35"/>
          <p:cNvGrpSpPr/>
          <p:nvPr/>
        </p:nvGrpSpPr>
        <p:grpSpPr>
          <a:xfrm>
            <a:off x="990720" y="2590920"/>
            <a:ext cx="6324480" cy="821520"/>
            <a:chOff x="990720" y="2590920"/>
            <a:chExt cx="6324480" cy="821520"/>
          </a:xfrm>
        </p:grpSpPr>
        <p:sp>
          <p:nvSpPr>
            <p:cNvPr id="153" name="Text Box 16"/>
            <p:cNvSpPr/>
            <p:nvPr/>
          </p:nvSpPr>
          <p:spPr>
            <a:xfrm>
              <a:off x="5867280" y="2952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 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4"/>
            <p:cNvSpPr/>
            <p:nvPr/>
          </p:nvSpPr>
          <p:spPr>
            <a:xfrm>
              <a:off x="1371600" y="2590920"/>
              <a:ext cx="30492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5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6"/>
            <p:cNvSpPr/>
            <p:nvPr/>
          </p:nvSpPr>
          <p:spPr>
            <a:xfrm>
              <a:off x="3200400" y="2590920"/>
              <a:ext cx="30492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7"/>
            <p:cNvSpPr/>
            <p:nvPr/>
          </p:nvSpPr>
          <p:spPr>
            <a:xfrm>
              <a:off x="4114800" y="2590920"/>
              <a:ext cx="30492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8"/>
            <p:cNvSpPr/>
            <p:nvPr/>
          </p:nvSpPr>
          <p:spPr>
            <a:xfrm>
              <a:off x="5029200" y="2590920"/>
              <a:ext cx="30492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9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>
              <a:off x="1676520" y="27241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2590920" y="27241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>
              <a:off x="3505320" y="27241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4419720" y="27241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5334120" y="27241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4800600" y="31813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2438280" y="31813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990720" y="29527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 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34"/>
          <p:cNvGrpSpPr/>
          <p:nvPr/>
        </p:nvGrpSpPr>
        <p:grpSpPr>
          <a:xfrm>
            <a:off x="1905120" y="5334120"/>
            <a:ext cx="4876560" cy="304560"/>
            <a:chOff x="1905120" y="5334120"/>
            <a:chExt cx="4876560" cy="304560"/>
          </a:xfrm>
        </p:grpSpPr>
        <p:sp>
          <p:nvSpPr>
            <p:cNvPr id="169" name="Oval 21"/>
            <p:cNvSpPr/>
            <p:nvPr/>
          </p:nvSpPr>
          <p:spPr>
            <a:xfrm>
              <a:off x="1905120" y="5334120"/>
              <a:ext cx="30456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2819520" y="5334120"/>
              <a:ext cx="30456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23"/>
            <p:cNvSpPr/>
            <p:nvPr/>
          </p:nvSpPr>
          <p:spPr>
            <a:xfrm>
              <a:off x="3733920" y="5334120"/>
              <a:ext cx="304560" cy="3045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>
              <a:off x="4648320" y="5334120"/>
              <a:ext cx="30456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25"/>
            <p:cNvSpPr/>
            <p:nvPr/>
          </p:nvSpPr>
          <p:spPr>
            <a:xfrm>
              <a:off x="5562720" y="5334120"/>
              <a:ext cx="304560" cy="3045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26"/>
            <p:cNvSpPr/>
            <p:nvPr/>
          </p:nvSpPr>
          <p:spPr>
            <a:xfrm>
              <a:off x="6477120" y="5334120"/>
              <a:ext cx="30456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2209680" y="54673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3124080" y="54673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9"/>
            <p:cNvSpPr/>
            <p:nvPr/>
          </p:nvSpPr>
          <p:spPr>
            <a:xfrm>
              <a:off x="4038480" y="54673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0"/>
            <p:cNvSpPr/>
            <p:nvPr/>
          </p:nvSpPr>
          <p:spPr>
            <a:xfrm>
              <a:off x="4952880" y="54673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1"/>
            <p:cNvSpPr/>
            <p:nvPr/>
          </p:nvSpPr>
          <p:spPr>
            <a:xfrm>
              <a:off x="5867280" y="54673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0" name="Object 33"/>
          <p:cNvGraphicFramePr/>
          <p:nvPr/>
        </p:nvGraphicFramePr>
        <p:xfrm>
          <a:off x="709560" y="5715000"/>
          <a:ext cx="7367760" cy="90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715000"/>
                    <a:ext cx="73677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llision Update Requiremen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 need to re-identify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collisions with each step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pon collision, must update (check all atoms up-list of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llid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downlist) atoms expecting to collide with collider or partn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so check if downlist atoms of collider or partner will now collide with either of them next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184" name="Group 62"/>
          <p:cNvGrpSpPr/>
          <p:nvPr/>
        </p:nvGrpSpPr>
        <p:grpSpPr>
          <a:xfrm>
            <a:off x="1066680" y="3657600"/>
            <a:ext cx="7010640" cy="1905120"/>
            <a:chOff x="1066680" y="3657600"/>
            <a:chExt cx="7010640" cy="1905120"/>
          </a:xfrm>
        </p:grpSpPr>
        <p:sp>
          <p:nvSpPr>
            <p:cNvPr id="185" name="AutoShape 46"/>
            <p:cNvSpPr/>
            <p:nvPr/>
          </p:nvSpPr>
          <p:spPr>
            <a:xfrm>
              <a:off x="4267080" y="4800600"/>
              <a:ext cx="381240" cy="380880"/>
            </a:xfrm>
            <a:prstGeom prst="irregularSeal1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9"/>
            <p:cNvSpPr/>
            <p:nvPr/>
          </p:nvSpPr>
          <p:spPr>
            <a:xfrm flipV="1">
              <a:off x="4419720" y="472392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5"/>
            <p:cNvSpPr/>
            <p:nvPr/>
          </p:nvSpPr>
          <p:spPr>
            <a:xfrm>
              <a:off x="5638680" y="5029200"/>
              <a:ext cx="304920" cy="3049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7"/>
            <p:cNvSpPr/>
            <p:nvPr/>
          </p:nvSpPr>
          <p:spPr>
            <a:xfrm>
              <a:off x="4114800" y="4952880"/>
              <a:ext cx="304920" cy="304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4390920" y="4827600"/>
              <a:ext cx="304920" cy="30492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5943600" y="525780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 flipV="1">
              <a:off x="3691080" y="5202360"/>
              <a:ext cx="457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16"/>
            <p:cNvSpPr/>
            <p:nvPr/>
          </p:nvSpPr>
          <p:spPr>
            <a:xfrm>
              <a:off x="4876920" y="4495680"/>
              <a:ext cx="304560" cy="30492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>
              <a:off x="5410080" y="4952880"/>
              <a:ext cx="2271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18"/>
            <p:cNvSpPr/>
            <p:nvPr/>
          </p:nvSpPr>
          <p:spPr>
            <a:xfrm>
              <a:off x="5130720" y="4678200"/>
              <a:ext cx="304920" cy="304920"/>
            </a:xfrm>
            <a:prstGeom prst="ellipse">
              <a:avLst/>
            </a:prstGeom>
            <a:solidFill>
              <a:srgbClr val="cecece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47"/>
            <p:cNvSpPr/>
            <p:nvPr/>
          </p:nvSpPr>
          <p:spPr>
            <a:xfrm>
              <a:off x="3505320" y="4800600"/>
              <a:ext cx="609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8"/>
            <p:cNvSpPr/>
            <p:nvPr/>
          </p:nvSpPr>
          <p:spPr>
            <a:xfrm>
              <a:off x="3505320" y="365760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imes New Roman"/>
                </a:rPr>
                <a:t>3 collides with 5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9"/>
            <p:cNvSpPr/>
            <p:nvPr/>
          </p:nvSpPr>
          <p:spPr>
            <a:xfrm>
              <a:off x="5257800" y="3809880"/>
              <a:ext cx="28195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…</a:t>
              </a:r>
              <a:r>
                <a:rPr b="0" lang="en-US" sz="1800" spc="-1" strike="noStrike">
                  <a:solidFill>
                    <a:srgbClr val="00ae00"/>
                  </a:solidFill>
                  <a:latin typeface="Times New Roman"/>
                </a:rPr>
                <a:t>interrupting anticipated collision of 1 with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50"/>
            <p:cNvSpPr/>
            <p:nvPr/>
          </p:nvSpPr>
          <p:spPr>
            <a:xfrm>
              <a:off x="3200400" y="45720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51"/>
            <p:cNvSpPr/>
            <p:nvPr/>
          </p:nvSpPr>
          <p:spPr>
            <a:xfrm>
              <a:off x="3276720" y="5029200"/>
              <a:ext cx="304560" cy="3049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2"/>
            <p:cNvSpPr/>
            <p:nvPr/>
          </p:nvSpPr>
          <p:spPr>
            <a:xfrm>
              <a:off x="3200400" y="3962520"/>
              <a:ext cx="304920" cy="30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3"/>
            <p:cNvSpPr/>
            <p:nvPr/>
          </p:nvSpPr>
          <p:spPr>
            <a:xfrm flipH="1" flipV="1">
              <a:off x="2896920" y="4727160"/>
              <a:ext cx="4222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4"/>
            <p:cNvSpPr/>
            <p:nvPr/>
          </p:nvSpPr>
          <p:spPr>
            <a:xfrm>
              <a:off x="2624040" y="4489560"/>
              <a:ext cx="304920" cy="304560"/>
            </a:xfrm>
            <a:prstGeom prst="ellipse">
              <a:avLst/>
            </a:prstGeom>
            <a:solidFill>
              <a:srgbClr val="cecece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55"/>
            <p:cNvSpPr/>
            <p:nvPr/>
          </p:nvSpPr>
          <p:spPr>
            <a:xfrm>
              <a:off x="2600280" y="4167360"/>
              <a:ext cx="304920" cy="304560"/>
            </a:xfrm>
            <a:prstGeom prst="ellipse">
              <a:avLst/>
            </a:prstGeom>
            <a:solidFill>
              <a:srgbClr val="cecece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56"/>
            <p:cNvSpPr/>
            <p:nvPr/>
          </p:nvSpPr>
          <p:spPr>
            <a:xfrm>
              <a:off x="2989440" y="4805280"/>
              <a:ext cx="304560" cy="3049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7"/>
            <p:cNvSpPr/>
            <p:nvPr/>
          </p:nvSpPr>
          <p:spPr>
            <a:xfrm>
              <a:off x="1066680" y="4267080"/>
              <a:ext cx="2286000" cy="12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…</a:t>
              </a:r>
              <a:r>
                <a:rPr b="0" lang="en-US" sz="1800" spc="-1" strike="noStrike">
                  <a:solidFill>
                    <a:srgbClr val="00ae00"/>
                  </a:solidFill>
                  <a:latin typeface="Times New Roman"/>
                </a:rPr>
                <a:t>causing 3 to intervene in anticipated collision between 2 and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58"/>
            <p:cNvSpPr/>
            <p:nvPr/>
          </p:nvSpPr>
          <p:spPr>
            <a:xfrm flipH="1">
              <a:off x="2895480" y="4184640"/>
              <a:ext cx="26352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Line 60"/>
          <p:cNvSpPr/>
          <p:nvPr/>
        </p:nvSpPr>
        <p:spPr>
          <a:xfrm>
            <a:off x="4952880" y="35053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1"/>
          <p:cNvSpPr/>
          <p:nvPr/>
        </p:nvSpPr>
        <p:spPr>
          <a:xfrm flipH="1" flipV="1">
            <a:off x="2362320" y="556272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7480" y="151920"/>
            <a:ext cx="8737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hysical Quantities in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ate variab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ach variable has an associated “conjugate” varia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emperature, energy (kT,E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8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ressure,  volume (P,V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8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hemical potential,  number of molecules (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,N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pecification of state requires fixing one of each pai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dependent variable can be measured by the simul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figuration variab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sition, orientation, momentum of each atom or molecu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ergy, forces and torqu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ransport coefficients, free energies, structural quantities, etc.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ar model paramete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haracteristic energy, size, char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mensions and Units 1.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agnitud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Typical simulation size very small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100 - 1000 atoms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Important extensive quantities small in magnitude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when expressed </a:t>
            </a:r>
            <a:br>
              <a:rPr sz="1900"/>
            </a:b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in macroscopic units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mall numbers are inconvenient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Two ways to magnify them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work with atomic-scale units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9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ps, amu, nm or Å</a:t>
            </a:r>
            <a:endParaRPr b="0" lang="en-US" sz="1600" spc="-1" strike="noStrike">
              <a:solidFill>
                <a:srgbClr val="00ae00"/>
              </a:solidFill>
              <a:latin typeface="Times New Roman"/>
            </a:endParaRPr>
          </a:p>
          <a:p>
            <a:pPr lvl="1" marL="698400" indent="-26856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ake dimensionless with characteristic values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93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model values of size, energy, mass</a:t>
            </a:r>
            <a:endParaRPr b="0" lang="en-US" sz="1600" spc="-1" strike="noStrike">
              <a:solidFill>
                <a:srgbClr val="00ae00"/>
              </a:solidFill>
              <a:latin typeface="Times New Roman"/>
            </a:endParaRPr>
          </a:p>
        </p:txBody>
      </p:sp>
      <p:pic>
        <p:nvPicPr>
          <p:cNvPr id="46" name="Picture 4" descr="G:\Teaching\CE 530\Figures\Units_Table1.gif"/>
          <p:cNvPicPr/>
          <p:nvPr/>
        </p:nvPicPr>
        <p:blipFill>
          <a:blip r:embed="rId1"/>
          <a:stretch/>
        </p:blipFill>
        <p:spPr>
          <a:xfrm>
            <a:off x="4648320" y="1981080"/>
            <a:ext cx="4352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mensions and Units 2.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cal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2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caling by model parameter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53760" indent="-25128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Size </a:t>
            </a:r>
            <a:r>
              <a:rPr b="0" i="1" lang="el-GR" sz="19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r>
              <a:rPr b="0" i="1" lang="el-GR" sz="19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ass m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Choose values for one atom/molecule pair potential arbitrarily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Other model parameters given in terms of reference value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653760" indent="-25128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l-GR" sz="19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l-GR" sz="19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= 1.2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Physical magnitudes less transparent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ometimes convenient to scale coordinates differently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49" name="Picture 1029" descr="G:\Teaching\CE 530\Figures\Units_Table2.gif"/>
          <p:cNvPicPr/>
          <p:nvPr/>
        </p:nvPicPr>
        <p:blipFill>
          <a:blip r:embed="rId1"/>
          <a:stretch/>
        </p:blipFill>
        <p:spPr>
          <a:xfrm>
            <a:off x="4419720" y="2438280"/>
            <a:ext cx="45050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50292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mensions and Units 3.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rresponding Stat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Lennard-Jones potential in dimensionless form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Parameter independent!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Dimensionless properties must also be parameter independent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nvenient to report properties in this form, e.g. P*(</a:t>
            </a:r>
            <a:r>
              <a:rPr b="0" i="1" lang="el-GR" sz="19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*,T*)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select model values to get actual values of properties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asis of corresponding states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Equivalent to selecting unit value for parameter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29" descr="G:\Teaching\CE 530\Figures\Conformal_Fig1.gif"/>
          <p:cNvPicPr/>
          <p:nvPr/>
        </p:nvPicPr>
        <p:blipFill>
          <a:blip r:embed="rId1"/>
          <a:stretch/>
        </p:blipFill>
        <p:spPr>
          <a:xfrm>
            <a:off x="5486400" y="838080"/>
            <a:ext cx="3247920" cy="555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1030"/>
          <p:cNvGraphicFramePr/>
          <p:nvPr/>
        </p:nvGraphicFramePr>
        <p:xfrm>
          <a:off x="2070000" y="2286000"/>
          <a:ext cx="1828800" cy="56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10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2286000"/>
                    <a:ext cx="1828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mensions and Units 4.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rresponding States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ant pressure for methane at 0.0183 mol/cm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nd 167 K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J model parameters are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σ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0.3790 nm,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/k = 142.1 K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mensionless state paramete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= </a:t>
            </a: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ρσ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0.0183 mol/cm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3.790 × 1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8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m)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.022 × 1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ecules/mole) = 0.6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* = T/(</a:t>
            </a: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k) = (167 K)/(142.1 K) = 1.174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om LJ equation of st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* = P</a:t>
            </a: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 0.146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rresponding to a press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0.146 (142.1 K)(13.8 MPa-Å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olecule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(3.790Å)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.3 MPa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3 ba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mensions and Units 5.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ard Potential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pecial ca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(r) = 0, r &gt; 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(r) = ∞, r &lt; 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 characteristic energy!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emperature (kT) provide the only characteristic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l dimensionless properties (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 Pd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/kT), independent of temperature!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59" name="Group 14"/>
          <p:cNvGrpSpPr/>
          <p:nvPr/>
        </p:nvGrpSpPr>
        <p:grpSpPr>
          <a:xfrm>
            <a:off x="3581280" y="1905120"/>
            <a:ext cx="2438640" cy="1587240"/>
            <a:chOff x="3581280" y="1905120"/>
            <a:chExt cx="2438640" cy="1587240"/>
          </a:xfrm>
        </p:grpSpPr>
        <p:sp>
          <p:nvSpPr>
            <p:cNvPr id="60" name="Line 4"/>
            <p:cNvSpPr/>
            <p:nvPr/>
          </p:nvSpPr>
          <p:spPr>
            <a:xfrm>
              <a:off x="4114800" y="190512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5"/>
            <p:cNvSpPr/>
            <p:nvPr/>
          </p:nvSpPr>
          <p:spPr>
            <a:xfrm>
              <a:off x="4114800" y="3124080"/>
              <a:ext cx="175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V="1">
              <a:off x="4648320" y="1980720"/>
              <a:ext cx="0" cy="11430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648320" y="3124080"/>
              <a:ext cx="1143000" cy="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0"/>
            <p:cNvSpPr/>
            <p:nvPr/>
          </p:nvSpPr>
          <p:spPr>
            <a:xfrm>
              <a:off x="3581280" y="19051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(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5486400" y="3124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3"/>
            <p:cNvSpPr/>
            <p:nvPr/>
          </p:nvSpPr>
          <p:spPr>
            <a:xfrm>
              <a:off x="4495680" y="3124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ard Sphere Molecular Dynam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totype of a molecular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asis for discuss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roduce features common to all simu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mensions and units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tom loop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oundary condi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veraging and error estim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later consideration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grators for soft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nte Carlo method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ard Sphere Dynam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pulsive, pairwise collis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finite force exerted over an infinitesimal ti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mpulse = force × time = finite change in momentum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Δ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ce directed along line joining centers of ato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gnitude of impulse governed by conservation of energ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nsider glancing collis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nsider head-on collis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pSp>
        <p:nvGrpSpPr>
          <p:cNvPr id="71" name="Group 12"/>
          <p:cNvGrpSpPr/>
          <p:nvPr/>
        </p:nvGrpSpPr>
        <p:grpSpPr>
          <a:xfrm>
            <a:off x="6477120" y="1371600"/>
            <a:ext cx="2361600" cy="1314360"/>
            <a:chOff x="6477120" y="1371600"/>
            <a:chExt cx="2361600" cy="1314360"/>
          </a:xfrm>
        </p:grpSpPr>
        <p:sp>
          <p:nvSpPr>
            <p:cNvPr id="72" name="Oval 4"/>
            <p:cNvSpPr/>
            <p:nvPr/>
          </p:nvSpPr>
          <p:spPr>
            <a:xfrm>
              <a:off x="7010280" y="1600200"/>
              <a:ext cx="60912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5"/>
            <p:cNvSpPr/>
            <p:nvPr/>
          </p:nvSpPr>
          <p:spPr>
            <a:xfrm>
              <a:off x="7520040" y="1952640"/>
              <a:ext cx="60912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6"/>
            <p:cNvSpPr/>
            <p:nvPr/>
          </p:nvSpPr>
          <p:spPr>
            <a:xfrm flipH="1" flipV="1">
              <a:off x="6738840" y="1457280"/>
              <a:ext cx="58536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6477120" y="13716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8305560" y="21337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7810560" y="2243160"/>
              <a:ext cx="58536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8" name="Object 19"/>
          <p:cNvGraphicFramePr/>
          <p:nvPr/>
        </p:nvGraphicFramePr>
        <p:xfrm>
          <a:off x="1790640" y="3467160"/>
          <a:ext cx="6351480" cy="15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3467160"/>
                    <a:ext cx="6351480" cy="15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20"/>
          <p:cNvGraphicFramePr/>
          <p:nvPr/>
        </p:nvGraphicFramePr>
        <p:xfrm>
          <a:off x="2425680" y="5238720"/>
          <a:ext cx="232416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5680" y="5238720"/>
                    <a:ext cx="23241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21"/>
          <p:cNvGraphicFramePr/>
          <p:nvPr/>
        </p:nvGraphicFramePr>
        <p:xfrm>
          <a:off x="5854680" y="5226120"/>
          <a:ext cx="1117800" cy="71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4680" y="5226120"/>
                    <a:ext cx="11178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2"/>
          <p:cNvGraphicFramePr/>
          <p:nvPr/>
        </p:nvGraphicFramePr>
        <p:xfrm>
          <a:off x="5867280" y="6019920"/>
          <a:ext cx="124488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6019920"/>
                    <a:ext cx="12448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23"/>
          <p:cNvSpPr/>
          <p:nvPr/>
        </p:nvSpPr>
        <p:spPr>
          <a:xfrm>
            <a:off x="739152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reduced m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21:41:00Z</dcterms:created>
  <dc:creator>David A. Kofke</dc:creator>
  <dc:description/>
  <dc:language>en-US</dc:language>
  <cp:lastModifiedBy>David Kofke</cp:lastModifiedBy>
  <cp:lastPrinted>1999-09-22T22:06:24Z</cp:lastPrinted>
  <dcterms:modified xsi:type="dcterms:W3CDTF">2014-01-30T02:25:24Z</dcterms:modified>
  <cp:revision>105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